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62E-ABD4-4F8B-B76F-7ED4D26F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3BA-207E-452E-A165-AE92395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259-797D-4A88-A823-C4E58DEC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E6B-F9AD-491E-B08F-382AEB72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78D-1B4B-42B4-84D2-58554DAA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2E83-32BB-4716-88F3-0F0EC8EF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97B-F268-45C7-A278-340ABA77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E24-F8FB-4ACD-BF51-BDF4B70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470-1475-4F5D-B2C8-45AC3D9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8EE-4F91-43F5-A9A6-58B70F95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274-CCD2-4FD6-96F0-C41E421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787-4F71-42EE-A6FA-6C70634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E982-B58A-4CDB-B4D8-88CA8D0A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93080" y="4508640"/>
          <a:ext cx="1392120" cy="152712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käpp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essko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eue Stief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umenstrau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auberkra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4140360" y="5084640"/>
          <a:ext cx="1392120" cy="152712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efelte K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lumenstrau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ue Stief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ösungsw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780000" y="981000"/>
          <a:ext cx="1392120" cy="151308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u Hol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ldsta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in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s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esskor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403280" y="4581360"/>
          <a:ext cx="1392120" cy="152712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enput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in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Zauberspr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oldener Sch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a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68360" y="1916280"/>
          <a:ext cx="1392120" cy="152712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nger Zo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r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Zauberkra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93080" y="1557360"/>
          <a:ext cx="1392120" cy="152712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nsel &amp; Gre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chat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oldener Sch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r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Kis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68360" y="476280"/>
          <a:ext cx="8280360" cy="272880"/>
        </p:xfrm>
        <a:graphic>
          <a:graphicData uri="http://schemas.openxmlformats.org/drawingml/2006/table">
            <a:tbl>
              <a:tblPr/>
              <a:tblGrid>
                <a:gridCol w="1184400"/>
                <a:gridCol w="1180800"/>
                <a:gridCol w="1184400"/>
                <a:gridCol w="1181160"/>
                <a:gridCol w="1184040"/>
                <a:gridCol w="1181160"/>
                <a:gridCol w="1184400"/>
              </a:tblGrid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er Zop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eg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sta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stü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t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bkuch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" name=""/>
          <p:cNvGrpSpPr/>
          <p:nvPr/>
        </p:nvGrpSpPr>
        <p:grpSpPr>
          <a:xfrm>
            <a:off x="4356000" y="3429000"/>
            <a:ext cx="647640" cy="503280"/>
            <a:chOff x="4356000" y="3429000"/>
            <a:chExt cx="647640" cy="503280"/>
          </a:xfrm>
        </p:grpSpPr>
        <p:sp>
          <p:nvSpPr>
            <p:cNvPr id="49" name=""/>
            <p:cNvSpPr/>
            <p:nvPr/>
          </p:nvSpPr>
          <p:spPr>
            <a:xfrm>
              <a:off x="4356000" y="3429000"/>
              <a:ext cx="647640" cy="5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29800" y="35002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i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47640" y="620640"/>
            <a:ext cx="1447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7082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32000" y="1916280"/>
            <a:ext cx="2376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349360"/>
            <a:ext cx="2232000" cy="266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364000" y="5373720"/>
            <a:ext cx="187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3860640"/>
            <a:ext cx="358560" cy="25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620640"/>
            <a:ext cx="287280" cy="792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26920" y="1700280"/>
            <a:ext cx="1368360" cy="3313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00360" y="3789360"/>
            <a:ext cx="1871640" cy="1511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620640"/>
            <a:ext cx="122400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700360" y="2421000"/>
            <a:ext cx="4464000" cy="331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700360" y="5589360"/>
            <a:ext cx="165564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364000" y="5589720"/>
            <a:ext cx="187200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1763280" y="2997360"/>
            <a:ext cx="5545080" cy="295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3357720"/>
            <a:ext cx="280836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18:25:46Z</dcterms:created>
  <dc:creator>Robert</dc:creator>
  <dc:description/>
  <dc:language>en-US</dc:language>
  <cp:lastModifiedBy>Robert</cp:lastModifiedBy>
  <dcterms:modified xsi:type="dcterms:W3CDTF">2008-07-25T19:14:24Z</dcterms:modified>
  <cp:revision>2</cp:revision>
  <dc:subject/>
  <dc:title>Folie 1</dc:title>
</cp:coreProperties>
</file>