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CF2-AA3E-4A6B-8B8F-86356D56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228-F87C-4398-8BC5-A95421B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063-D354-4439-BB89-D7B2D561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3D3-3C57-4766-9D27-5F47D253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514-B9E4-4593-9B77-D827CCE2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D59-3256-4D14-94A0-BDD57E0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21D-1536-465A-AE0C-70CA1C7C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065-1D9F-4064-BFAB-918FA99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837-8573-43C9-B3B6-003434DB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50F-360D-4BE6-BA22-8145EB0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E59-3D24-4CFE-94A5-025221E3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28F-6148-4632-8932-8580A64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5D4-E5CA-4799-8DB6-3222FD89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988920" cy="1144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988920" cy="11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989280" cy="114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457200"/>
            <a:ext cx="988920" cy="1144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943600" y="457200"/>
            <a:ext cx="988920" cy="114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15200" y="457200"/>
            <a:ext cx="988920" cy="1144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85800" y="1981080"/>
            <a:ext cx="988920" cy="114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133720" y="1981080"/>
            <a:ext cx="988920" cy="114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352680" y="1981080"/>
            <a:ext cx="989280" cy="114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1981080"/>
            <a:ext cx="988920" cy="11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943600" y="1981080"/>
            <a:ext cx="988920" cy="114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315200" y="1981080"/>
            <a:ext cx="988920" cy="114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28600" y="4876920"/>
            <a:ext cx="2209680" cy="123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362320" y="4876920"/>
            <a:ext cx="2209680" cy="123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4495680" y="480060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781680" y="472428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228600" y="3505320"/>
            <a:ext cx="2209680" cy="123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362320" y="3505320"/>
            <a:ext cx="2209680" cy="123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4495680" y="342900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6781680" y="3352680"/>
            <a:ext cx="2210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00" y="471600"/>
            <a:ext cx="1974960" cy="1012680"/>
          </a:xfrm>
          <a:custGeom>
            <a:avLst/>
            <a:gdLst/>
            <a:ahLst/>
            <a:rect l="l" t="t" r="r" b="b"/>
            <a:pathLst>
              <a:path w="4976" h="2552">
                <a:moveTo>
                  <a:pt x="368" y="1586"/>
                </a:moveTo>
                <a:lnTo>
                  <a:pt x="27" y="2551"/>
                </a:lnTo>
                <a:lnTo>
                  <a:pt x="955" y="1878"/>
                </a:lnTo>
                <a:lnTo>
                  <a:pt x="1195" y="1878"/>
                </a:lnTo>
                <a:lnTo>
                  <a:pt x="1642" y="2119"/>
                </a:lnTo>
                <a:lnTo>
                  <a:pt x="1612" y="2136"/>
                </a:lnTo>
                <a:lnTo>
                  <a:pt x="1580" y="2152"/>
                </a:lnTo>
                <a:lnTo>
                  <a:pt x="1549" y="2169"/>
                </a:lnTo>
                <a:lnTo>
                  <a:pt x="1519" y="2184"/>
                </a:lnTo>
                <a:lnTo>
                  <a:pt x="1488" y="2200"/>
                </a:lnTo>
                <a:lnTo>
                  <a:pt x="1456" y="2217"/>
                </a:lnTo>
                <a:lnTo>
                  <a:pt x="1424" y="2233"/>
                </a:lnTo>
                <a:lnTo>
                  <a:pt x="1394" y="2249"/>
                </a:lnTo>
                <a:lnTo>
                  <a:pt x="1601" y="2330"/>
                </a:lnTo>
                <a:lnTo>
                  <a:pt x="1977" y="2161"/>
                </a:lnTo>
                <a:lnTo>
                  <a:pt x="1637" y="2359"/>
                </a:lnTo>
                <a:lnTo>
                  <a:pt x="1845" y="2449"/>
                </a:lnTo>
                <a:lnTo>
                  <a:pt x="2215" y="2193"/>
                </a:lnTo>
                <a:lnTo>
                  <a:pt x="1965" y="2506"/>
                </a:lnTo>
                <a:lnTo>
                  <a:pt x="2047" y="2544"/>
                </a:lnTo>
                <a:lnTo>
                  <a:pt x="2288" y="2189"/>
                </a:lnTo>
                <a:lnTo>
                  <a:pt x="3110" y="2232"/>
                </a:lnTo>
                <a:lnTo>
                  <a:pt x="3204" y="2243"/>
                </a:lnTo>
                <a:lnTo>
                  <a:pt x="3109" y="2269"/>
                </a:lnTo>
                <a:lnTo>
                  <a:pt x="3098" y="2361"/>
                </a:lnTo>
                <a:lnTo>
                  <a:pt x="3389" y="2228"/>
                </a:lnTo>
                <a:lnTo>
                  <a:pt x="3093" y="2414"/>
                </a:lnTo>
                <a:lnTo>
                  <a:pt x="3078" y="2552"/>
                </a:lnTo>
                <a:lnTo>
                  <a:pt x="3237" y="2509"/>
                </a:lnTo>
                <a:lnTo>
                  <a:pt x="3598" y="2172"/>
                </a:lnTo>
                <a:lnTo>
                  <a:pt x="3328" y="2472"/>
                </a:lnTo>
                <a:lnTo>
                  <a:pt x="3555" y="2421"/>
                </a:lnTo>
                <a:lnTo>
                  <a:pt x="3890" y="2125"/>
                </a:lnTo>
                <a:lnTo>
                  <a:pt x="3713" y="2378"/>
                </a:lnTo>
                <a:lnTo>
                  <a:pt x="4051" y="2111"/>
                </a:lnTo>
                <a:lnTo>
                  <a:pt x="4430" y="1947"/>
                </a:lnTo>
                <a:lnTo>
                  <a:pt x="4755" y="1724"/>
                </a:lnTo>
                <a:lnTo>
                  <a:pt x="4786" y="1549"/>
                </a:lnTo>
                <a:lnTo>
                  <a:pt x="4321" y="1597"/>
                </a:lnTo>
                <a:lnTo>
                  <a:pt x="4162" y="1796"/>
                </a:lnTo>
                <a:lnTo>
                  <a:pt x="4286" y="1590"/>
                </a:lnTo>
                <a:lnTo>
                  <a:pt x="4907" y="1333"/>
                </a:lnTo>
                <a:lnTo>
                  <a:pt x="4976" y="1162"/>
                </a:lnTo>
                <a:lnTo>
                  <a:pt x="4874" y="1056"/>
                </a:lnTo>
                <a:lnTo>
                  <a:pt x="4008" y="1435"/>
                </a:lnTo>
                <a:lnTo>
                  <a:pt x="3846" y="1743"/>
                </a:lnTo>
                <a:lnTo>
                  <a:pt x="3928" y="1856"/>
                </a:lnTo>
                <a:lnTo>
                  <a:pt x="3802" y="1752"/>
                </a:lnTo>
                <a:lnTo>
                  <a:pt x="3963" y="1411"/>
                </a:lnTo>
                <a:lnTo>
                  <a:pt x="4826" y="1055"/>
                </a:lnTo>
                <a:lnTo>
                  <a:pt x="4135" y="470"/>
                </a:lnTo>
                <a:lnTo>
                  <a:pt x="3668" y="401"/>
                </a:lnTo>
                <a:lnTo>
                  <a:pt x="3574" y="202"/>
                </a:lnTo>
                <a:lnTo>
                  <a:pt x="3481" y="0"/>
                </a:lnTo>
                <a:lnTo>
                  <a:pt x="3401" y="6"/>
                </a:lnTo>
                <a:lnTo>
                  <a:pt x="3568" y="401"/>
                </a:lnTo>
                <a:lnTo>
                  <a:pt x="3271" y="10"/>
                </a:lnTo>
                <a:lnTo>
                  <a:pt x="3080" y="30"/>
                </a:lnTo>
                <a:lnTo>
                  <a:pt x="3373" y="410"/>
                </a:lnTo>
                <a:lnTo>
                  <a:pt x="2994" y="44"/>
                </a:lnTo>
                <a:lnTo>
                  <a:pt x="2754" y="75"/>
                </a:lnTo>
                <a:lnTo>
                  <a:pt x="3092" y="419"/>
                </a:lnTo>
                <a:lnTo>
                  <a:pt x="2706" y="107"/>
                </a:lnTo>
                <a:lnTo>
                  <a:pt x="2408" y="184"/>
                </a:lnTo>
                <a:lnTo>
                  <a:pt x="2745" y="473"/>
                </a:lnTo>
                <a:lnTo>
                  <a:pt x="2263" y="229"/>
                </a:lnTo>
                <a:lnTo>
                  <a:pt x="2170" y="272"/>
                </a:lnTo>
                <a:lnTo>
                  <a:pt x="2580" y="503"/>
                </a:lnTo>
                <a:lnTo>
                  <a:pt x="2092" y="316"/>
                </a:lnTo>
                <a:lnTo>
                  <a:pt x="1781" y="444"/>
                </a:lnTo>
                <a:lnTo>
                  <a:pt x="2170" y="590"/>
                </a:lnTo>
                <a:lnTo>
                  <a:pt x="1693" y="503"/>
                </a:lnTo>
                <a:lnTo>
                  <a:pt x="1531" y="569"/>
                </a:lnTo>
                <a:lnTo>
                  <a:pt x="1858" y="703"/>
                </a:lnTo>
                <a:lnTo>
                  <a:pt x="1386" y="653"/>
                </a:lnTo>
                <a:lnTo>
                  <a:pt x="1536" y="835"/>
                </a:lnTo>
                <a:lnTo>
                  <a:pt x="901" y="1168"/>
                </a:lnTo>
                <a:lnTo>
                  <a:pt x="0" y="573"/>
                </a:lnTo>
                <a:lnTo>
                  <a:pt x="368" y="1586"/>
                </a:lnTo>
                <a:close/>
              </a:path>
            </a:pathLst>
          </a:custGeom>
          <a:solidFill>
            <a:srgbClr val="018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30440" y="863640"/>
            <a:ext cx="209520" cy="387360"/>
          </a:xfrm>
          <a:custGeom>
            <a:avLst/>
            <a:gdLst/>
            <a:ahLst/>
            <a:rect l="l" t="t" r="r" b="b"/>
            <a:pathLst>
              <a:path w="527" h="975">
                <a:moveTo>
                  <a:pt x="349" y="0"/>
                </a:moveTo>
                <a:lnTo>
                  <a:pt x="75" y="422"/>
                </a:lnTo>
                <a:lnTo>
                  <a:pt x="283" y="880"/>
                </a:lnTo>
                <a:lnTo>
                  <a:pt x="527" y="975"/>
                </a:lnTo>
                <a:lnTo>
                  <a:pt x="266" y="955"/>
                </a:lnTo>
                <a:lnTo>
                  <a:pt x="0" y="421"/>
                </a:lnTo>
                <a:lnTo>
                  <a:pt x="3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6320" y="784080"/>
            <a:ext cx="141480" cy="135000"/>
          </a:xfrm>
          <a:custGeom>
            <a:avLst/>
            <a:gdLst/>
            <a:ahLst/>
            <a:rect l="l" t="t" r="r" b="b"/>
            <a:pathLst>
              <a:path w="355" h="342">
                <a:moveTo>
                  <a:pt x="0" y="83"/>
                </a:moveTo>
                <a:lnTo>
                  <a:pt x="150" y="0"/>
                </a:lnTo>
                <a:lnTo>
                  <a:pt x="313" y="40"/>
                </a:lnTo>
                <a:lnTo>
                  <a:pt x="355" y="186"/>
                </a:lnTo>
                <a:lnTo>
                  <a:pt x="324" y="313"/>
                </a:lnTo>
                <a:lnTo>
                  <a:pt x="230" y="342"/>
                </a:lnTo>
                <a:lnTo>
                  <a:pt x="48" y="302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9800" y="817560"/>
            <a:ext cx="98280" cy="95400"/>
          </a:xfrm>
          <a:custGeom>
            <a:avLst/>
            <a:gdLst/>
            <a:ahLst/>
            <a:rect l="l" t="t" r="r" b="b"/>
            <a:pathLst>
              <a:path w="246" h="237">
                <a:moveTo>
                  <a:pt x="0" y="59"/>
                </a:moveTo>
                <a:lnTo>
                  <a:pt x="105" y="0"/>
                </a:lnTo>
                <a:lnTo>
                  <a:pt x="217" y="28"/>
                </a:lnTo>
                <a:lnTo>
                  <a:pt x="246" y="129"/>
                </a:lnTo>
                <a:lnTo>
                  <a:pt x="225" y="217"/>
                </a:lnTo>
                <a:lnTo>
                  <a:pt x="159" y="237"/>
                </a:lnTo>
                <a:lnTo>
                  <a:pt x="33" y="208"/>
                </a:lnTo>
                <a:lnTo>
                  <a:pt x="0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360" y="771480"/>
            <a:ext cx="357120" cy="119160"/>
          </a:xfrm>
          <a:custGeom>
            <a:avLst/>
            <a:gdLst/>
            <a:ahLst/>
            <a:rect l="l" t="t" r="r" b="b"/>
            <a:pathLst>
              <a:path w="899" h="301">
                <a:moveTo>
                  <a:pt x="899" y="86"/>
                </a:moveTo>
                <a:lnTo>
                  <a:pt x="534" y="301"/>
                </a:lnTo>
                <a:lnTo>
                  <a:pt x="0" y="0"/>
                </a:lnTo>
                <a:lnTo>
                  <a:pt x="540" y="216"/>
                </a:lnTo>
                <a:lnTo>
                  <a:pt x="899" y="8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8680" y="733320"/>
            <a:ext cx="131760" cy="571680"/>
          </a:xfrm>
          <a:custGeom>
            <a:avLst/>
            <a:gdLst/>
            <a:ahLst/>
            <a:rect l="l" t="t" r="r" b="b"/>
            <a:pathLst>
              <a:path w="330" h="1439">
                <a:moveTo>
                  <a:pt x="0" y="0"/>
                </a:moveTo>
                <a:lnTo>
                  <a:pt x="330" y="949"/>
                </a:lnTo>
                <a:lnTo>
                  <a:pt x="156" y="1439"/>
                </a:lnTo>
                <a:lnTo>
                  <a:pt x="243" y="955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920" y="1279440"/>
            <a:ext cx="307800" cy="233280"/>
          </a:xfrm>
          <a:custGeom>
            <a:avLst/>
            <a:gdLst/>
            <a:ahLst/>
            <a:rect l="l" t="t" r="r" b="b"/>
            <a:pathLst>
              <a:path w="775" h="591">
                <a:moveTo>
                  <a:pt x="0" y="591"/>
                </a:moveTo>
                <a:lnTo>
                  <a:pt x="775" y="0"/>
                </a:lnTo>
                <a:lnTo>
                  <a:pt x="265" y="484"/>
                </a:lnTo>
                <a:lnTo>
                  <a:pt x="0" y="59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3320" y="1398600"/>
            <a:ext cx="270000" cy="162000"/>
          </a:xfrm>
          <a:custGeom>
            <a:avLst/>
            <a:gdLst/>
            <a:ahLst/>
            <a:rect l="l" t="t" r="r" b="b"/>
            <a:pathLst>
              <a:path w="678" h="409">
                <a:moveTo>
                  <a:pt x="678" y="0"/>
                </a:moveTo>
                <a:lnTo>
                  <a:pt x="493" y="314"/>
                </a:lnTo>
                <a:lnTo>
                  <a:pt x="0" y="126"/>
                </a:lnTo>
                <a:lnTo>
                  <a:pt x="524" y="409"/>
                </a:lnTo>
                <a:lnTo>
                  <a:pt x="678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5760" y="1386000"/>
            <a:ext cx="198360" cy="87120"/>
          </a:xfrm>
          <a:custGeom>
            <a:avLst/>
            <a:gdLst/>
            <a:ahLst/>
            <a:rect l="l" t="t" r="r" b="b"/>
            <a:pathLst>
              <a:path w="500" h="220">
                <a:moveTo>
                  <a:pt x="0" y="0"/>
                </a:moveTo>
                <a:lnTo>
                  <a:pt x="483" y="8"/>
                </a:lnTo>
                <a:lnTo>
                  <a:pt x="500" y="220"/>
                </a:lnTo>
                <a:lnTo>
                  <a:pt x="414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52800" y="1120680"/>
            <a:ext cx="156960" cy="139680"/>
          </a:xfrm>
          <a:custGeom>
            <a:avLst/>
            <a:gdLst/>
            <a:ahLst/>
            <a:rect l="l" t="t" r="r" b="b"/>
            <a:pathLst>
              <a:path w="397" h="353">
                <a:moveTo>
                  <a:pt x="359" y="0"/>
                </a:moveTo>
                <a:lnTo>
                  <a:pt x="344" y="118"/>
                </a:lnTo>
                <a:lnTo>
                  <a:pt x="0" y="353"/>
                </a:lnTo>
                <a:lnTo>
                  <a:pt x="397" y="142"/>
                </a:lnTo>
                <a:lnTo>
                  <a:pt x="35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440" y="484200"/>
            <a:ext cx="444240" cy="320760"/>
          </a:xfrm>
          <a:custGeom>
            <a:avLst/>
            <a:gdLst/>
            <a:ahLst/>
            <a:rect l="l" t="t" r="r" b="b"/>
            <a:pathLst>
              <a:path w="1118" h="807">
                <a:moveTo>
                  <a:pt x="0" y="0"/>
                </a:moveTo>
                <a:lnTo>
                  <a:pt x="124" y="306"/>
                </a:lnTo>
                <a:lnTo>
                  <a:pt x="578" y="337"/>
                </a:lnTo>
                <a:lnTo>
                  <a:pt x="1118" y="807"/>
                </a:lnTo>
                <a:lnTo>
                  <a:pt x="602" y="267"/>
                </a:lnTo>
                <a:lnTo>
                  <a:pt x="180" y="234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6640" y="436680"/>
            <a:ext cx="590400" cy="155520"/>
          </a:xfrm>
          <a:custGeom>
            <a:avLst/>
            <a:gdLst/>
            <a:ahLst/>
            <a:rect l="l" t="t" r="r" b="b"/>
            <a:pathLst>
              <a:path w="1490" h="390">
                <a:moveTo>
                  <a:pt x="1490" y="0"/>
                </a:moveTo>
                <a:lnTo>
                  <a:pt x="630" y="122"/>
                </a:lnTo>
                <a:lnTo>
                  <a:pt x="0" y="390"/>
                </a:lnTo>
                <a:lnTo>
                  <a:pt x="600" y="51"/>
                </a:lnTo>
                <a:lnTo>
                  <a:pt x="149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1640" y="1395360"/>
            <a:ext cx="325440" cy="109440"/>
          </a:xfrm>
          <a:custGeom>
            <a:avLst/>
            <a:gdLst/>
            <a:ahLst/>
            <a:rect l="l" t="t" r="r" b="b"/>
            <a:pathLst>
              <a:path w="820" h="276">
                <a:moveTo>
                  <a:pt x="820" y="0"/>
                </a:moveTo>
                <a:lnTo>
                  <a:pt x="616" y="139"/>
                </a:lnTo>
                <a:lnTo>
                  <a:pt x="0" y="276"/>
                </a:lnTo>
                <a:lnTo>
                  <a:pt x="34" y="273"/>
                </a:lnTo>
                <a:lnTo>
                  <a:pt x="112" y="264"/>
                </a:lnTo>
                <a:lnTo>
                  <a:pt x="218" y="251"/>
                </a:lnTo>
                <a:lnTo>
                  <a:pt x="340" y="237"/>
                </a:lnTo>
                <a:lnTo>
                  <a:pt x="462" y="223"/>
                </a:lnTo>
                <a:lnTo>
                  <a:pt x="569" y="211"/>
                </a:lnTo>
                <a:lnTo>
                  <a:pt x="648" y="202"/>
                </a:lnTo>
                <a:lnTo>
                  <a:pt x="682" y="198"/>
                </a:lnTo>
                <a:lnTo>
                  <a:pt x="82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20720" y="714240"/>
            <a:ext cx="50760" cy="109800"/>
          </a:xfrm>
          <a:custGeom>
            <a:avLst/>
            <a:gdLst/>
            <a:ahLst/>
            <a:rect l="l" t="t" r="r" b="b"/>
            <a:pathLst>
              <a:path w="126" h="277">
                <a:moveTo>
                  <a:pt x="106" y="0"/>
                </a:moveTo>
                <a:lnTo>
                  <a:pt x="0" y="133"/>
                </a:lnTo>
                <a:lnTo>
                  <a:pt x="126" y="277"/>
                </a:lnTo>
                <a:lnTo>
                  <a:pt x="53" y="131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9920" y="797040"/>
            <a:ext cx="50760" cy="109440"/>
          </a:xfrm>
          <a:custGeom>
            <a:avLst/>
            <a:gdLst/>
            <a:ahLst/>
            <a:rect l="l" t="t" r="r" b="b"/>
            <a:pathLst>
              <a:path w="128" h="276">
                <a:moveTo>
                  <a:pt x="108" y="0"/>
                </a:moveTo>
                <a:lnTo>
                  <a:pt x="0" y="131"/>
                </a:lnTo>
                <a:lnTo>
                  <a:pt x="128" y="276"/>
                </a:lnTo>
                <a:lnTo>
                  <a:pt x="55" y="129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974880"/>
            <a:ext cx="50760" cy="109440"/>
          </a:xfrm>
          <a:custGeom>
            <a:avLst/>
            <a:gdLst/>
            <a:ahLst/>
            <a:rect l="l" t="t" r="r" b="b"/>
            <a:pathLst>
              <a:path w="127" h="273">
                <a:moveTo>
                  <a:pt x="107" y="0"/>
                </a:moveTo>
                <a:lnTo>
                  <a:pt x="0" y="129"/>
                </a:lnTo>
                <a:lnTo>
                  <a:pt x="127" y="273"/>
                </a:lnTo>
                <a:lnTo>
                  <a:pt x="55" y="126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98600" y="870120"/>
            <a:ext cx="49320" cy="109440"/>
          </a:xfrm>
          <a:custGeom>
            <a:avLst/>
            <a:gdLst/>
            <a:ahLst/>
            <a:rect l="l" t="t" r="r" b="b"/>
            <a:pathLst>
              <a:path w="128" h="276">
                <a:moveTo>
                  <a:pt x="107" y="0"/>
                </a:moveTo>
                <a:lnTo>
                  <a:pt x="0" y="133"/>
                </a:lnTo>
                <a:lnTo>
                  <a:pt x="128" y="276"/>
                </a:lnTo>
                <a:lnTo>
                  <a:pt x="54" y="130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6120" y="755640"/>
            <a:ext cx="50760" cy="109440"/>
          </a:xfrm>
          <a:custGeom>
            <a:avLst/>
            <a:gdLst/>
            <a:ahLst/>
            <a:rect l="l" t="t" r="r" b="b"/>
            <a:pathLst>
              <a:path w="128" h="276">
                <a:moveTo>
                  <a:pt x="107" y="0"/>
                </a:moveTo>
                <a:lnTo>
                  <a:pt x="0" y="131"/>
                </a:lnTo>
                <a:lnTo>
                  <a:pt x="128" y="276"/>
                </a:lnTo>
                <a:lnTo>
                  <a:pt x="55" y="129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7120" y="1039680"/>
            <a:ext cx="50760" cy="109800"/>
          </a:xfrm>
          <a:custGeom>
            <a:avLst/>
            <a:gdLst/>
            <a:ahLst/>
            <a:rect l="l" t="t" r="r" b="b"/>
            <a:pathLst>
              <a:path w="127" h="277">
                <a:moveTo>
                  <a:pt x="107" y="0"/>
                </a:moveTo>
                <a:lnTo>
                  <a:pt x="0" y="133"/>
                </a:lnTo>
                <a:lnTo>
                  <a:pt x="127" y="277"/>
                </a:lnTo>
                <a:lnTo>
                  <a:pt x="55" y="130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9360" y="950760"/>
            <a:ext cx="50760" cy="109800"/>
          </a:xfrm>
          <a:custGeom>
            <a:avLst/>
            <a:gdLst/>
            <a:ahLst/>
            <a:rect l="l" t="t" r="r" b="b"/>
            <a:pathLst>
              <a:path w="127" h="274">
                <a:moveTo>
                  <a:pt x="107" y="0"/>
                </a:moveTo>
                <a:lnTo>
                  <a:pt x="0" y="130"/>
                </a:lnTo>
                <a:lnTo>
                  <a:pt x="127" y="274"/>
                </a:lnTo>
                <a:lnTo>
                  <a:pt x="55" y="128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7800" y="844560"/>
            <a:ext cx="51120" cy="109440"/>
          </a:xfrm>
          <a:custGeom>
            <a:avLst/>
            <a:gdLst/>
            <a:ahLst/>
            <a:rect l="l" t="t" r="r" b="b"/>
            <a:pathLst>
              <a:path w="127" h="276">
                <a:moveTo>
                  <a:pt x="106" y="0"/>
                </a:moveTo>
                <a:lnTo>
                  <a:pt x="0" y="133"/>
                </a:lnTo>
                <a:lnTo>
                  <a:pt x="127" y="276"/>
                </a:lnTo>
                <a:lnTo>
                  <a:pt x="53" y="130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35040" y="927000"/>
            <a:ext cx="50760" cy="108000"/>
          </a:xfrm>
          <a:custGeom>
            <a:avLst/>
            <a:gdLst/>
            <a:ahLst/>
            <a:rect l="l" t="t" r="r" b="b"/>
            <a:pathLst>
              <a:path w="128" h="273">
                <a:moveTo>
                  <a:pt x="107" y="0"/>
                </a:moveTo>
                <a:lnTo>
                  <a:pt x="0" y="133"/>
                </a:lnTo>
                <a:lnTo>
                  <a:pt x="128" y="273"/>
                </a:lnTo>
                <a:lnTo>
                  <a:pt x="55" y="130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2280" y="833400"/>
            <a:ext cx="50760" cy="109440"/>
          </a:xfrm>
          <a:custGeom>
            <a:avLst/>
            <a:gdLst/>
            <a:ahLst/>
            <a:rect l="l" t="t" r="r" b="b"/>
            <a:pathLst>
              <a:path w="127" h="275">
                <a:moveTo>
                  <a:pt x="107" y="0"/>
                </a:moveTo>
                <a:lnTo>
                  <a:pt x="0" y="132"/>
                </a:lnTo>
                <a:lnTo>
                  <a:pt x="127" y="275"/>
                </a:lnTo>
                <a:lnTo>
                  <a:pt x="55" y="129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42960" y="752400"/>
            <a:ext cx="50760" cy="109440"/>
          </a:xfrm>
          <a:custGeom>
            <a:avLst/>
            <a:gdLst/>
            <a:ahLst/>
            <a:rect l="l" t="t" r="r" b="b"/>
            <a:pathLst>
              <a:path w="127" h="276">
                <a:moveTo>
                  <a:pt x="107" y="0"/>
                </a:moveTo>
                <a:lnTo>
                  <a:pt x="0" y="133"/>
                </a:lnTo>
                <a:lnTo>
                  <a:pt x="127" y="276"/>
                </a:lnTo>
                <a:lnTo>
                  <a:pt x="55" y="130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2209680" cy="123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2210040" cy="123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2210040" cy="1234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28600" y="1905120"/>
            <a:ext cx="1371240" cy="2590560"/>
            <a:chOff x="228600" y="1905120"/>
            <a:chExt cx="1371240" cy="2590560"/>
          </a:xfrm>
        </p:grpSpPr>
        <p:sp>
          <p:nvSpPr>
            <p:cNvPr id="89" name=""/>
            <p:cNvSpPr/>
            <p:nvPr/>
          </p:nvSpPr>
          <p:spPr>
            <a:xfrm>
              <a:off x="228600" y="1905120"/>
              <a:ext cx="158040" cy="259056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920" y="1905120"/>
              <a:ext cx="180360" cy="148608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960" y="198612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3760" y="21236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440" y="225612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7160" y="238680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2200" y="251784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3280" y="26488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00" y="275328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000" y="284868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4920" y="294840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720" y="305424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240" y="317448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2480" y="1939320"/>
              <a:ext cx="115560" cy="143136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640" y="1965600"/>
              <a:ext cx="108360" cy="138780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200" y="1994040"/>
              <a:ext cx="105840" cy="133452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0480" y="201744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3960" y="20422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3200" y="207180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1800" y="2129400"/>
              <a:ext cx="73080" cy="107136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95000" y="222192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360" y="238680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7920" y="202644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9040" y="205776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200" y="218124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3120" y="2313720"/>
              <a:ext cx="124200" cy="399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5560" y="244656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4480" y="25678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4480" y="271908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080" y="284400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640" y="297468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5720" y="3098160"/>
              <a:ext cx="77040" cy="3996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6600" y="322776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828800" y="1905120"/>
            <a:ext cx="1371240" cy="2590560"/>
            <a:chOff x="1828800" y="1905120"/>
            <a:chExt cx="1371240" cy="2590560"/>
          </a:xfrm>
        </p:grpSpPr>
        <p:sp>
          <p:nvSpPr>
            <p:cNvPr id="123" name=""/>
            <p:cNvSpPr/>
            <p:nvPr/>
          </p:nvSpPr>
          <p:spPr>
            <a:xfrm>
              <a:off x="1828800" y="1905120"/>
              <a:ext cx="158040" cy="259056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3120" y="1905120"/>
              <a:ext cx="180360" cy="148608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5160" y="198612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73960" y="21236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87640" y="225612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97360" y="238680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2400" y="251784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3480" y="26488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2400" y="275328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95200" y="284868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85120" y="294840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68920" y="305424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35440" y="317448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92680" y="1939320"/>
              <a:ext cx="115560" cy="143136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0840" y="1965600"/>
              <a:ext cx="108360" cy="138780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5400" y="1994040"/>
              <a:ext cx="105840" cy="133452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0680" y="201744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4160" y="20422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3400" y="207180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2000" y="2129400"/>
              <a:ext cx="73080" cy="107136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5200" y="222192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0560" y="238680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68120" y="202644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9240" y="205776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13400" y="218124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3320" y="2313720"/>
              <a:ext cx="124200" cy="399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95760" y="244656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94680" y="25678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4680" y="271908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98280" y="284400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840" y="297468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15920" y="3098160"/>
              <a:ext cx="77040" cy="3996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36800" y="322776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505320" y="1905120"/>
            <a:ext cx="1371240" cy="2590560"/>
            <a:chOff x="3505320" y="1905120"/>
            <a:chExt cx="1371240" cy="2590560"/>
          </a:xfrm>
        </p:grpSpPr>
        <p:sp>
          <p:nvSpPr>
            <p:cNvPr id="157" name=""/>
            <p:cNvSpPr/>
            <p:nvPr/>
          </p:nvSpPr>
          <p:spPr>
            <a:xfrm>
              <a:off x="3505320" y="1905120"/>
              <a:ext cx="158040" cy="259056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9640" y="1905120"/>
              <a:ext cx="180360" cy="148608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1680" y="198612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0480" y="21236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64160" y="225612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73880" y="238680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78920" y="251784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0000" y="26488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78920" y="275328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71720" y="284868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1640" y="294840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5440" y="305424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1960" y="317448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9200" y="1939320"/>
              <a:ext cx="115560" cy="143136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97360" y="1965600"/>
              <a:ext cx="108360" cy="138780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21920" y="1994040"/>
              <a:ext cx="105840" cy="133452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47200" y="201744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70680" y="20422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99920" y="207180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8520" y="2129400"/>
              <a:ext cx="73080" cy="107136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71720" y="222192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7080" y="238680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44640" y="202644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5760" y="205776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9920" y="218124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9840" y="2313720"/>
              <a:ext cx="124200" cy="399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2280" y="244656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1200" y="25678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71200" y="271908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4800" y="284400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2360" y="297468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2440" y="3098160"/>
              <a:ext cx="77040" cy="3996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3320" y="322776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1828800"/>
            <a:ext cx="1371240" cy="2590920"/>
            <a:chOff x="5334120" y="1828800"/>
            <a:chExt cx="1371240" cy="2590920"/>
          </a:xfrm>
        </p:grpSpPr>
        <p:sp>
          <p:nvSpPr>
            <p:cNvPr id="191" name=""/>
            <p:cNvSpPr/>
            <p:nvPr/>
          </p:nvSpPr>
          <p:spPr>
            <a:xfrm>
              <a:off x="5334120" y="182880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28440" y="18288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0480" y="190980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79280" y="204732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92960" y="217980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02680" y="231084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07720" y="244152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8800" y="257292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07720" y="26773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0520" y="277236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0440" y="28720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74240" y="297828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40760" y="30985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98000" y="186300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26160" y="18892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0720" y="191772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6000" y="194112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9480" y="196596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8720" y="199548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7320" y="205308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00520" y="214560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5880" y="231084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73440" y="195012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34560" y="198144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18720" y="21049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08640" y="22374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01080" y="23702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00000" y="249156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00000" y="264276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03600" y="27676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1160" y="289872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21240" y="30222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2120" y="315144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38880" y="1828800"/>
            <a:ext cx="1371240" cy="2590920"/>
            <a:chOff x="7238880" y="1828800"/>
            <a:chExt cx="1371240" cy="2590920"/>
          </a:xfrm>
        </p:grpSpPr>
        <p:sp>
          <p:nvSpPr>
            <p:cNvPr id="225" name=""/>
            <p:cNvSpPr/>
            <p:nvPr/>
          </p:nvSpPr>
          <p:spPr>
            <a:xfrm>
              <a:off x="7238880" y="182880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33200" y="18288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5240" y="190980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84040" y="204732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97720" y="217980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07440" y="231084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12480" y="244152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257292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12480" y="26773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05280" y="277236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95200" y="28720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79000" y="297828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45520" y="30985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2760" y="186300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0920" y="18892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55480" y="191772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0760" y="194112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04240" y="196596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33480" y="199548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72080" y="205308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05280" y="214560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40640" y="231084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78200" y="195012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9320" y="198144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23480" y="21049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3400" y="22374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5840" y="23702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4760" y="249156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4760" y="264276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8360" y="27676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5920" y="289872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6000" y="30222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46880" y="315144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920" y="4876920"/>
            <a:ext cx="2590560" cy="1371240"/>
            <a:chOff x="304920" y="4876920"/>
            <a:chExt cx="2590560" cy="1371240"/>
          </a:xfrm>
        </p:grpSpPr>
        <p:sp>
          <p:nvSpPr>
            <p:cNvPr id="259" name=""/>
            <p:cNvSpPr/>
            <p:nvPr/>
          </p:nvSpPr>
          <p:spPr>
            <a:xfrm rot="5400000">
              <a:off x="1521000" y="3660480"/>
              <a:ext cx="158040" cy="259056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2062080" y="4318200"/>
              <a:ext cx="180360" cy="148608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2262960" y="544536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2090520" y="55310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1944000" y="558684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1812960" y="562752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694520" y="565776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1581840" y="56782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1470960" y="566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1366920" y="563472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1268280" y="55936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1184040" y="552672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1108440" y="54331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2087640" y="4482720"/>
              <a:ext cx="115560" cy="143136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2086920" y="4629240"/>
              <a:ext cx="108360" cy="138780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2086200" y="4779000"/>
              <a:ext cx="105840" cy="133452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2090520" y="492660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2091600" y="50734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2091600" y="522504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2098800" y="5410800"/>
              <a:ext cx="73080" cy="107136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2109960" y="563544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113200" y="592416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2162520" y="444888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2695320" y="498708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2546640" y="49921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2404800" y="4993560"/>
              <a:ext cx="124200" cy="399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2266200" y="49928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145240" y="49942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1995840" y="499752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1871280" y="49942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746720" y="499284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1643760" y="4982400"/>
              <a:ext cx="77040" cy="3996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1521360" y="499320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276720" y="4876920"/>
            <a:ext cx="2590560" cy="1371240"/>
            <a:chOff x="3276720" y="4876920"/>
            <a:chExt cx="2590560" cy="1371240"/>
          </a:xfrm>
        </p:grpSpPr>
        <p:sp>
          <p:nvSpPr>
            <p:cNvPr id="293" name=""/>
            <p:cNvSpPr/>
            <p:nvPr/>
          </p:nvSpPr>
          <p:spPr>
            <a:xfrm rot="5400000">
              <a:off x="4492800" y="3660480"/>
              <a:ext cx="158040" cy="259056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033880" y="4318200"/>
              <a:ext cx="180360" cy="148608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5234760" y="544536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5062320" y="55310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4915800" y="558684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784760" y="562752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320" y="565776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4553640" y="56782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442760" y="566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4338720" y="563472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4240080" y="55936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4155840" y="552672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4080240" y="54331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5059440" y="4482720"/>
              <a:ext cx="115560" cy="143136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5058720" y="4629240"/>
              <a:ext cx="108360" cy="138780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5058000" y="4779000"/>
              <a:ext cx="105840" cy="133452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062320" y="492660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5063400" y="50734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5063400" y="522504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5070600" y="5410800"/>
              <a:ext cx="73080" cy="107136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5081760" y="563544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5085000" y="592416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5134320" y="444888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5667120" y="498708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518440" y="49921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5376600" y="4993560"/>
              <a:ext cx="124200" cy="3996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5238000" y="49928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5117040" y="49942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4967640" y="499752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4843080" y="49942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4718520" y="499284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4615560" y="4982400"/>
              <a:ext cx="77040" cy="3996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4493160" y="499320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5520" y="4876920"/>
            <a:ext cx="2590920" cy="1371240"/>
            <a:chOff x="6095520" y="4876920"/>
            <a:chExt cx="2590920" cy="1371240"/>
          </a:xfrm>
        </p:grpSpPr>
        <p:sp>
          <p:nvSpPr>
            <p:cNvPr id="327" name=""/>
            <p:cNvSpPr/>
            <p:nvPr/>
          </p:nvSpPr>
          <p:spPr>
            <a:xfrm rot="5400000">
              <a:off x="7311960" y="366048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7853040" y="43182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8053920" y="544536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7881480" y="553104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7734960" y="558684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7603560" y="562752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7485480" y="565776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7372440" y="567828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261560" y="566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7157880" y="563472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059240" y="55936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6974640" y="552672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6899040" y="54331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7878600" y="448272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877520" y="46288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877160" y="477900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7881480" y="492660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7882560" y="507348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882560" y="522504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889760" y="541080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7900920" y="563544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7903800" y="592416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953480" y="444888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8486280" y="498708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8337600" y="49921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8195400" y="49932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8057160" y="49928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7936200" y="499428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7786800" y="499752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7662240" y="49942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7537320" y="499284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7434360" y="49824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7312320" y="499320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457200" y="228600"/>
            <a:ext cx="1371240" cy="2590920"/>
            <a:chOff x="457200" y="228600"/>
            <a:chExt cx="1371240" cy="2590920"/>
          </a:xfrm>
        </p:grpSpPr>
        <p:sp>
          <p:nvSpPr>
            <p:cNvPr id="361" name=""/>
            <p:cNvSpPr/>
            <p:nvPr/>
          </p:nvSpPr>
          <p:spPr>
            <a:xfrm>
              <a:off x="457200" y="22860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1520" y="2286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3560" y="30960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360" y="44712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040" y="57960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760" y="71064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0800" y="84132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880" y="97272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800" y="107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3600" y="117216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3520" y="12718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7320" y="137808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3840" y="14983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1080" y="26280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9240" y="2890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3800" y="31752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99080" y="34092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22560" y="36576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1800" y="39528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90400" y="45288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23600" y="54540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8960" y="71064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6520" y="34992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7640" y="38124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800" y="5047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1720" y="6372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4160" y="7700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3080" y="89136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3080" y="104256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6680" y="11674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4240" y="129852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4320" y="14220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5200" y="155124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057400" y="228600"/>
            <a:ext cx="1371240" cy="2590920"/>
            <a:chOff x="2057400" y="228600"/>
            <a:chExt cx="1371240" cy="2590920"/>
          </a:xfrm>
        </p:grpSpPr>
        <p:sp>
          <p:nvSpPr>
            <p:cNvPr id="395" name=""/>
            <p:cNvSpPr/>
            <p:nvPr/>
          </p:nvSpPr>
          <p:spPr>
            <a:xfrm>
              <a:off x="2057400" y="22860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51720" y="2286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73760" y="30960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02560" y="44712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6240" y="57960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25960" y="71064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31000" y="84132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32080" y="97272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31000" y="107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3800" y="117216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13720" y="12718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97520" y="137808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64040" y="14983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21280" y="26280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9440" y="2890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4000" y="31752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99280" y="34092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22760" y="36576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2000" y="39528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90600" y="45288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3800" y="54540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9160" y="71064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96720" y="34992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57840" y="38124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42000" y="5047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1920" y="6372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4360" y="7700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23280" y="89136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3280" y="104256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26880" y="11674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4440" y="129852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44520" y="14220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65400" y="155124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733920" y="228600"/>
            <a:ext cx="1371240" cy="2590920"/>
            <a:chOff x="3733920" y="228600"/>
            <a:chExt cx="1371240" cy="2590920"/>
          </a:xfrm>
        </p:grpSpPr>
        <p:sp>
          <p:nvSpPr>
            <p:cNvPr id="429" name=""/>
            <p:cNvSpPr/>
            <p:nvPr/>
          </p:nvSpPr>
          <p:spPr>
            <a:xfrm>
              <a:off x="3733920" y="22860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28240" y="22860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50280" y="30960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79080" y="44712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2760" y="57960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02480" y="71064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07520" y="84132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8600" y="97272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07520" y="107712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00320" y="117216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90240" y="127188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74040" y="137808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40560" y="149832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7800" y="26280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5960" y="28908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50520" y="31752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5800" y="34092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99280" y="36576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28520" y="39528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67120" y="45288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00320" y="54540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5680" y="71064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73240" y="34992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4360" y="38124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18520" y="50472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8440" y="63720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00880" y="77004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99800" y="89136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99800" y="104256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03400" y="116748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10960" y="129852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21040" y="142200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41920" y="155124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562720" y="152280"/>
            <a:ext cx="1371240" cy="2590920"/>
            <a:chOff x="5562720" y="152280"/>
            <a:chExt cx="1371240" cy="2590920"/>
          </a:xfrm>
        </p:grpSpPr>
        <p:sp>
          <p:nvSpPr>
            <p:cNvPr id="463" name=""/>
            <p:cNvSpPr/>
            <p:nvPr/>
          </p:nvSpPr>
          <p:spPr>
            <a:xfrm>
              <a:off x="5562720" y="15228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57040" y="15228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79080" y="23328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07880" y="37080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21560" y="50328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31280" y="63432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36320" y="76500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37400" y="89640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36320" y="100080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29120" y="109584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9040" y="119556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2840" y="130176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69360" y="142200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6600" y="18648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54760" y="21276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9320" y="24120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04600" y="26460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8080" y="28944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7320" y="31896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95920" y="37656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29120" y="46908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64480" y="63432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02040" y="27360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63160" y="30492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7320" y="42840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7240" y="56088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9680" y="69372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8600" y="81504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28600" y="96624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32200" y="109116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9760" y="122220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49840" y="134568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70720" y="147492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467480" y="152280"/>
            <a:ext cx="1371240" cy="2590920"/>
            <a:chOff x="7467480" y="152280"/>
            <a:chExt cx="1371240" cy="2590920"/>
          </a:xfrm>
        </p:grpSpPr>
        <p:sp>
          <p:nvSpPr>
            <p:cNvPr id="497" name=""/>
            <p:cNvSpPr/>
            <p:nvPr/>
          </p:nvSpPr>
          <p:spPr>
            <a:xfrm>
              <a:off x="7467480" y="152280"/>
              <a:ext cx="158040" cy="2590920"/>
            </a:xfrm>
            <a:custGeom>
              <a:avLst/>
              <a:gdLst/>
              <a:ahLst/>
              <a:rect l="l" t="t" r="r" b="b"/>
              <a:pathLst>
                <a:path w="381" h="4985">
                  <a:moveTo>
                    <a:pt x="226" y="0"/>
                  </a:moveTo>
                  <a:lnTo>
                    <a:pt x="327" y="80"/>
                  </a:lnTo>
                  <a:lnTo>
                    <a:pt x="307" y="118"/>
                  </a:lnTo>
                  <a:lnTo>
                    <a:pt x="290" y="169"/>
                  </a:lnTo>
                  <a:lnTo>
                    <a:pt x="269" y="235"/>
                  </a:lnTo>
                  <a:lnTo>
                    <a:pt x="255" y="295"/>
                  </a:lnTo>
                  <a:lnTo>
                    <a:pt x="241" y="356"/>
                  </a:lnTo>
                  <a:lnTo>
                    <a:pt x="233" y="390"/>
                  </a:lnTo>
                  <a:lnTo>
                    <a:pt x="212" y="532"/>
                  </a:lnTo>
                  <a:lnTo>
                    <a:pt x="205" y="572"/>
                  </a:lnTo>
                  <a:lnTo>
                    <a:pt x="202" y="594"/>
                  </a:lnTo>
                  <a:lnTo>
                    <a:pt x="182" y="788"/>
                  </a:lnTo>
                  <a:lnTo>
                    <a:pt x="178" y="824"/>
                  </a:lnTo>
                  <a:lnTo>
                    <a:pt x="178" y="849"/>
                  </a:lnTo>
                  <a:lnTo>
                    <a:pt x="165" y="1042"/>
                  </a:lnTo>
                  <a:lnTo>
                    <a:pt x="162" y="1104"/>
                  </a:lnTo>
                  <a:lnTo>
                    <a:pt x="159" y="1276"/>
                  </a:lnTo>
                  <a:lnTo>
                    <a:pt x="158" y="1337"/>
                  </a:lnTo>
                  <a:lnTo>
                    <a:pt x="156" y="1530"/>
                  </a:lnTo>
                  <a:lnTo>
                    <a:pt x="157" y="1566"/>
                  </a:lnTo>
                  <a:lnTo>
                    <a:pt x="159" y="1627"/>
                  </a:lnTo>
                  <a:lnTo>
                    <a:pt x="162" y="1764"/>
                  </a:lnTo>
                  <a:lnTo>
                    <a:pt x="166" y="1818"/>
                  </a:lnTo>
                  <a:lnTo>
                    <a:pt x="170" y="1879"/>
                  </a:lnTo>
                  <a:lnTo>
                    <a:pt x="178" y="1999"/>
                  </a:lnTo>
                  <a:lnTo>
                    <a:pt x="186" y="2074"/>
                  </a:lnTo>
                  <a:lnTo>
                    <a:pt x="190" y="2136"/>
                  </a:lnTo>
                  <a:lnTo>
                    <a:pt x="195" y="2201"/>
                  </a:lnTo>
                  <a:lnTo>
                    <a:pt x="209" y="2315"/>
                  </a:lnTo>
                  <a:lnTo>
                    <a:pt x="215" y="2358"/>
                  </a:lnTo>
                  <a:lnTo>
                    <a:pt x="218" y="2375"/>
                  </a:lnTo>
                  <a:lnTo>
                    <a:pt x="238" y="2476"/>
                  </a:lnTo>
                  <a:lnTo>
                    <a:pt x="259" y="2566"/>
                  </a:lnTo>
                  <a:lnTo>
                    <a:pt x="273" y="2628"/>
                  </a:lnTo>
                  <a:lnTo>
                    <a:pt x="295" y="2699"/>
                  </a:lnTo>
                  <a:lnTo>
                    <a:pt x="327" y="2777"/>
                  </a:lnTo>
                  <a:lnTo>
                    <a:pt x="381" y="2861"/>
                  </a:lnTo>
                  <a:lnTo>
                    <a:pt x="380" y="4926"/>
                  </a:lnTo>
                  <a:lnTo>
                    <a:pt x="364" y="4956"/>
                  </a:lnTo>
                  <a:lnTo>
                    <a:pt x="331" y="4981"/>
                  </a:lnTo>
                  <a:lnTo>
                    <a:pt x="287" y="4985"/>
                  </a:lnTo>
                  <a:lnTo>
                    <a:pt x="250" y="4967"/>
                  </a:lnTo>
                  <a:lnTo>
                    <a:pt x="225" y="4926"/>
                  </a:lnTo>
                  <a:lnTo>
                    <a:pt x="225" y="2864"/>
                  </a:lnTo>
                  <a:lnTo>
                    <a:pt x="187" y="2826"/>
                  </a:lnTo>
                  <a:lnTo>
                    <a:pt x="162" y="2789"/>
                  </a:lnTo>
                  <a:lnTo>
                    <a:pt x="139" y="2744"/>
                  </a:lnTo>
                  <a:lnTo>
                    <a:pt x="114" y="2681"/>
                  </a:lnTo>
                  <a:lnTo>
                    <a:pt x="93" y="2603"/>
                  </a:lnTo>
                  <a:lnTo>
                    <a:pt x="76" y="2506"/>
                  </a:lnTo>
                  <a:lnTo>
                    <a:pt x="57" y="2392"/>
                  </a:lnTo>
                  <a:lnTo>
                    <a:pt x="36" y="2248"/>
                  </a:lnTo>
                  <a:lnTo>
                    <a:pt x="16" y="2083"/>
                  </a:lnTo>
                  <a:lnTo>
                    <a:pt x="6" y="1934"/>
                  </a:lnTo>
                  <a:lnTo>
                    <a:pt x="0" y="1816"/>
                  </a:lnTo>
                  <a:lnTo>
                    <a:pt x="12" y="1779"/>
                  </a:lnTo>
                  <a:lnTo>
                    <a:pt x="37" y="1690"/>
                  </a:lnTo>
                  <a:lnTo>
                    <a:pt x="55" y="1599"/>
                  </a:lnTo>
                  <a:lnTo>
                    <a:pt x="64" y="1507"/>
                  </a:lnTo>
                  <a:lnTo>
                    <a:pt x="69" y="1414"/>
                  </a:lnTo>
                  <a:lnTo>
                    <a:pt x="64" y="1321"/>
                  </a:lnTo>
                  <a:lnTo>
                    <a:pt x="55" y="1230"/>
                  </a:lnTo>
                  <a:lnTo>
                    <a:pt x="37" y="1138"/>
                  </a:lnTo>
                  <a:lnTo>
                    <a:pt x="12" y="1048"/>
                  </a:lnTo>
                  <a:lnTo>
                    <a:pt x="0" y="1016"/>
                  </a:lnTo>
                  <a:lnTo>
                    <a:pt x="6" y="897"/>
                  </a:lnTo>
                  <a:lnTo>
                    <a:pt x="24" y="712"/>
                  </a:lnTo>
                  <a:lnTo>
                    <a:pt x="38" y="573"/>
                  </a:lnTo>
                  <a:lnTo>
                    <a:pt x="74" y="365"/>
                  </a:lnTo>
                  <a:lnTo>
                    <a:pt x="108" y="216"/>
                  </a:lnTo>
                  <a:lnTo>
                    <a:pt x="145" y="109"/>
                  </a:lnTo>
                  <a:lnTo>
                    <a:pt x="183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61800" y="152280"/>
              <a:ext cx="180360" cy="1486440"/>
            </a:xfrm>
            <a:custGeom>
              <a:avLst/>
              <a:gdLst/>
              <a:ahLst/>
              <a:rect l="l" t="t" r="r" b="b"/>
              <a:pathLst>
                <a:path w="437" h="2861">
                  <a:moveTo>
                    <a:pt x="233" y="2825"/>
                  </a:moveTo>
                  <a:lnTo>
                    <a:pt x="258" y="2796"/>
                  </a:lnTo>
                  <a:lnTo>
                    <a:pt x="272" y="2768"/>
                  </a:lnTo>
                  <a:lnTo>
                    <a:pt x="300" y="2702"/>
                  </a:lnTo>
                  <a:lnTo>
                    <a:pt x="319" y="2641"/>
                  </a:lnTo>
                  <a:lnTo>
                    <a:pt x="342" y="2554"/>
                  </a:lnTo>
                  <a:lnTo>
                    <a:pt x="352" y="2506"/>
                  </a:lnTo>
                  <a:lnTo>
                    <a:pt x="364" y="2439"/>
                  </a:lnTo>
                  <a:lnTo>
                    <a:pt x="371" y="2404"/>
                  </a:lnTo>
                  <a:lnTo>
                    <a:pt x="384" y="2297"/>
                  </a:lnTo>
                  <a:lnTo>
                    <a:pt x="392" y="2246"/>
                  </a:lnTo>
                  <a:lnTo>
                    <a:pt x="398" y="2186"/>
                  </a:lnTo>
                  <a:lnTo>
                    <a:pt x="416" y="1997"/>
                  </a:lnTo>
                  <a:lnTo>
                    <a:pt x="422" y="1934"/>
                  </a:lnTo>
                  <a:lnTo>
                    <a:pt x="432" y="1746"/>
                  </a:lnTo>
                  <a:lnTo>
                    <a:pt x="434" y="1682"/>
                  </a:lnTo>
                  <a:lnTo>
                    <a:pt x="437" y="1536"/>
                  </a:lnTo>
                  <a:lnTo>
                    <a:pt x="437" y="1495"/>
                  </a:lnTo>
                  <a:lnTo>
                    <a:pt x="435" y="1432"/>
                  </a:lnTo>
                  <a:lnTo>
                    <a:pt x="433" y="1315"/>
                  </a:lnTo>
                  <a:lnTo>
                    <a:pt x="432" y="1241"/>
                  </a:lnTo>
                  <a:lnTo>
                    <a:pt x="432" y="1179"/>
                  </a:lnTo>
                  <a:lnTo>
                    <a:pt x="430" y="1101"/>
                  </a:lnTo>
                  <a:lnTo>
                    <a:pt x="425" y="992"/>
                  </a:lnTo>
                  <a:lnTo>
                    <a:pt x="420" y="928"/>
                  </a:lnTo>
                  <a:lnTo>
                    <a:pt x="416" y="881"/>
                  </a:lnTo>
                  <a:lnTo>
                    <a:pt x="406" y="740"/>
                  </a:lnTo>
                  <a:lnTo>
                    <a:pt x="398" y="676"/>
                  </a:lnTo>
                  <a:lnTo>
                    <a:pt x="377" y="501"/>
                  </a:lnTo>
                  <a:lnTo>
                    <a:pt x="376" y="484"/>
                  </a:lnTo>
                  <a:lnTo>
                    <a:pt x="364" y="421"/>
                  </a:lnTo>
                  <a:lnTo>
                    <a:pt x="347" y="338"/>
                  </a:lnTo>
                  <a:lnTo>
                    <a:pt x="316" y="222"/>
                  </a:lnTo>
                  <a:lnTo>
                    <a:pt x="296" y="156"/>
                  </a:lnTo>
                  <a:lnTo>
                    <a:pt x="293" y="142"/>
                  </a:lnTo>
                  <a:lnTo>
                    <a:pt x="266" y="83"/>
                  </a:lnTo>
                  <a:lnTo>
                    <a:pt x="244" y="42"/>
                  </a:lnTo>
                  <a:lnTo>
                    <a:pt x="211" y="5"/>
                  </a:lnTo>
                  <a:lnTo>
                    <a:pt x="0" y="0"/>
                  </a:lnTo>
                  <a:lnTo>
                    <a:pt x="101" y="80"/>
                  </a:lnTo>
                  <a:lnTo>
                    <a:pt x="131" y="148"/>
                  </a:lnTo>
                  <a:lnTo>
                    <a:pt x="161" y="236"/>
                  </a:lnTo>
                  <a:lnTo>
                    <a:pt x="177" y="308"/>
                  </a:lnTo>
                  <a:lnTo>
                    <a:pt x="190" y="363"/>
                  </a:lnTo>
                  <a:lnTo>
                    <a:pt x="192" y="373"/>
                  </a:lnTo>
                  <a:lnTo>
                    <a:pt x="200" y="429"/>
                  </a:lnTo>
                  <a:lnTo>
                    <a:pt x="216" y="522"/>
                  </a:lnTo>
                  <a:lnTo>
                    <a:pt x="220" y="549"/>
                  </a:lnTo>
                  <a:lnTo>
                    <a:pt x="226" y="612"/>
                  </a:lnTo>
                  <a:lnTo>
                    <a:pt x="234" y="687"/>
                  </a:lnTo>
                  <a:lnTo>
                    <a:pt x="245" y="803"/>
                  </a:lnTo>
                  <a:lnTo>
                    <a:pt x="252" y="865"/>
                  </a:lnTo>
                  <a:lnTo>
                    <a:pt x="256" y="924"/>
                  </a:lnTo>
                  <a:lnTo>
                    <a:pt x="262" y="1055"/>
                  </a:lnTo>
                  <a:lnTo>
                    <a:pt x="264" y="1116"/>
                  </a:lnTo>
                  <a:lnTo>
                    <a:pt x="266" y="1282"/>
                  </a:lnTo>
                  <a:lnTo>
                    <a:pt x="269" y="1344"/>
                  </a:lnTo>
                  <a:lnTo>
                    <a:pt x="271" y="1536"/>
                  </a:lnTo>
                  <a:lnTo>
                    <a:pt x="271" y="1566"/>
                  </a:lnTo>
                  <a:lnTo>
                    <a:pt x="270" y="1627"/>
                  </a:lnTo>
                  <a:lnTo>
                    <a:pt x="266" y="1750"/>
                  </a:lnTo>
                  <a:lnTo>
                    <a:pt x="263" y="1806"/>
                  </a:lnTo>
                  <a:lnTo>
                    <a:pt x="259" y="1867"/>
                  </a:lnTo>
                  <a:lnTo>
                    <a:pt x="253" y="1972"/>
                  </a:lnTo>
                  <a:lnTo>
                    <a:pt x="244" y="2059"/>
                  </a:lnTo>
                  <a:lnTo>
                    <a:pt x="238" y="2121"/>
                  </a:lnTo>
                  <a:lnTo>
                    <a:pt x="233" y="2184"/>
                  </a:lnTo>
                  <a:lnTo>
                    <a:pt x="218" y="2299"/>
                  </a:lnTo>
                  <a:lnTo>
                    <a:pt x="202" y="2413"/>
                  </a:lnTo>
                  <a:lnTo>
                    <a:pt x="185" y="2503"/>
                  </a:lnTo>
                  <a:lnTo>
                    <a:pt x="177" y="2546"/>
                  </a:lnTo>
                  <a:lnTo>
                    <a:pt x="159" y="2614"/>
                  </a:lnTo>
                  <a:lnTo>
                    <a:pt x="154" y="2633"/>
                  </a:lnTo>
                  <a:lnTo>
                    <a:pt x="131" y="2705"/>
                  </a:lnTo>
                  <a:lnTo>
                    <a:pt x="101" y="2777"/>
                  </a:lnTo>
                  <a:lnTo>
                    <a:pt x="155" y="2861"/>
                  </a:lnTo>
                  <a:lnTo>
                    <a:pt x="196" y="2850"/>
                  </a:lnTo>
                  <a:lnTo>
                    <a:pt x="233" y="282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83840" y="233280"/>
              <a:ext cx="903600" cy="199440"/>
            </a:xfrm>
            <a:custGeom>
              <a:avLst/>
              <a:gdLst/>
              <a:ahLst/>
              <a:rect l="l" t="t" r="r" b="b"/>
              <a:pathLst>
                <a:path w="2177" h="384">
                  <a:moveTo>
                    <a:pt x="2177" y="384"/>
                  </a:moveTo>
                  <a:lnTo>
                    <a:pt x="20" y="66"/>
                  </a:lnTo>
                  <a:lnTo>
                    <a:pt x="0" y="0"/>
                  </a:lnTo>
                  <a:lnTo>
                    <a:pt x="2009" y="300"/>
                  </a:lnTo>
                  <a:lnTo>
                    <a:pt x="2177" y="38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12640" y="370800"/>
              <a:ext cx="995400" cy="177480"/>
            </a:xfrm>
            <a:custGeom>
              <a:avLst/>
              <a:gdLst/>
              <a:ahLst/>
              <a:rect l="l" t="t" r="r" b="b"/>
              <a:pathLst>
                <a:path w="2399" h="343">
                  <a:moveTo>
                    <a:pt x="2399" y="343"/>
                  </a:moveTo>
                  <a:lnTo>
                    <a:pt x="12" y="63"/>
                  </a:lnTo>
                  <a:lnTo>
                    <a:pt x="0" y="0"/>
                  </a:lnTo>
                  <a:lnTo>
                    <a:pt x="2329" y="272"/>
                  </a:lnTo>
                  <a:lnTo>
                    <a:pt x="2399" y="34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26320" y="503280"/>
              <a:ext cx="1051560" cy="149400"/>
            </a:xfrm>
            <a:custGeom>
              <a:avLst/>
              <a:gdLst/>
              <a:ahLst/>
              <a:rect l="l" t="t" r="r" b="b"/>
              <a:pathLst>
                <a:path w="2534" h="288">
                  <a:moveTo>
                    <a:pt x="2534" y="288"/>
                  </a:moveTo>
                  <a:lnTo>
                    <a:pt x="8" y="64"/>
                  </a:lnTo>
                  <a:lnTo>
                    <a:pt x="0" y="0"/>
                  </a:lnTo>
                  <a:lnTo>
                    <a:pt x="2486" y="221"/>
                  </a:lnTo>
                  <a:lnTo>
                    <a:pt x="2534" y="28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6040" y="634320"/>
              <a:ext cx="1082880" cy="118440"/>
            </a:xfrm>
            <a:custGeom>
              <a:avLst/>
              <a:gdLst/>
              <a:ahLst/>
              <a:rect l="l" t="t" r="r" b="b"/>
              <a:pathLst>
                <a:path w="2610" h="228">
                  <a:moveTo>
                    <a:pt x="2610" y="228"/>
                  </a:moveTo>
                  <a:lnTo>
                    <a:pt x="5" y="64"/>
                  </a:lnTo>
                  <a:lnTo>
                    <a:pt x="0" y="0"/>
                  </a:lnTo>
                  <a:lnTo>
                    <a:pt x="2579" y="161"/>
                  </a:lnTo>
                  <a:lnTo>
                    <a:pt x="2610" y="22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41080" y="765000"/>
              <a:ext cx="1095480" cy="81000"/>
            </a:xfrm>
            <a:custGeom>
              <a:avLst/>
              <a:gdLst/>
              <a:ahLst/>
              <a:rect l="l" t="t" r="r" b="b"/>
              <a:pathLst>
                <a:path w="2640" h="157">
                  <a:moveTo>
                    <a:pt x="2640" y="157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629" y="94"/>
                  </a:lnTo>
                  <a:lnTo>
                    <a:pt x="2640" y="15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42160" y="896400"/>
              <a:ext cx="1096560" cy="43200"/>
            </a:xfrm>
            <a:custGeom>
              <a:avLst/>
              <a:gdLst/>
              <a:ahLst/>
              <a:rect l="l" t="t" r="r" b="b"/>
              <a:pathLst>
                <a:path w="2644" h="83">
                  <a:moveTo>
                    <a:pt x="2" y="63"/>
                  </a:moveTo>
                  <a:lnTo>
                    <a:pt x="2644" y="83"/>
                  </a:lnTo>
                  <a:lnTo>
                    <a:pt x="2644" y="21"/>
                  </a:lnTo>
                  <a:lnTo>
                    <a:pt x="0" y="0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41080" y="1000800"/>
              <a:ext cx="1092960" cy="59400"/>
            </a:xfrm>
            <a:custGeom>
              <a:avLst/>
              <a:gdLst/>
              <a:ahLst/>
              <a:rect l="l" t="t" r="r" b="b"/>
              <a:pathLst>
                <a:path w="2635" h="114">
                  <a:moveTo>
                    <a:pt x="2620" y="67"/>
                  </a:moveTo>
                  <a:lnTo>
                    <a:pt x="0" y="114"/>
                  </a:lnTo>
                  <a:lnTo>
                    <a:pt x="2" y="50"/>
                  </a:lnTo>
                  <a:lnTo>
                    <a:pt x="2635" y="0"/>
                  </a:lnTo>
                  <a:lnTo>
                    <a:pt x="2620" y="6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33880" y="1095840"/>
              <a:ext cx="1076400" cy="93600"/>
            </a:xfrm>
            <a:custGeom>
              <a:avLst/>
              <a:gdLst/>
              <a:ahLst/>
              <a:rect l="l" t="t" r="r" b="b"/>
              <a:pathLst>
                <a:path w="2595" h="181">
                  <a:moveTo>
                    <a:pt x="2571" y="63"/>
                  </a:moveTo>
                  <a:lnTo>
                    <a:pt x="0" y="181"/>
                  </a:lnTo>
                  <a:lnTo>
                    <a:pt x="6" y="118"/>
                  </a:lnTo>
                  <a:lnTo>
                    <a:pt x="2595" y="0"/>
                  </a:lnTo>
                  <a:lnTo>
                    <a:pt x="2571" y="6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23800" y="1195560"/>
              <a:ext cx="1044360" cy="123120"/>
            </a:xfrm>
            <a:custGeom>
              <a:avLst/>
              <a:gdLst/>
              <a:ahLst/>
              <a:rect l="l" t="t" r="r" b="b"/>
              <a:pathLst>
                <a:path w="2516" h="239">
                  <a:moveTo>
                    <a:pt x="2453" y="64"/>
                  </a:moveTo>
                  <a:lnTo>
                    <a:pt x="0" y="239"/>
                  </a:lnTo>
                  <a:lnTo>
                    <a:pt x="6" y="179"/>
                  </a:lnTo>
                  <a:lnTo>
                    <a:pt x="2516" y="0"/>
                  </a:lnTo>
                  <a:lnTo>
                    <a:pt x="2453" y="6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07600" y="1301760"/>
              <a:ext cx="972000" cy="152640"/>
            </a:xfrm>
            <a:custGeom>
              <a:avLst/>
              <a:gdLst/>
              <a:ahLst/>
              <a:rect l="l" t="t" r="r" b="b"/>
              <a:pathLst>
                <a:path w="2342" h="295">
                  <a:moveTo>
                    <a:pt x="2251" y="71"/>
                  </a:moveTo>
                  <a:lnTo>
                    <a:pt x="0" y="295"/>
                  </a:lnTo>
                  <a:lnTo>
                    <a:pt x="12" y="228"/>
                  </a:lnTo>
                  <a:lnTo>
                    <a:pt x="2342" y="0"/>
                  </a:lnTo>
                  <a:lnTo>
                    <a:pt x="2251" y="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74120" y="1422000"/>
              <a:ext cx="867240" cy="168120"/>
            </a:xfrm>
            <a:custGeom>
              <a:avLst/>
              <a:gdLst/>
              <a:ahLst/>
              <a:rect l="l" t="t" r="r" b="b"/>
              <a:pathLst>
                <a:path w="2089" h="326">
                  <a:moveTo>
                    <a:pt x="1934" y="82"/>
                  </a:moveTo>
                  <a:lnTo>
                    <a:pt x="0" y="326"/>
                  </a:lnTo>
                  <a:lnTo>
                    <a:pt x="28" y="260"/>
                  </a:lnTo>
                  <a:lnTo>
                    <a:pt x="2089" y="0"/>
                  </a:lnTo>
                  <a:lnTo>
                    <a:pt x="1934" y="8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31360" y="186480"/>
              <a:ext cx="115560" cy="1431720"/>
            </a:xfrm>
            <a:custGeom>
              <a:avLst/>
              <a:gdLst/>
              <a:ahLst/>
              <a:rect l="l" t="t" r="r" b="b"/>
              <a:pathLst>
                <a:path w="280" h="2755">
                  <a:moveTo>
                    <a:pt x="0" y="0"/>
                  </a:moveTo>
                  <a:lnTo>
                    <a:pt x="69" y="180"/>
                  </a:lnTo>
                  <a:lnTo>
                    <a:pt x="102" y="344"/>
                  </a:lnTo>
                  <a:lnTo>
                    <a:pt x="135" y="548"/>
                  </a:lnTo>
                  <a:lnTo>
                    <a:pt x="161" y="755"/>
                  </a:lnTo>
                  <a:lnTo>
                    <a:pt x="180" y="960"/>
                  </a:lnTo>
                  <a:lnTo>
                    <a:pt x="192" y="1169"/>
                  </a:lnTo>
                  <a:lnTo>
                    <a:pt x="195" y="1378"/>
                  </a:lnTo>
                  <a:lnTo>
                    <a:pt x="193" y="1584"/>
                  </a:lnTo>
                  <a:lnTo>
                    <a:pt x="183" y="1792"/>
                  </a:lnTo>
                  <a:lnTo>
                    <a:pt x="167" y="2000"/>
                  </a:lnTo>
                  <a:lnTo>
                    <a:pt x="140" y="2206"/>
                  </a:lnTo>
                  <a:lnTo>
                    <a:pt x="109" y="2411"/>
                  </a:lnTo>
                  <a:lnTo>
                    <a:pt x="69" y="2616"/>
                  </a:lnTo>
                  <a:lnTo>
                    <a:pt x="22" y="2755"/>
                  </a:lnTo>
                  <a:lnTo>
                    <a:pt x="108" y="2755"/>
                  </a:lnTo>
                  <a:lnTo>
                    <a:pt x="156" y="2616"/>
                  </a:lnTo>
                  <a:lnTo>
                    <a:pt x="194" y="2411"/>
                  </a:lnTo>
                  <a:lnTo>
                    <a:pt x="227" y="2206"/>
                  </a:lnTo>
                  <a:lnTo>
                    <a:pt x="252" y="2000"/>
                  </a:lnTo>
                  <a:lnTo>
                    <a:pt x="267" y="1792"/>
                  </a:lnTo>
                  <a:lnTo>
                    <a:pt x="278" y="1584"/>
                  </a:lnTo>
                  <a:lnTo>
                    <a:pt x="280" y="1378"/>
                  </a:lnTo>
                  <a:lnTo>
                    <a:pt x="276" y="1169"/>
                  </a:lnTo>
                  <a:lnTo>
                    <a:pt x="265" y="960"/>
                  </a:lnTo>
                  <a:lnTo>
                    <a:pt x="247" y="755"/>
                  </a:lnTo>
                  <a:lnTo>
                    <a:pt x="221" y="548"/>
                  </a:lnTo>
                  <a:lnTo>
                    <a:pt x="188" y="344"/>
                  </a:lnTo>
                  <a:lnTo>
                    <a:pt x="156" y="180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59520" y="212760"/>
              <a:ext cx="108360" cy="1388160"/>
            </a:xfrm>
            <a:custGeom>
              <a:avLst/>
              <a:gdLst/>
              <a:ahLst/>
              <a:rect l="l" t="t" r="r" b="b"/>
              <a:pathLst>
                <a:path w="262" h="2671">
                  <a:moveTo>
                    <a:pt x="0" y="2671"/>
                  </a:moveTo>
                  <a:lnTo>
                    <a:pt x="53" y="2554"/>
                  </a:lnTo>
                  <a:lnTo>
                    <a:pt x="90" y="2359"/>
                  </a:lnTo>
                  <a:lnTo>
                    <a:pt x="122" y="2154"/>
                  </a:lnTo>
                  <a:lnTo>
                    <a:pt x="148" y="1948"/>
                  </a:lnTo>
                  <a:lnTo>
                    <a:pt x="165" y="1740"/>
                  </a:lnTo>
                  <a:lnTo>
                    <a:pt x="174" y="1532"/>
                  </a:lnTo>
                  <a:lnTo>
                    <a:pt x="177" y="1326"/>
                  </a:lnTo>
                  <a:lnTo>
                    <a:pt x="172" y="1117"/>
                  </a:lnTo>
                  <a:lnTo>
                    <a:pt x="161" y="908"/>
                  </a:lnTo>
                  <a:lnTo>
                    <a:pt x="142" y="703"/>
                  </a:lnTo>
                  <a:lnTo>
                    <a:pt x="117" y="496"/>
                  </a:lnTo>
                  <a:lnTo>
                    <a:pt x="84" y="292"/>
                  </a:lnTo>
                  <a:lnTo>
                    <a:pt x="51" y="128"/>
                  </a:lnTo>
                  <a:lnTo>
                    <a:pt x="10" y="0"/>
                  </a:lnTo>
                  <a:lnTo>
                    <a:pt x="101" y="16"/>
                  </a:lnTo>
                  <a:lnTo>
                    <a:pt x="137" y="128"/>
                  </a:lnTo>
                  <a:lnTo>
                    <a:pt x="170" y="292"/>
                  </a:lnTo>
                  <a:lnTo>
                    <a:pt x="202" y="496"/>
                  </a:lnTo>
                  <a:lnTo>
                    <a:pt x="227" y="703"/>
                  </a:lnTo>
                  <a:lnTo>
                    <a:pt x="246" y="908"/>
                  </a:lnTo>
                  <a:lnTo>
                    <a:pt x="257" y="1117"/>
                  </a:lnTo>
                  <a:lnTo>
                    <a:pt x="262" y="1326"/>
                  </a:lnTo>
                  <a:lnTo>
                    <a:pt x="259" y="1532"/>
                  </a:lnTo>
                  <a:lnTo>
                    <a:pt x="249" y="1740"/>
                  </a:lnTo>
                  <a:lnTo>
                    <a:pt x="233" y="1948"/>
                  </a:lnTo>
                  <a:lnTo>
                    <a:pt x="208" y="2154"/>
                  </a:lnTo>
                  <a:lnTo>
                    <a:pt x="176" y="2359"/>
                  </a:lnTo>
                  <a:lnTo>
                    <a:pt x="137" y="2564"/>
                  </a:lnTo>
                  <a:lnTo>
                    <a:pt x="105" y="2654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84080" y="241200"/>
              <a:ext cx="105840" cy="1334880"/>
            </a:xfrm>
            <a:custGeom>
              <a:avLst/>
              <a:gdLst/>
              <a:ahLst/>
              <a:rect l="l" t="t" r="r" b="b"/>
              <a:pathLst>
                <a:path w="253" h="2569">
                  <a:moveTo>
                    <a:pt x="0" y="2569"/>
                  </a:moveTo>
                  <a:lnTo>
                    <a:pt x="44" y="2494"/>
                  </a:lnTo>
                  <a:lnTo>
                    <a:pt x="82" y="2305"/>
                  </a:lnTo>
                  <a:lnTo>
                    <a:pt x="113" y="2100"/>
                  </a:lnTo>
                  <a:lnTo>
                    <a:pt x="137" y="1894"/>
                  </a:lnTo>
                  <a:lnTo>
                    <a:pt x="155" y="1686"/>
                  </a:lnTo>
                  <a:lnTo>
                    <a:pt x="166" y="1478"/>
                  </a:lnTo>
                  <a:lnTo>
                    <a:pt x="168" y="1272"/>
                  </a:lnTo>
                  <a:lnTo>
                    <a:pt x="163" y="1063"/>
                  </a:lnTo>
                  <a:lnTo>
                    <a:pt x="153" y="854"/>
                  </a:lnTo>
                  <a:lnTo>
                    <a:pt x="133" y="649"/>
                  </a:lnTo>
                  <a:lnTo>
                    <a:pt x="107" y="442"/>
                  </a:lnTo>
                  <a:lnTo>
                    <a:pt x="75" y="238"/>
                  </a:lnTo>
                  <a:lnTo>
                    <a:pt x="38" y="74"/>
                  </a:lnTo>
                  <a:lnTo>
                    <a:pt x="11" y="0"/>
                  </a:lnTo>
                  <a:lnTo>
                    <a:pt x="100" y="15"/>
                  </a:lnTo>
                  <a:lnTo>
                    <a:pt x="123" y="74"/>
                  </a:lnTo>
                  <a:lnTo>
                    <a:pt x="160" y="238"/>
                  </a:lnTo>
                  <a:lnTo>
                    <a:pt x="192" y="442"/>
                  </a:lnTo>
                  <a:lnTo>
                    <a:pt x="219" y="649"/>
                  </a:lnTo>
                  <a:lnTo>
                    <a:pt x="238" y="854"/>
                  </a:lnTo>
                  <a:lnTo>
                    <a:pt x="249" y="1063"/>
                  </a:lnTo>
                  <a:lnTo>
                    <a:pt x="253" y="1272"/>
                  </a:lnTo>
                  <a:lnTo>
                    <a:pt x="251" y="1478"/>
                  </a:lnTo>
                  <a:lnTo>
                    <a:pt x="240" y="1686"/>
                  </a:lnTo>
                  <a:lnTo>
                    <a:pt x="222" y="1894"/>
                  </a:lnTo>
                  <a:lnTo>
                    <a:pt x="198" y="2100"/>
                  </a:lnTo>
                  <a:lnTo>
                    <a:pt x="167" y="2305"/>
                  </a:lnTo>
                  <a:lnTo>
                    <a:pt x="133" y="2490"/>
                  </a:lnTo>
                  <a:lnTo>
                    <a:pt x="100" y="2552"/>
                  </a:lnTo>
                  <a:lnTo>
                    <a:pt x="0" y="2569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09360" y="264600"/>
              <a:ext cx="100440" cy="1284840"/>
            </a:xfrm>
            <a:custGeom>
              <a:avLst/>
              <a:gdLst/>
              <a:ahLst/>
              <a:rect l="l" t="t" r="r" b="b"/>
              <a:pathLst>
                <a:path w="242" h="2470">
                  <a:moveTo>
                    <a:pt x="4" y="2470"/>
                  </a:moveTo>
                  <a:lnTo>
                    <a:pt x="42" y="2375"/>
                  </a:lnTo>
                  <a:lnTo>
                    <a:pt x="70" y="2259"/>
                  </a:lnTo>
                  <a:lnTo>
                    <a:pt x="101" y="2054"/>
                  </a:lnTo>
                  <a:lnTo>
                    <a:pt x="127" y="1848"/>
                  </a:lnTo>
                  <a:lnTo>
                    <a:pt x="143" y="1640"/>
                  </a:lnTo>
                  <a:lnTo>
                    <a:pt x="154" y="1432"/>
                  </a:lnTo>
                  <a:lnTo>
                    <a:pt x="157" y="1226"/>
                  </a:lnTo>
                  <a:lnTo>
                    <a:pt x="152" y="1017"/>
                  </a:lnTo>
                  <a:lnTo>
                    <a:pt x="140" y="808"/>
                  </a:lnTo>
                  <a:lnTo>
                    <a:pt x="122" y="603"/>
                  </a:lnTo>
                  <a:lnTo>
                    <a:pt x="97" y="396"/>
                  </a:lnTo>
                  <a:lnTo>
                    <a:pt x="64" y="192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48" y="192"/>
                  </a:lnTo>
                  <a:lnTo>
                    <a:pt x="182" y="396"/>
                  </a:lnTo>
                  <a:lnTo>
                    <a:pt x="207" y="603"/>
                  </a:lnTo>
                  <a:lnTo>
                    <a:pt x="226" y="808"/>
                  </a:lnTo>
                  <a:lnTo>
                    <a:pt x="237" y="1017"/>
                  </a:lnTo>
                  <a:lnTo>
                    <a:pt x="242" y="1226"/>
                  </a:lnTo>
                  <a:lnTo>
                    <a:pt x="239" y="1432"/>
                  </a:lnTo>
                  <a:lnTo>
                    <a:pt x="229" y="1640"/>
                  </a:lnTo>
                  <a:lnTo>
                    <a:pt x="212" y="1848"/>
                  </a:lnTo>
                  <a:lnTo>
                    <a:pt x="188" y="2054"/>
                  </a:lnTo>
                  <a:lnTo>
                    <a:pt x="155" y="2259"/>
                  </a:lnTo>
                  <a:lnTo>
                    <a:pt x="127" y="2370"/>
                  </a:lnTo>
                  <a:lnTo>
                    <a:pt x="100" y="2454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32840" y="289440"/>
              <a:ext cx="97920" cy="1235160"/>
            </a:xfrm>
            <a:custGeom>
              <a:avLst/>
              <a:gdLst/>
              <a:ahLst/>
              <a:rect l="l" t="t" r="r" b="b"/>
              <a:pathLst>
                <a:path w="238" h="2374">
                  <a:moveTo>
                    <a:pt x="0" y="0"/>
                  </a:moveTo>
                  <a:lnTo>
                    <a:pt x="60" y="144"/>
                  </a:lnTo>
                  <a:lnTo>
                    <a:pt x="92" y="348"/>
                  </a:lnTo>
                  <a:lnTo>
                    <a:pt x="117" y="555"/>
                  </a:lnTo>
                  <a:lnTo>
                    <a:pt x="136" y="760"/>
                  </a:lnTo>
                  <a:lnTo>
                    <a:pt x="147" y="969"/>
                  </a:lnTo>
                  <a:lnTo>
                    <a:pt x="152" y="1178"/>
                  </a:lnTo>
                  <a:lnTo>
                    <a:pt x="151" y="1384"/>
                  </a:lnTo>
                  <a:lnTo>
                    <a:pt x="139" y="1592"/>
                  </a:lnTo>
                  <a:lnTo>
                    <a:pt x="122" y="1800"/>
                  </a:lnTo>
                  <a:lnTo>
                    <a:pt x="98" y="2006"/>
                  </a:lnTo>
                  <a:lnTo>
                    <a:pt x="64" y="2211"/>
                  </a:lnTo>
                  <a:lnTo>
                    <a:pt x="48" y="2290"/>
                  </a:lnTo>
                  <a:lnTo>
                    <a:pt x="15" y="2374"/>
                  </a:lnTo>
                  <a:lnTo>
                    <a:pt x="111" y="2363"/>
                  </a:lnTo>
                  <a:lnTo>
                    <a:pt x="136" y="2279"/>
                  </a:lnTo>
                  <a:lnTo>
                    <a:pt x="152" y="2211"/>
                  </a:lnTo>
                  <a:lnTo>
                    <a:pt x="183" y="2006"/>
                  </a:lnTo>
                  <a:lnTo>
                    <a:pt x="207" y="1800"/>
                  </a:lnTo>
                  <a:lnTo>
                    <a:pt x="224" y="1592"/>
                  </a:lnTo>
                  <a:lnTo>
                    <a:pt x="235" y="1384"/>
                  </a:lnTo>
                  <a:lnTo>
                    <a:pt x="238" y="1178"/>
                  </a:lnTo>
                  <a:lnTo>
                    <a:pt x="233" y="969"/>
                  </a:lnTo>
                  <a:lnTo>
                    <a:pt x="223" y="760"/>
                  </a:lnTo>
                  <a:lnTo>
                    <a:pt x="204" y="555"/>
                  </a:lnTo>
                  <a:lnTo>
                    <a:pt x="177" y="348"/>
                  </a:lnTo>
                  <a:lnTo>
                    <a:pt x="144" y="144"/>
                  </a:lnTo>
                  <a:lnTo>
                    <a:pt x="9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62080" y="318960"/>
              <a:ext cx="90720" cy="1183680"/>
            </a:xfrm>
            <a:custGeom>
              <a:avLst/>
              <a:gdLst/>
              <a:ahLst/>
              <a:rect l="l" t="t" r="r" b="b"/>
              <a:pathLst>
                <a:path w="219" h="2275">
                  <a:moveTo>
                    <a:pt x="0" y="2275"/>
                  </a:moveTo>
                  <a:lnTo>
                    <a:pt x="46" y="2154"/>
                  </a:lnTo>
                  <a:lnTo>
                    <a:pt x="78" y="1949"/>
                  </a:lnTo>
                  <a:lnTo>
                    <a:pt x="104" y="1743"/>
                  </a:lnTo>
                  <a:lnTo>
                    <a:pt x="120" y="1535"/>
                  </a:lnTo>
                  <a:lnTo>
                    <a:pt x="131" y="1327"/>
                  </a:lnTo>
                  <a:lnTo>
                    <a:pt x="134" y="1121"/>
                  </a:lnTo>
                  <a:lnTo>
                    <a:pt x="128" y="912"/>
                  </a:lnTo>
                  <a:lnTo>
                    <a:pt x="117" y="703"/>
                  </a:lnTo>
                  <a:lnTo>
                    <a:pt x="99" y="498"/>
                  </a:lnTo>
                  <a:lnTo>
                    <a:pt x="72" y="291"/>
                  </a:lnTo>
                  <a:lnTo>
                    <a:pt x="40" y="87"/>
                  </a:lnTo>
                  <a:lnTo>
                    <a:pt x="0" y="0"/>
                  </a:lnTo>
                  <a:lnTo>
                    <a:pt x="90" y="12"/>
                  </a:lnTo>
                  <a:lnTo>
                    <a:pt x="124" y="87"/>
                  </a:lnTo>
                  <a:lnTo>
                    <a:pt x="159" y="291"/>
                  </a:lnTo>
                  <a:lnTo>
                    <a:pt x="184" y="498"/>
                  </a:lnTo>
                  <a:lnTo>
                    <a:pt x="202" y="703"/>
                  </a:lnTo>
                  <a:lnTo>
                    <a:pt x="214" y="912"/>
                  </a:lnTo>
                  <a:lnTo>
                    <a:pt x="219" y="1121"/>
                  </a:lnTo>
                  <a:lnTo>
                    <a:pt x="216" y="1327"/>
                  </a:lnTo>
                  <a:lnTo>
                    <a:pt x="205" y="1535"/>
                  </a:lnTo>
                  <a:lnTo>
                    <a:pt x="187" y="1743"/>
                  </a:lnTo>
                  <a:lnTo>
                    <a:pt x="163" y="1949"/>
                  </a:lnTo>
                  <a:lnTo>
                    <a:pt x="131" y="2154"/>
                  </a:lnTo>
                  <a:lnTo>
                    <a:pt x="96" y="2258"/>
                  </a:lnTo>
                  <a:lnTo>
                    <a:pt x="0" y="2275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00680" y="376560"/>
              <a:ext cx="73080" cy="1071720"/>
            </a:xfrm>
            <a:custGeom>
              <a:avLst/>
              <a:gdLst/>
              <a:ahLst/>
              <a:rect l="l" t="t" r="r" b="b"/>
              <a:pathLst>
                <a:path w="178" h="2060">
                  <a:moveTo>
                    <a:pt x="0" y="2060"/>
                  </a:moveTo>
                  <a:lnTo>
                    <a:pt x="6" y="2043"/>
                  </a:lnTo>
                  <a:lnTo>
                    <a:pt x="38" y="1838"/>
                  </a:lnTo>
                  <a:lnTo>
                    <a:pt x="62" y="1632"/>
                  </a:lnTo>
                  <a:lnTo>
                    <a:pt x="79" y="1424"/>
                  </a:lnTo>
                  <a:lnTo>
                    <a:pt x="91" y="1216"/>
                  </a:lnTo>
                  <a:lnTo>
                    <a:pt x="92" y="1010"/>
                  </a:lnTo>
                  <a:lnTo>
                    <a:pt x="87" y="801"/>
                  </a:lnTo>
                  <a:lnTo>
                    <a:pt x="75" y="592"/>
                  </a:lnTo>
                  <a:lnTo>
                    <a:pt x="58" y="387"/>
                  </a:lnTo>
                  <a:lnTo>
                    <a:pt x="32" y="180"/>
                  </a:lnTo>
                  <a:lnTo>
                    <a:pt x="3" y="0"/>
                  </a:lnTo>
                  <a:lnTo>
                    <a:pt x="93" y="43"/>
                  </a:lnTo>
                  <a:lnTo>
                    <a:pt x="117" y="180"/>
                  </a:lnTo>
                  <a:lnTo>
                    <a:pt x="142" y="387"/>
                  </a:lnTo>
                  <a:lnTo>
                    <a:pt x="161" y="592"/>
                  </a:lnTo>
                  <a:lnTo>
                    <a:pt x="172" y="801"/>
                  </a:lnTo>
                  <a:lnTo>
                    <a:pt x="178" y="1010"/>
                  </a:lnTo>
                  <a:lnTo>
                    <a:pt x="175" y="1216"/>
                  </a:lnTo>
                  <a:lnTo>
                    <a:pt x="165" y="1424"/>
                  </a:lnTo>
                  <a:lnTo>
                    <a:pt x="146" y="1632"/>
                  </a:lnTo>
                  <a:lnTo>
                    <a:pt x="122" y="1838"/>
                  </a:lnTo>
                  <a:lnTo>
                    <a:pt x="95" y="2009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33880" y="469080"/>
              <a:ext cx="60840" cy="876240"/>
            </a:xfrm>
            <a:custGeom>
              <a:avLst/>
              <a:gdLst/>
              <a:ahLst/>
              <a:rect l="l" t="t" r="r" b="b"/>
              <a:pathLst>
                <a:path w="148" h="1686">
                  <a:moveTo>
                    <a:pt x="1" y="1686"/>
                  </a:moveTo>
                  <a:lnTo>
                    <a:pt x="7" y="1663"/>
                  </a:lnTo>
                  <a:lnTo>
                    <a:pt x="32" y="1457"/>
                  </a:lnTo>
                  <a:lnTo>
                    <a:pt x="49" y="1249"/>
                  </a:lnTo>
                  <a:lnTo>
                    <a:pt x="59" y="1041"/>
                  </a:lnTo>
                  <a:lnTo>
                    <a:pt x="62" y="835"/>
                  </a:lnTo>
                  <a:lnTo>
                    <a:pt x="56" y="626"/>
                  </a:lnTo>
                  <a:lnTo>
                    <a:pt x="46" y="417"/>
                  </a:lnTo>
                  <a:lnTo>
                    <a:pt x="28" y="212"/>
                  </a:lnTo>
                  <a:lnTo>
                    <a:pt x="0" y="0"/>
                  </a:lnTo>
                  <a:lnTo>
                    <a:pt x="88" y="68"/>
                  </a:lnTo>
                  <a:lnTo>
                    <a:pt x="112" y="212"/>
                  </a:lnTo>
                  <a:lnTo>
                    <a:pt x="132" y="417"/>
                  </a:lnTo>
                  <a:lnTo>
                    <a:pt x="143" y="626"/>
                  </a:lnTo>
                  <a:lnTo>
                    <a:pt x="148" y="835"/>
                  </a:lnTo>
                  <a:lnTo>
                    <a:pt x="144" y="1041"/>
                  </a:lnTo>
                  <a:lnTo>
                    <a:pt x="133" y="1249"/>
                  </a:lnTo>
                  <a:lnTo>
                    <a:pt x="116" y="1457"/>
                  </a:lnTo>
                  <a:lnTo>
                    <a:pt x="95" y="1616"/>
                  </a:lnTo>
                  <a:lnTo>
                    <a:pt x="1" y="1686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769240" y="634320"/>
              <a:ext cx="46080" cy="555120"/>
            </a:xfrm>
            <a:custGeom>
              <a:avLst/>
              <a:gdLst/>
              <a:ahLst/>
              <a:rect l="l" t="t" r="r" b="b"/>
              <a:pathLst>
                <a:path w="112" h="1068">
                  <a:moveTo>
                    <a:pt x="0" y="1068"/>
                  </a:moveTo>
                  <a:lnTo>
                    <a:pt x="12" y="929"/>
                  </a:lnTo>
                  <a:lnTo>
                    <a:pt x="24" y="721"/>
                  </a:lnTo>
                  <a:lnTo>
                    <a:pt x="28" y="515"/>
                  </a:lnTo>
                  <a:lnTo>
                    <a:pt x="22" y="306"/>
                  </a:lnTo>
                  <a:lnTo>
                    <a:pt x="10" y="97"/>
                  </a:lnTo>
                  <a:lnTo>
                    <a:pt x="0" y="0"/>
                  </a:lnTo>
                  <a:lnTo>
                    <a:pt x="95" y="175"/>
                  </a:lnTo>
                  <a:lnTo>
                    <a:pt x="108" y="306"/>
                  </a:lnTo>
                  <a:lnTo>
                    <a:pt x="112" y="515"/>
                  </a:lnTo>
                  <a:lnTo>
                    <a:pt x="109" y="721"/>
                  </a:lnTo>
                  <a:lnTo>
                    <a:pt x="100" y="890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06800" y="273600"/>
              <a:ext cx="44280" cy="1179000"/>
            </a:xfrm>
            <a:custGeom>
              <a:avLst/>
              <a:gdLst/>
              <a:ahLst/>
              <a:rect l="l" t="t" r="r" b="b"/>
              <a:pathLst>
                <a:path w="109" h="2267">
                  <a:moveTo>
                    <a:pt x="81" y="127"/>
                  </a:moveTo>
                  <a:lnTo>
                    <a:pt x="91" y="193"/>
                  </a:lnTo>
                  <a:lnTo>
                    <a:pt x="82" y="305"/>
                  </a:lnTo>
                  <a:lnTo>
                    <a:pt x="68" y="578"/>
                  </a:lnTo>
                  <a:lnTo>
                    <a:pt x="58" y="850"/>
                  </a:lnTo>
                  <a:lnTo>
                    <a:pt x="57" y="1124"/>
                  </a:lnTo>
                  <a:lnTo>
                    <a:pt x="63" y="1396"/>
                  </a:lnTo>
                  <a:lnTo>
                    <a:pt x="76" y="1669"/>
                  </a:lnTo>
                  <a:lnTo>
                    <a:pt x="96" y="1940"/>
                  </a:lnTo>
                  <a:lnTo>
                    <a:pt x="109" y="2062"/>
                  </a:lnTo>
                  <a:lnTo>
                    <a:pt x="93" y="2177"/>
                  </a:lnTo>
                  <a:lnTo>
                    <a:pt x="76" y="2267"/>
                  </a:lnTo>
                  <a:lnTo>
                    <a:pt x="59" y="2122"/>
                  </a:lnTo>
                  <a:lnTo>
                    <a:pt x="54" y="2061"/>
                  </a:lnTo>
                  <a:lnTo>
                    <a:pt x="41" y="1940"/>
                  </a:lnTo>
                  <a:lnTo>
                    <a:pt x="20" y="1669"/>
                  </a:lnTo>
                  <a:lnTo>
                    <a:pt x="6" y="1396"/>
                  </a:lnTo>
                  <a:lnTo>
                    <a:pt x="0" y="1124"/>
                  </a:lnTo>
                  <a:lnTo>
                    <a:pt x="2" y="850"/>
                  </a:lnTo>
                  <a:lnTo>
                    <a:pt x="10" y="578"/>
                  </a:lnTo>
                  <a:lnTo>
                    <a:pt x="26" y="305"/>
                  </a:lnTo>
                  <a:lnTo>
                    <a:pt x="41" y="132"/>
                  </a:lnTo>
                  <a:lnTo>
                    <a:pt x="45" y="70"/>
                  </a:lnTo>
                  <a:lnTo>
                    <a:pt x="48" y="34"/>
                  </a:lnTo>
                  <a:lnTo>
                    <a:pt x="52" y="0"/>
                  </a:lnTo>
                  <a:lnTo>
                    <a:pt x="81" y="12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920" y="304920"/>
              <a:ext cx="57240" cy="3744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35" y="73"/>
                  </a:moveTo>
                  <a:lnTo>
                    <a:pt x="0" y="61"/>
                  </a:lnTo>
                  <a:lnTo>
                    <a:pt x="14" y="0"/>
                  </a:lnTo>
                  <a:lnTo>
                    <a:pt x="139" y="11"/>
                  </a:lnTo>
                  <a:lnTo>
                    <a:pt x="135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52080" y="428400"/>
              <a:ext cx="103320" cy="41760"/>
            </a:xfrm>
            <a:custGeom>
              <a:avLst/>
              <a:gdLst/>
              <a:ahLst/>
              <a:rect l="l" t="t" r="r" b="b"/>
              <a:pathLst>
                <a:path w="250" h="80">
                  <a:moveTo>
                    <a:pt x="3" y="40"/>
                  </a:moveTo>
                  <a:lnTo>
                    <a:pt x="0" y="62"/>
                  </a:lnTo>
                  <a:lnTo>
                    <a:pt x="250" y="80"/>
                  </a:lnTo>
                  <a:lnTo>
                    <a:pt x="244" y="17"/>
                  </a:lnTo>
                  <a:lnTo>
                    <a:pt x="10" y="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42000" y="560880"/>
              <a:ext cx="124200" cy="40320"/>
            </a:xfrm>
            <a:custGeom>
              <a:avLst/>
              <a:gdLst/>
              <a:ahLst/>
              <a:rect l="l" t="t" r="r" b="b"/>
              <a:pathLst>
                <a:path w="300" h="77">
                  <a:moveTo>
                    <a:pt x="300" y="77"/>
                  </a:moveTo>
                  <a:lnTo>
                    <a:pt x="0" y="6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293" y="15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34440" y="693720"/>
              <a:ext cx="136800" cy="38880"/>
            </a:xfrm>
            <a:custGeom>
              <a:avLst/>
              <a:gdLst/>
              <a:ahLst/>
              <a:rect l="l" t="t" r="r" b="b"/>
              <a:pathLst>
                <a:path w="328" h="74">
                  <a:moveTo>
                    <a:pt x="0" y="62"/>
                  </a:moveTo>
                  <a:lnTo>
                    <a:pt x="328" y="74"/>
                  </a:lnTo>
                  <a:lnTo>
                    <a:pt x="326" y="13"/>
                  </a:lnTo>
                  <a:lnTo>
                    <a:pt x="3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33360" y="815040"/>
              <a:ext cx="138960" cy="36000"/>
            </a:xfrm>
            <a:custGeom>
              <a:avLst/>
              <a:gdLst/>
              <a:ahLst/>
              <a:rect l="l" t="t" r="r" b="b"/>
              <a:pathLst>
                <a:path w="337" h="68">
                  <a:moveTo>
                    <a:pt x="337" y="68"/>
                  </a:moveTo>
                  <a:lnTo>
                    <a:pt x="0" y="61"/>
                  </a:lnTo>
                  <a:lnTo>
                    <a:pt x="1" y="0"/>
                  </a:lnTo>
                  <a:lnTo>
                    <a:pt x="334" y="6"/>
                  </a:lnTo>
                  <a:lnTo>
                    <a:pt x="337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33360" y="966240"/>
              <a:ext cx="140400" cy="30960"/>
            </a:xfrm>
            <a:custGeom>
              <a:avLst/>
              <a:gdLst/>
              <a:ahLst/>
              <a:rect l="l" t="t" r="r" b="b"/>
              <a:pathLst>
                <a:path w="340" h="61">
                  <a:moveTo>
                    <a:pt x="339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39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36960" y="1091160"/>
              <a:ext cx="133200" cy="37440"/>
            </a:xfrm>
            <a:custGeom>
              <a:avLst/>
              <a:gdLst/>
              <a:ahLst/>
              <a:rect l="l" t="t" r="r" b="b"/>
              <a:pathLst>
                <a:path w="323" h="73">
                  <a:moveTo>
                    <a:pt x="4" y="73"/>
                  </a:moveTo>
                  <a:lnTo>
                    <a:pt x="319" y="61"/>
                  </a:lnTo>
                  <a:lnTo>
                    <a:pt x="323" y="0"/>
                  </a:lnTo>
                  <a:lnTo>
                    <a:pt x="0" y="12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44520" y="1222200"/>
              <a:ext cx="118080" cy="403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78" y="62"/>
                  </a:moveTo>
                  <a:lnTo>
                    <a:pt x="4" y="77"/>
                  </a:lnTo>
                  <a:lnTo>
                    <a:pt x="0" y="15"/>
                  </a:lnTo>
                  <a:lnTo>
                    <a:pt x="284" y="0"/>
                  </a:lnTo>
                  <a:lnTo>
                    <a:pt x="278" y="6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54600" y="1345680"/>
              <a:ext cx="77040" cy="40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185" y="61"/>
                  </a:moveTo>
                  <a:lnTo>
                    <a:pt x="9" y="78"/>
                  </a:lnTo>
                  <a:lnTo>
                    <a:pt x="6" y="61"/>
                  </a:lnTo>
                  <a:lnTo>
                    <a:pt x="0" y="18"/>
                  </a:lnTo>
                  <a:lnTo>
                    <a:pt x="180" y="0"/>
                  </a:lnTo>
                  <a:lnTo>
                    <a:pt x="185" y="6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5480" y="1474920"/>
              <a:ext cx="59760" cy="43200"/>
            </a:xfrm>
            <a:custGeom>
              <a:avLst/>
              <a:gdLst/>
              <a:ahLst/>
              <a:rect l="l" t="t" r="r" b="b"/>
              <a:pathLst>
                <a:path w="144" h="82">
                  <a:moveTo>
                    <a:pt x="126" y="68"/>
                  </a:moveTo>
                  <a:lnTo>
                    <a:pt x="14" y="82"/>
                  </a:lnTo>
                  <a:lnTo>
                    <a:pt x="0" y="20"/>
                  </a:lnTo>
                  <a:lnTo>
                    <a:pt x="144" y="0"/>
                  </a:lnTo>
                  <a:lnTo>
                    <a:pt x="126" y="6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a85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685800" cy="4521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200400" y="30481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6172200" y="30481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2286000" y="30481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4191120" y="3048120"/>
            <a:ext cx="684000" cy="4521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685800" cy="4525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9"/>
          <a:stretch/>
        </p:blipFill>
        <p:spPr>
          <a:xfrm>
            <a:off x="1295280" y="36576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0"/>
          <a:stretch/>
        </p:blipFill>
        <p:spPr>
          <a:xfrm>
            <a:off x="3200400" y="36576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1"/>
          <a:stretch/>
        </p:blipFill>
        <p:spPr>
          <a:xfrm>
            <a:off x="5181480" y="36576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6172200" y="36576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3"/>
          <a:stretch/>
        </p:blipFill>
        <p:spPr>
          <a:xfrm>
            <a:off x="2286000" y="36576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4"/>
          <a:stretch/>
        </p:blipFill>
        <p:spPr>
          <a:xfrm>
            <a:off x="4191120" y="3657600"/>
            <a:ext cx="684000" cy="4525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5"/>
          <a:stretch/>
        </p:blipFill>
        <p:spPr>
          <a:xfrm>
            <a:off x="304920" y="4267080"/>
            <a:ext cx="685800" cy="4525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6"/>
          <a:stretch/>
        </p:blipFill>
        <p:spPr>
          <a:xfrm>
            <a:off x="1295280" y="42670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7"/>
          <a:stretch/>
        </p:blipFill>
        <p:spPr>
          <a:xfrm>
            <a:off x="3200400" y="42670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8"/>
          <a:stretch/>
        </p:blipFill>
        <p:spPr>
          <a:xfrm>
            <a:off x="5181480" y="42670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9"/>
          <a:stretch/>
        </p:blipFill>
        <p:spPr>
          <a:xfrm>
            <a:off x="6172200" y="42670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0"/>
          <a:stretch/>
        </p:blipFill>
        <p:spPr>
          <a:xfrm>
            <a:off x="2286000" y="42670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1"/>
          <a:stretch/>
        </p:blipFill>
        <p:spPr>
          <a:xfrm>
            <a:off x="4191120" y="4267080"/>
            <a:ext cx="684000" cy="452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2"/>
          <a:stretch/>
        </p:blipFill>
        <p:spPr>
          <a:xfrm>
            <a:off x="304920" y="4876920"/>
            <a:ext cx="685800" cy="4521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3"/>
          <a:stretch/>
        </p:blipFill>
        <p:spPr>
          <a:xfrm>
            <a:off x="1295280" y="48769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4"/>
          <a:stretch/>
        </p:blipFill>
        <p:spPr>
          <a:xfrm>
            <a:off x="3200400" y="48769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5"/>
          <a:stretch/>
        </p:blipFill>
        <p:spPr>
          <a:xfrm>
            <a:off x="5181480" y="48769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6"/>
          <a:stretch/>
        </p:blipFill>
        <p:spPr>
          <a:xfrm>
            <a:off x="6172200" y="48769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7"/>
          <a:stretch/>
        </p:blipFill>
        <p:spPr>
          <a:xfrm>
            <a:off x="2286000" y="4876920"/>
            <a:ext cx="684360" cy="4521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8"/>
          <a:stretch/>
        </p:blipFill>
        <p:spPr>
          <a:xfrm>
            <a:off x="4191120" y="4876920"/>
            <a:ext cx="684000" cy="452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9"/>
          <a:stretch/>
        </p:blipFill>
        <p:spPr>
          <a:xfrm>
            <a:off x="304920" y="5486400"/>
            <a:ext cx="685800" cy="452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0"/>
          <a:stretch/>
        </p:blipFill>
        <p:spPr>
          <a:xfrm>
            <a:off x="1295280" y="54864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1"/>
          <a:stretch/>
        </p:blipFill>
        <p:spPr>
          <a:xfrm>
            <a:off x="3200400" y="54864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2"/>
          <a:stretch/>
        </p:blipFill>
        <p:spPr>
          <a:xfrm>
            <a:off x="5181480" y="54864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3"/>
          <a:stretch/>
        </p:blipFill>
        <p:spPr>
          <a:xfrm>
            <a:off x="6172200" y="54864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4"/>
          <a:stretch/>
        </p:blipFill>
        <p:spPr>
          <a:xfrm>
            <a:off x="2286000" y="548640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5"/>
          <a:stretch/>
        </p:blipFill>
        <p:spPr>
          <a:xfrm>
            <a:off x="4191120" y="5486400"/>
            <a:ext cx="684000" cy="452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6"/>
          <a:stretch/>
        </p:blipFill>
        <p:spPr>
          <a:xfrm>
            <a:off x="304920" y="6095880"/>
            <a:ext cx="685800" cy="4525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7"/>
          <a:stretch/>
        </p:blipFill>
        <p:spPr>
          <a:xfrm>
            <a:off x="1295280" y="60958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8"/>
          <a:stretch/>
        </p:blipFill>
        <p:spPr>
          <a:xfrm>
            <a:off x="3200400" y="60958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9"/>
          <a:stretch/>
        </p:blipFill>
        <p:spPr>
          <a:xfrm>
            <a:off x="5181480" y="60958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0"/>
          <a:stretch/>
        </p:blipFill>
        <p:spPr>
          <a:xfrm>
            <a:off x="6172200" y="60958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1"/>
          <a:stretch/>
        </p:blipFill>
        <p:spPr>
          <a:xfrm>
            <a:off x="2286000" y="6095880"/>
            <a:ext cx="684360" cy="4525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2"/>
          <a:stretch/>
        </p:blipFill>
        <p:spPr>
          <a:xfrm>
            <a:off x="4191120" y="6095880"/>
            <a:ext cx="684000" cy="4525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3"/>
          <a:stretch/>
        </p:blipFill>
        <p:spPr>
          <a:xfrm>
            <a:off x="7467480" y="297180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4"/>
          <a:stretch/>
        </p:blipFill>
        <p:spPr>
          <a:xfrm>
            <a:off x="7467480" y="39625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5"/>
          <a:stretch/>
        </p:blipFill>
        <p:spPr>
          <a:xfrm>
            <a:off x="7467480" y="48769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6"/>
          <a:stretch/>
        </p:blipFill>
        <p:spPr>
          <a:xfrm>
            <a:off x="7467480" y="5791320"/>
            <a:ext cx="10670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1600200" y="30492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2819520" y="30492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2819520" y="121932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7"/>
          <a:stretch/>
        </p:blipFill>
        <p:spPr>
          <a:xfrm>
            <a:off x="4038480" y="3049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4038480" y="1219320"/>
            <a:ext cx="1067040" cy="7905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9"/>
          <a:stretch/>
        </p:blipFill>
        <p:spPr>
          <a:xfrm>
            <a:off x="5410080" y="22860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0"/>
          <a:stretch/>
        </p:blipFill>
        <p:spPr>
          <a:xfrm>
            <a:off x="7238880" y="22860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11"/>
          <a:stretch/>
        </p:blipFill>
        <p:spPr>
          <a:xfrm>
            <a:off x="5410080" y="129528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12"/>
          <a:stretch/>
        </p:blipFill>
        <p:spPr>
          <a:xfrm>
            <a:off x="3657600" y="2362320"/>
            <a:ext cx="1585800" cy="7747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13"/>
          <a:stretch/>
        </p:blipFill>
        <p:spPr>
          <a:xfrm>
            <a:off x="7238880" y="129528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14"/>
          <a:stretch/>
        </p:blipFill>
        <p:spPr>
          <a:xfrm>
            <a:off x="5334120" y="2362320"/>
            <a:ext cx="1585800" cy="7747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15"/>
          <a:stretch/>
        </p:blipFill>
        <p:spPr>
          <a:xfrm>
            <a:off x="7238880" y="236232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16"/>
          <a:stretch/>
        </p:blipFill>
        <p:spPr>
          <a:xfrm>
            <a:off x="1905120" y="2362320"/>
            <a:ext cx="1585800" cy="774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7"/>
          <a:stretch/>
        </p:blipFill>
        <p:spPr>
          <a:xfrm>
            <a:off x="152280" y="243828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8"/>
          <a:stretch/>
        </p:blipFill>
        <p:spPr>
          <a:xfrm>
            <a:off x="152280" y="3352680"/>
            <a:ext cx="1586160" cy="774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9"/>
          <a:srcRect l="50312" t="0" r="0" b="43620"/>
          <a:stretch/>
        </p:blipFill>
        <p:spPr>
          <a:xfrm>
            <a:off x="1905120" y="327672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0"/>
          <a:srcRect l="50312" t="0" r="0" b="43620"/>
          <a:stretch/>
        </p:blipFill>
        <p:spPr>
          <a:xfrm>
            <a:off x="3276720" y="327672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1"/>
          <a:srcRect l="50312" t="0" r="0" b="43620"/>
          <a:stretch/>
        </p:blipFill>
        <p:spPr>
          <a:xfrm>
            <a:off x="4648320" y="327672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2"/>
          <a:srcRect l="50312" t="0" r="0" b="43620"/>
          <a:stretch/>
        </p:blipFill>
        <p:spPr>
          <a:xfrm>
            <a:off x="6019920" y="327672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3"/>
          <a:srcRect l="50312" t="0" r="0" b="43620"/>
          <a:stretch/>
        </p:blipFill>
        <p:spPr>
          <a:xfrm>
            <a:off x="7391520" y="327672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4"/>
          <a:srcRect l="50312" t="0" r="0" b="43620"/>
          <a:stretch/>
        </p:blipFill>
        <p:spPr>
          <a:xfrm>
            <a:off x="228600" y="457200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5"/>
          <a:srcRect l="50312" t="0" r="0" b="43620"/>
          <a:stretch/>
        </p:blipFill>
        <p:spPr>
          <a:xfrm>
            <a:off x="1600200" y="457200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6"/>
          <a:srcRect l="50312" t="0" r="0" b="43620"/>
          <a:stretch/>
        </p:blipFill>
        <p:spPr>
          <a:xfrm>
            <a:off x="2971800" y="457200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7"/>
          <a:srcRect l="50312" t="0" r="0" b="43620"/>
          <a:stretch/>
        </p:blipFill>
        <p:spPr>
          <a:xfrm>
            <a:off x="4343400" y="457200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8"/>
          <a:srcRect l="50312" t="0" r="0" b="43620"/>
          <a:stretch/>
        </p:blipFill>
        <p:spPr>
          <a:xfrm>
            <a:off x="5715000" y="4572000"/>
            <a:ext cx="1600200" cy="13190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9"/>
          <a:srcRect l="50312" t="0" r="0" b="43620"/>
          <a:stretch/>
        </p:blipFill>
        <p:spPr>
          <a:xfrm>
            <a:off x="7315200" y="4572000"/>
            <a:ext cx="16002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152280" y="228600"/>
            <a:ext cx="941400" cy="1365120"/>
            <a:chOff x="152280" y="228600"/>
            <a:chExt cx="941400" cy="1365120"/>
          </a:xfrm>
        </p:grpSpPr>
        <p:sp>
          <p:nvSpPr>
            <p:cNvPr id="606" name=""/>
            <p:cNvSpPr/>
            <p:nvPr/>
          </p:nvSpPr>
          <p:spPr>
            <a:xfrm>
              <a:off x="44964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224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984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664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636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680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16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16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064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4136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00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1836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04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320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212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556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492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136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092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804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60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032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776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636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224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9792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6732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97560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3356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616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7892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5212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528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792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44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352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228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084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064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228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5212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1836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664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636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680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660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708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224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032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76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6732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448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448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7056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816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332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212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140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384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692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7544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92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4456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9792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804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804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3248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448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300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7236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48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371600" y="1905120"/>
            <a:ext cx="941400" cy="1365120"/>
            <a:chOff x="1371600" y="1905120"/>
            <a:chExt cx="941400" cy="1365120"/>
          </a:xfrm>
        </p:grpSpPr>
        <p:sp>
          <p:nvSpPr>
            <p:cNvPr id="681" name=""/>
            <p:cNvSpPr/>
            <p:nvPr/>
          </p:nvSpPr>
          <p:spPr>
            <a:xfrm>
              <a:off x="1668960" y="326736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51560" y="326736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49160" y="293112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85960" y="284256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85680" y="313920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96120" y="269928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17480" y="246996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17480" y="235980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59960" y="244260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660680" y="261792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42320" y="233820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7680" y="218880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38360" y="217620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22520" y="216648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21440" y="234144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04880" y="233244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04240" y="212796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60680" y="225972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80240" y="228420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77360" y="227844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71600" y="224784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65920" y="228420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19640" y="207864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57080" y="201384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35680" y="207792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01560" y="206208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0960" y="275508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17240" y="260568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86640" y="230400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194920" y="234144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52880" y="224784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65480" y="227844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8240" y="228420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71440" y="204444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64600" y="198936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7240" y="194724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94760" y="194508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32840" y="191484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371600" y="191484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0160" y="246996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9960" y="244260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71600" y="191484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71440" y="204444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7680" y="218880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85960" y="284256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85680" y="313920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6120" y="269928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65920" y="228420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36400" y="207792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01560" y="206208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19640" y="207864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57080" y="201312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86640" y="230400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3800" y="190512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03800" y="190512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89880" y="234144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17480" y="235908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2640" y="233820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21440" y="216540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20720" y="234144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03160" y="233244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56240" y="215136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94760" y="194400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37240" y="194616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63880" y="198828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17240" y="260460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77360" y="191484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77360" y="227736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51800" y="227736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03800" y="225972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17480" y="293004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42320" y="261828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91680" y="275508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03800" y="225972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286000" y="228600"/>
            <a:ext cx="941400" cy="1365120"/>
            <a:chOff x="2286000" y="228600"/>
            <a:chExt cx="941400" cy="1365120"/>
          </a:xfrm>
        </p:grpSpPr>
        <p:sp>
          <p:nvSpPr>
            <p:cNvPr id="756" name=""/>
            <p:cNvSpPr/>
            <p:nvPr/>
          </p:nvSpPr>
          <p:spPr>
            <a:xfrm>
              <a:off x="2583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65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63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00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00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10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31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31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74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575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56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52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52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36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35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19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8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75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94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91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0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534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71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50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15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05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1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01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3109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67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79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12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85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79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51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09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47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54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74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6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85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52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00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0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10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80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50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15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34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71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01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8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8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04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31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67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35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35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17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0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09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951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978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1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91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91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66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18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31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56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06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18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429000" y="228600"/>
            <a:ext cx="941400" cy="1365120"/>
            <a:chOff x="3429000" y="228600"/>
            <a:chExt cx="941400" cy="1365120"/>
          </a:xfrm>
        </p:grpSpPr>
        <p:sp>
          <p:nvSpPr>
            <p:cNvPr id="831" name=""/>
            <p:cNvSpPr/>
            <p:nvPr/>
          </p:nvSpPr>
          <p:spPr>
            <a:xfrm>
              <a:off x="3726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08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06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43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43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953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74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74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17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3718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99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95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79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78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62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61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18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37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34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29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23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7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14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93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58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48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74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44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4252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10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22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55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28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22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94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52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90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29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97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17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29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28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95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3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43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53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23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93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58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7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14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44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61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1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47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4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10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78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78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60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3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52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94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21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74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34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34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09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61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74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99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49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61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572000" y="228600"/>
            <a:ext cx="941400" cy="1365120"/>
            <a:chOff x="4572000" y="228600"/>
            <a:chExt cx="941400" cy="1365120"/>
          </a:xfrm>
        </p:grpSpPr>
        <p:sp>
          <p:nvSpPr>
            <p:cNvPr id="906" name=""/>
            <p:cNvSpPr/>
            <p:nvPr/>
          </p:nvSpPr>
          <p:spPr>
            <a:xfrm>
              <a:off x="4869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51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49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86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86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96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17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17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60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861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42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38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38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22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21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05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904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1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80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77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72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66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20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57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36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01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91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17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87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5395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53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65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98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71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65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7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95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33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72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40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60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2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71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38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86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86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96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66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6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701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20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57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87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804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04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90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17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3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21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21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03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56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95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37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264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17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7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7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52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04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17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42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92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04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5715000" y="228600"/>
            <a:ext cx="941400" cy="1365120"/>
            <a:chOff x="5715000" y="228600"/>
            <a:chExt cx="941400" cy="1365120"/>
          </a:xfrm>
        </p:grpSpPr>
        <p:sp>
          <p:nvSpPr>
            <p:cNvPr id="981" name=""/>
            <p:cNvSpPr/>
            <p:nvPr/>
          </p:nvSpPr>
          <p:spPr>
            <a:xfrm>
              <a:off x="6012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94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2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29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229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39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60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960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03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004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85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81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81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65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64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48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47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04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23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20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715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9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63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000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79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44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34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60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30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6538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96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08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41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14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408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80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338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76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715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83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003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15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14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81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129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29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39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09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79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44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3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00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30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47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47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33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60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96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64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64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46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99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38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80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07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60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20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20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95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947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0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85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35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47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6858000" y="228600"/>
            <a:ext cx="941400" cy="1365120"/>
            <a:chOff x="6858000" y="228600"/>
            <a:chExt cx="941400" cy="1365120"/>
          </a:xfrm>
        </p:grpSpPr>
        <p:sp>
          <p:nvSpPr>
            <p:cNvPr id="1056" name=""/>
            <p:cNvSpPr/>
            <p:nvPr/>
          </p:nvSpPr>
          <p:spPr>
            <a:xfrm>
              <a:off x="7155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37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35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72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72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82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03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03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146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7147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28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24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124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08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107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91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190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47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66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63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58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2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06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43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22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87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77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03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673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7681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39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51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784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57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51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23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81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19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58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26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46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58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57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24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72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72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82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52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22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87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6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43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73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90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90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76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03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439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07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9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42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81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23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550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703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63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63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738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090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03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128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678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090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8001000" y="228600"/>
            <a:ext cx="941400" cy="1365120"/>
            <a:chOff x="8001000" y="228600"/>
            <a:chExt cx="941400" cy="1365120"/>
          </a:xfrm>
        </p:grpSpPr>
        <p:sp>
          <p:nvSpPr>
            <p:cNvPr id="1131" name=""/>
            <p:cNvSpPr/>
            <p:nvPr/>
          </p:nvSpPr>
          <p:spPr>
            <a:xfrm>
              <a:off x="829836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58096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27856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415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515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52552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4688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4688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289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829008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27172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6708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26776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25192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25084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23428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3364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9008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09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0676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010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95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49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8648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6508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130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82036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84664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81604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882432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8228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89488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92764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70084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69400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66664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62416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56224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00100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26956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8936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0100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70084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76708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41536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51508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52552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532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6580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3096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4904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28648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81604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3320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3320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81928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4688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58204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25084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25012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33256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8564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2416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66664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69328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84664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0676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0676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88120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3320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4688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27172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82108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23320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228600" y="1905120"/>
            <a:ext cx="941400" cy="1365120"/>
            <a:chOff x="228600" y="1905120"/>
            <a:chExt cx="941400" cy="1365120"/>
          </a:xfrm>
        </p:grpSpPr>
        <p:sp>
          <p:nvSpPr>
            <p:cNvPr id="1206" name=""/>
            <p:cNvSpPr/>
            <p:nvPr/>
          </p:nvSpPr>
          <p:spPr>
            <a:xfrm>
              <a:off x="525960" y="326736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8560" y="326736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6160" y="293112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2960" y="284256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2680" y="313920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3120" y="269928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74480" y="246996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4480" y="235980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6960" y="244260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17680" y="261792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9320" y="233820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94680" y="218880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5360" y="217620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9520" y="216648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78440" y="234144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1880" y="233244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61240" y="212796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7680" y="225972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7240" y="228420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4360" y="227844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8600" y="224784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2920" y="228420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6640" y="207864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14080" y="201384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2680" y="207792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8560" y="206208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047960" y="275508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74240" y="260568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43640" y="230400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 flipV="1">
              <a:off x="1051920" y="234144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09880" y="224784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22480" y="227844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155240" y="228420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28440" y="204444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21600" y="198936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94240" y="194724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51760" y="194508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89840" y="191484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600" y="191484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97160" y="246996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6960" y="244260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8600" y="191484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28440" y="204444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94680" y="218880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2960" y="284256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2680" y="313920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3120" y="269928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2920" y="228420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3400" y="207792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58560" y="206208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76640" y="207864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4080" y="201312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043640" y="230400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0800" y="190512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0800" y="190512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46880" y="234144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74480" y="235908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9640" y="233820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8440" y="216540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7720" y="234144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60160" y="233244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13240" y="215136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1760" y="194400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94240" y="194616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920880" y="198828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74240" y="260460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34360" y="191484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4360" y="227736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08800" y="227736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0800" y="225972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4480" y="293004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9320" y="261828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48680" y="275508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0800" y="225972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219320" y="228600"/>
            <a:ext cx="941400" cy="1365120"/>
            <a:chOff x="1219320" y="228600"/>
            <a:chExt cx="941400" cy="1365120"/>
          </a:xfrm>
        </p:grpSpPr>
        <p:sp>
          <p:nvSpPr>
            <p:cNvPr id="1281" name=""/>
            <p:cNvSpPr/>
            <p:nvPr/>
          </p:nvSpPr>
          <p:spPr>
            <a:xfrm>
              <a:off x="1516680" y="1590840"/>
              <a:ext cx="74520" cy="2880"/>
            </a:xfrm>
            <a:custGeom>
              <a:avLst/>
              <a:gdLst/>
              <a:ahLst/>
              <a:rect l="l" t="t" r="r" b="b"/>
              <a:pathLst>
                <a:path w="303" h="11">
                  <a:moveTo>
                    <a:pt x="0" y="0"/>
                  </a:moveTo>
                  <a:lnTo>
                    <a:pt x="74" y="9"/>
                  </a:lnTo>
                  <a:lnTo>
                    <a:pt x="151" y="11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799280" y="1590840"/>
              <a:ext cx="74880" cy="2880"/>
            </a:xfrm>
            <a:custGeom>
              <a:avLst/>
              <a:gdLst/>
              <a:ahLst/>
              <a:rect l="l" t="t" r="r" b="b"/>
              <a:pathLst>
                <a:path w="304" h="11">
                  <a:moveTo>
                    <a:pt x="0" y="0"/>
                  </a:moveTo>
                  <a:lnTo>
                    <a:pt x="152" y="11"/>
                  </a:lnTo>
                  <a:lnTo>
                    <a:pt x="229" y="9"/>
                  </a:lnTo>
                  <a:lnTo>
                    <a:pt x="257" y="8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496880" y="1254600"/>
              <a:ext cx="1440" cy="124560"/>
            </a:xfrm>
            <a:custGeom>
              <a:avLst/>
              <a:gdLst/>
              <a:ahLst/>
              <a:rect l="l" t="t" r="r" b="b"/>
              <a:pathLst>
                <a:path w="6" h="512">
                  <a:moveTo>
                    <a:pt x="5" y="512"/>
                  </a:moveTo>
                  <a:lnTo>
                    <a:pt x="6" y="2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3368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8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73340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743840" y="1022760"/>
              <a:ext cx="26280" cy="384120"/>
            </a:xfrm>
            <a:custGeom>
              <a:avLst/>
              <a:gdLst/>
              <a:ahLst/>
              <a:rect l="l" t="t" r="r" b="b"/>
              <a:pathLst>
                <a:path w="109" h="1564">
                  <a:moveTo>
                    <a:pt x="92" y="1564"/>
                  </a:moveTo>
                  <a:lnTo>
                    <a:pt x="104" y="1448"/>
                  </a:lnTo>
                  <a:lnTo>
                    <a:pt x="109" y="1338"/>
                  </a:lnTo>
                  <a:lnTo>
                    <a:pt x="109" y="1230"/>
                  </a:lnTo>
                  <a:lnTo>
                    <a:pt x="104" y="1128"/>
                  </a:lnTo>
                  <a:lnTo>
                    <a:pt x="86" y="932"/>
                  </a:lnTo>
                  <a:lnTo>
                    <a:pt x="59" y="746"/>
                  </a:lnTo>
                  <a:lnTo>
                    <a:pt x="32" y="563"/>
                  </a:lnTo>
                  <a:lnTo>
                    <a:pt x="10" y="381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65200" y="793440"/>
              <a:ext cx="435240" cy="528840"/>
            </a:xfrm>
            <a:custGeom>
              <a:avLst/>
              <a:gdLst/>
              <a:ahLst/>
              <a:rect l="l" t="t" r="r" b="b"/>
              <a:pathLst>
                <a:path w="1772" h="2150">
                  <a:moveTo>
                    <a:pt x="0" y="2150"/>
                  </a:moveTo>
                  <a:lnTo>
                    <a:pt x="12" y="2097"/>
                  </a:lnTo>
                  <a:lnTo>
                    <a:pt x="31" y="2042"/>
                  </a:lnTo>
                  <a:lnTo>
                    <a:pt x="58" y="1988"/>
                  </a:lnTo>
                  <a:lnTo>
                    <a:pt x="89" y="1934"/>
                  </a:lnTo>
                  <a:lnTo>
                    <a:pt x="127" y="1881"/>
                  </a:lnTo>
                  <a:lnTo>
                    <a:pt x="169" y="1827"/>
                  </a:lnTo>
                  <a:lnTo>
                    <a:pt x="268" y="1717"/>
                  </a:lnTo>
                  <a:lnTo>
                    <a:pt x="385" y="1606"/>
                  </a:lnTo>
                  <a:lnTo>
                    <a:pt x="513" y="1491"/>
                  </a:lnTo>
                  <a:lnTo>
                    <a:pt x="794" y="1250"/>
                  </a:lnTo>
                  <a:lnTo>
                    <a:pt x="941" y="1122"/>
                  </a:lnTo>
                  <a:lnTo>
                    <a:pt x="1086" y="987"/>
                  </a:lnTo>
                  <a:lnTo>
                    <a:pt x="1229" y="845"/>
                  </a:lnTo>
                  <a:lnTo>
                    <a:pt x="1365" y="695"/>
                  </a:lnTo>
                  <a:lnTo>
                    <a:pt x="1490" y="537"/>
                  </a:lnTo>
                  <a:lnTo>
                    <a:pt x="1548" y="454"/>
                  </a:lnTo>
                  <a:lnTo>
                    <a:pt x="1602" y="369"/>
                  </a:lnTo>
                  <a:lnTo>
                    <a:pt x="1651" y="280"/>
                  </a:lnTo>
                  <a:lnTo>
                    <a:pt x="1697" y="190"/>
                  </a:lnTo>
                  <a:lnTo>
                    <a:pt x="1736" y="97"/>
                  </a:lnTo>
                  <a:lnTo>
                    <a:pt x="17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65200" y="683280"/>
              <a:ext cx="430560" cy="537480"/>
            </a:xfrm>
            <a:custGeom>
              <a:avLst/>
              <a:gdLst/>
              <a:ahLst/>
              <a:rect l="l" t="t" r="r" b="b"/>
              <a:pathLst>
                <a:path w="1746" h="2187">
                  <a:moveTo>
                    <a:pt x="0" y="2187"/>
                  </a:moveTo>
                  <a:lnTo>
                    <a:pt x="28" y="2107"/>
                  </a:lnTo>
                  <a:lnTo>
                    <a:pt x="64" y="2030"/>
                  </a:lnTo>
                  <a:lnTo>
                    <a:pt x="104" y="1957"/>
                  </a:lnTo>
                  <a:lnTo>
                    <a:pt x="149" y="1885"/>
                  </a:lnTo>
                  <a:lnTo>
                    <a:pt x="199" y="1817"/>
                  </a:lnTo>
                  <a:lnTo>
                    <a:pt x="252" y="1750"/>
                  </a:lnTo>
                  <a:lnTo>
                    <a:pt x="370" y="1624"/>
                  </a:lnTo>
                  <a:lnTo>
                    <a:pt x="499" y="1504"/>
                  </a:lnTo>
                  <a:lnTo>
                    <a:pt x="637" y="1387"/>
                  </a:lnTo>
                  <a:lnTo>
                    <a:pt x="922" y="1158"/>
                  </a:lnTo>
                  <a:lnTo>
                    <a:pt x="1065" y="1043"/>
                  </a:lnTo>
                  <a:lnTo>
                    <a:pt x="1202" y="923"/>
                  </a:lnTo>
                  <a:lnTo>
                    <a:pt x="1268" y="860"/>
                  </a:lnTo>
                  <a:lnTo>
                    <a:pt x="1332" y="796"/>
                  </a:lnTo>
                  <a:lnTo>
                    <a:pt x="1449" y="661"/>
                  </a:lnTo>
                  <a:lnTo>
                    <a:pt x="1503" y="590"/>
                  </a:lnTo>
                  <a:lnTo>
                    <a:pt x="1554" y="516"/>
                  </a:lnTo>
                  <a:lnTo>
                    <a:pt x="1599" y="440"/>
                  </a:lnTo>
                  <a:lnTo>
                    <a:pt x="1639" y="359"/>
                  </a:lnTo>
                  <a:lnTo>
                    <a:pt x="1676" y="275"/>
                  </a:lnTo>
                  <a:lnTo>
                    <a:pt x="1705" y="187"/>
                  </a:lnTo>
                  <a:lnTo>
                    <a:pt x="1729" y="96"/>
                  </a:lnTo>
                  <a:lnTo>
                    <a:pt x="17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0768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63" y="1085"/>
                  </a:lnTo>
                  <a:lnTo>
                    <a:pt x="134" y="1014"/>
                  </a:lnTo>
                  <a:lnTo>
                    <a:pt x="211" y="944"/>
                  </a:lnTo>
                  <a:lnTo>
                    <a:pt x="292" y="874"/>
                  </a:lnTo>
                  <a:lnTo>
                    <a:pt x="466" y="733"/>
                  </a:lnTo>
                  <a:lnTo>
                    <a:pt x="644" y="593"/>
                  </a:lnTo>
                  <a:lnTo>
                    <a:pt x="814" y="449"/>
                  </a:lnTo>
                  <a:lnTo>
                    <a:pt x="895" y="377"/>
                  </a:lnTo>
                  <a:lnTo>
                    <a:pt x="970" y="304"/>
                  </a:lnTo>
                  <a:lnTo>
                    <a:pt x="1038" y="229"/>
                  </a:lnTo>
                  <a:lnTo>
                    <a:pt x="1098" y="155"/>
                  </a:lnTo>
                  <a:lnTo>
                    <a:pt x="1148" y="77"/>
                  </a:lnTo>
                  <a:lnTo>
                    <a:pt x="11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1508400" y="941400"/>
              <a:ext cx="108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90040" y="661680"/>
              <a:ext cx="427320" cy="332280"/>
            </a:xfrm>
            <a:custGeom>
              <a:avLst/>
              <a:gdLst/>
              <a:ahLst/>
              <a:rect l="l" t="t" r="r" b="b"/>
              <a:pathLst>
                <a:path w="1736" h="1352">
                  <a:moveTo>
                    <a:pt x="0" y="1352"/>
                  </a:moveTo>
                  <a:lnTo>
                    <a:pt x="8" y="1301"/>
                  </a:lnTo>
                  <a:lnTo>
                    <a:pt x="20" y="1254"/>
                  </a:lnTo>
                  <a:lnTo>
                    <a:pt x="35" y="1210"/>
                  </a:lnTo>
                  <a:lnTo>
                    <a:pt x="56" y="1171"/>
                  </a:lnTo>
                  <a:lnTo>
                    <a:pt x="85" y="1134"/>
                  </a:lnTo>
                  <a:lnTo>
                    <a:pt x="120" y="1100"/>
                  </a:lnTo>
                  <a:lnTo>
                    <a:pt x="168" y="1069"/>
                  </a:lnTo>
                  <a:lnTo>
                    <a:pt x="224" y="1042"/>
                  </a:lnTo>
                  <a:lnTo>
                    <a:pt x="419" y="953"/>
                  </a:lnTo>
                  <a:lnTo>
                    <a:pt x="616" y="850"/>
                  </a:lnTo>
                  <a:lnTo>
                    <a:pt x="813" y="734"/>
                  </a:lnTo>
                  <a:lnTo>
                    <a:pt x="1008" y="607"/>
                  </a:lnTo>
                  <a:lnTo>
                    <a:pt x="1200" y="468"/>
                  </a:lnTo>
                  <a:lnTo>
                    <a:pt x="1386" y="320"/>
                  </a:lnTo>
                  <a:lnTo>
                    <a:pt x="1565" y="163"/>
                  </a:lnTo>
                  <a:lnTo>
                    <a:pt x="17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985400" y="512280"/>
              <a:ext cx="110160" cy="74520"/>
            </a:xfrm>
            <a:custGeom>
              <a:avLst/>
              <a:gdLst/>
              <a:ahLst/>
              <a:rect l="l" t="t" r="r" b="b"/>
              <a:pathLst>
                <a:path w="448" h="303">
                  <a:moveTo>
                    <a:pt x="0" y="303"/>
                  </a:moveTo>
                  <a:lnTo>
                    <a:pt x="88" y="188"/>
                  </a:lnTo>
                  <a:lnTo>
                    <a:pt x="140" y="127"/>
                  </a:lnTo>
                  <a:lnTo>
                    <a:pt x="194" y="72"/>
                  </a:lnTo>
                  <a:lnTo>
                    <a:pt x="252" y="28"/>
                  </a:lnTo>
                  <a:lnTo>
                    <a:pt x="283" y="13"/>
                  </a:lnTo>
                  <a:lnTo>
                    <a:pt x="315" y="2"/>
                  </a:lnTo>
                  <a:lnTo>
                    <a:pt x="348" y="0"/>
                  </a:lnTo>
                  <a:lnTo>
                    <a:pt x="380" y="2"/>
                  </a:lnTo>
                  <a:lnTo>
                    <a:pt x="414" y="13"/>
                  </a:lnTo>
                  <a:lnTo>
                    <a:pt x="44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486080" y="499680"/>
              <a:ext cx="609480" cy="367560"/>
            </a:xfrm>
            <a:custGeom>
              <a:avLst/>
              <a:gdLst/>
              <a:ahLst/>
              <a:rect l="l" t="t" r="r" b="b"/>
              <a:pathLst>
                <a:path w="2477" h="1495">
                  <a:moveTo>
                    <a:pt x="0" y="1495"/>
                  </a:moveTo>
                  <a:lnTo>
                    <a:pt x="23" y="1446"/>
                  </a:lnTo>
                  <a:lnTo>
                    <a:pt x="49" y="1401"/>
                  </a:lnTo>
                  <a:lnTo>
                    <a:pt x="80" y="1359"/>
                  </a:lnTo>
                  <a:lnTo>
                    <a:pt x="114" y="1319"/>
                  </a:lnTo>
                  <a:lnTo>
                    <a:pt x="195" y="1249"/>
                  </a:lnTo>
                  <a:lnTo>
                    <a:pt x="288" y="1186"/>
                  </a:lnTo>
                  <a:lnTo>
                    <a:pt x="394" y="1128"/>
                  </a:lnTo>
                  <a:lnTo>
                    <a:pt x="511" y="1076"/>
                  </a:lnTo>
                  <a:lnTo>
                    <a:pt x="767" y="974"/>
                  </a:lnTo>
                  <a:lnTo>
                    <a:pt x="1046" y="861"/>
                  </a:lnTo>
                  <a:lnTo>
                    <a:pt x="1190" y="796"/>
                  </a:lnTo>
                  <a:lnTo>
                    <a:pt x="1335" y="721"/>
                  </a:lnTo>
                  <a:lnTo>
                    <a:pt x="1479" y="636"/>
                  </a:lnTo>
                  <a:lnTo>
                    <a:pt x="1622" y="537"/>
                  </a:lnTo>
                  <a:lnTo>
                    <a:pt x="1691" y="482"/>
                  </a:lnTo>
                  <a:lnTo>
                    <a:pt x="1760" y="423"/>
                  </a:lnTo>
                  <a:lnTo>
                    <a:pt x="1828" y="359"/>
                  </a:lnTo>
                  <a:lnTo>
                    <a:pt x="1894" y="291"/>
                  </a:lnTo>
                  <a:lnTo>
                    <a:pt x="1963" y="217"/>
                  </a:lnTo>
                  <a:lnTo>
                    <a:pt x="2036" y="148"/>
                  </a:lnTo>
                  <a:lnTo>
                    <a:pt x="2112" y="85"/>
                  </a:lnTo>
                  <a:lnTo>
                    <a:pt x="2150" y="59"/>
                  </a:lnTo>
                  <a:lnTo>
                    <a:pt x="2188" y="37"/>
                  </a:lnTo>
                  <a:lnTo>
                    <a:pt x="2227" y="19"/>
                  </a:lnTo>
                  <a:lnTo>
                    <a:pt x="2265" y="7"/>
                  </a:lnTo>
                  <a:lnTo>
                    <a:pt x="2302" y="0"/>
                  </a:lnTo>
                  <a:lnTo>
                    <a:pt x="2340" y="2"/>
                  </a:lnTo>
                  <a:lnTo>
                    <a:pt x="2375" y="9"/>
                  </a:lnTo>
                  <a:lnTo>
                    <a:pt x="2411" y="25"/>
                  </a:lnTo>
                  <a:lnTo>
                    <a:pt x="2445" y="50"/>
                  </a:lnTo>
                  <a:lnTo>
                    <a:pt x="247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70240" y="489960"/>
              <a:ext cx="624960" cy="252360"/>
            </a:xfrm>
            <a:custGeom>
              <a:avLst/>
              <a:gdLst/>
              <a:ahLst/>
              <a:rect l="l" t="t" r="r" b="b"/>
              <a:pathLst>
                <a:path w="2542" h="1031">
                  <a:moveTo>
                    <a:pt x="0" y="1031"/>
                  </a:moveTo>
                  <a:lnTo>
                    <a:pt x="7" y="1018"/>
                  </a:lnTo>
                  <a:lnTo>
                    <a:pt x="17" y="1006"/>
                  </a:lnTo>
                  <a:lnTo>
                    <a:pt x="44" y="987"/>
                  </a:lnTo>
                  <a:lnTo>
                    <a:pt x="84" y="974"/>
                  </a:lnTo>
                  <a:lnTo>
                    <a:pt x="132" y="963"/>
                  </a:lnTo>
                  <a:lnTo>
                    <a:pt x="258" y="949"/>
                  </a:lnTo>
                  <a:lnTo>
                    <a:pt x="417" y="937"/>
                  </a:lnTo>
                  <a:lnTo>
                    <a:pt x="607" y="916"/>
                  </a:lnTo>
                  <a:lnTo>
                    <a:pt x="822" y="878"/>
                  </a:lnTo>
                  <a:lnTo>
                    <a:pt x="938" y="851"/>
                  </a:lnTo>
                  <a:lnTo>
                    <a:pt x="1059" y="815"/>
                  </a:lnTo>
                  <a:lnTo>
                    <a:pt x="1183" y="771"/>
                  </a:lnTo>
                  <a:lnTo>
                    <a:pt x="1311" y="716"/>
                  </a:lnTo>
                  <a:lnTo>
                    <a:pt x="1435" y="652"/>
                  </a:lnTo>
                  <a:lnTo>
                    <a:pt x="1549" y="582"/>
                  </a:lnTo>
                  <a:lnTo>
                    <a:pt x="1655" y="508"/>
                  </a:lnTo>
                  <a:lnTo>
                    <a:pt x="1753" y="432"/>
                  </a:lnTo>
                  <a:lnTo>
                    <a:pt x="1927" y="281"/>
                  </a:lnTo>
                  <a:lnTo>
                    <a:pt x="2078" y="148"/>
                  </a:lnTo>
                  <a:lnTo>
                    <a:pt x="2146" y="92"/>
                  </a:lnTo>
                  <a:lnTo>
                    <a:pt x="2210" y="48"/>
                  </a:lnTo>
                  <a:lnTo>
                    <a:pt x="2270" y="17"/>
                  </a:lnTo>
                  <a:lnTo>
                    <a:pt x="2328" y="0"/>
                  </a:lnTo>
                  <a:lnTo>
                    <a:pt x="2383" y="1"/>
                  </a:lnTo>
                  <a:lnTo>
                    <a:pt x="2410" y="9"/>
                  </a:lnTo>
                  <a:lnTo>
                    <a:pt x="2436" y="21"/>
                  </a:lnTo>
                  <a:lnTo>
                    <a:pt x="2462" y="39"/>
                  </a:lnTo>
                  <a:lnTo>
                    <a:pt x="2490" y="63"/>
                  </a:lnTo>
                  <a:lnTo>
                    <a:pt x="2516" y="93"/>
                  </a:lnTo>
                  <a:lnTo>
                    <a:pt x="2542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469160" y="664920"/>
              <a:ext cx="324000" cy="46800"/>
            </a:xfrm>
            <a:custGeom>
              <a:avLst/>
              <a:gdLst/>
              <a:ahLst/>
              <a:rect l="l" t="t" r="r" b="b"/>
              <a:pathLst>
                <a:path w="1314" h="188">
                  <a:moveTo>
                    <a:pt x="0" y="133"/>
                  </a:moveTo>
                  <a:lnTo>
                    <a:pt x="20" y="154"/>
                  </a:lnTo>
                  <a:lnTo>
                    <a:pt x="57" y="170"/>
                  </a:lnTo>
                  <a:lnTo>
                    <a:pt x="110" y="180"/>
                  </a:lnTo>
                  <a:lnTo>
                    <a:pt x="177" y="187"/>
                  </a:lnTo>
                  <a:lnTo>
                    <a:pt x="343" y="188"/>
                  </a:lnTo>
                  <a:lnTo>
                    <a:pt x="542" y="175"/>
                  </a:lnTo>
                  <a:lnTo>
                    <a:pt x="754" y="148"/>
                  </a:lnTo>
                  <a:lnTo>
                    <a:pt x="860" y="129"/>
                  </a:lnTo>
                  <a:lnTo>
                    <a:pt x="963" y="109"/>
                  </a:lnTo>
                  <a:lnTo>
                    <a:pt x="1063" y="85"/>
                  </a:lnTo>
                  <a:lnTo>
                    <a:pt x="1156" y="59"/>
                  </a:lnTo>
                  <a:lnTo>
                    <a:pt x="13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452600" y="655920"/>
              <a:ext cx="212760" cy="18720"/>
            </a:xfrm>
            <a:custGeom>
              <a:avLst/>
              <a:gdLst/>
              <a:ahLst/>
              <a:rect l="l" t="t" r="r" b="b"/>
              <a:pathLst>
                <a:path w="864" h="76">
                  <a:moveTo>
                    <a:pt x="0" y="12"/>
                  </a:moveTo>
                  <a:lnTo>
                    <a:pt x="13" y="30"/>
                  </a:lnTo>
                  <a:lnTo>
                    <a:pt x="35" y="41"/>
                  </a:lnTo>
                  <a:lnTo>
                    <a:pt x="64" y="45"/>
                  </a:lnTo>
                  <a:lnTo>
                    <a:pt x="99" y="45"/>
                  </a:lnTo>
                  <a:lnTo>
                    <a:pt x="188" y="33"/>
                  </a:lnTo>
                  <a:lnTo>
                    <a:pt x="298" y="17"/>
                  </a:lnTo>
                  <a:lnTo>
                    <a:pt x="425" y="3"/>
                  </a:lnTo>
                  <a:lnTo>
                    <a:pt x="493" y="0"/>
                  </a:lnTo>
                  <a:lnTo>
                    <a:pt x="564" y="3"/>
                  </a:lnTo>
                  <a:lnTo>
                    <a:pt x="637" y="9"/>
                  </a:lnTo>
                  <a:lnTo>
                    <a:pt x="712" y="24"/>
                  </a:lnTo>
                  <a:lnTo>
                    <a:pt x="788" y="46"/>
                  </a:lnTo>
                  <a:lnTo>
                    <a:pt x="864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51960" y="451440"/>
              <a:ext cx="478440" cy="205200"/>
            </a:xfrm>
            <a:custGeom>
              <a:avLst/>
              <a:gdLst/>
              <a:ahLst/>
              <a:rect l="l" t="t" r="r" b="b"/>
              <a:pathLst>
                <a:path w="1943" h="839">
                  <a:moveTo>
                    <a:pt x="0" y="839"/>
                  </a:moveTo>
                  <a:lnTo>
                    <a:pt x="84" y="793"/>
                  </a:lnTo>
                  <a:lnTo>
                    <a:pt x="170" y="751"/>
                  </a:lnTo>
                  <a:lnTo>
                    <a:pt x="347" y="680"/>
                  </a:lnTo>
                  <a:lnTo>
                    <a:pt x="708" y="554"/>
                  </a:lnTo>
                  <a:lnTo>
                    <a:pt x="887" y="487"/>
                  </a:lnTo>
                  <a:lnTo>
                    <a:pt x="974" y="449"/>
                  </a:lnTo>
                  <a:lnTo>
                    <a:pt x="1060" y="409"/>
                  </a:lnTo>
                  <a:lnTo>
                    <a:pt x="1143" y="364"/>
                  </a:lnTo>
                  <a:lnTo>
                    <a:pt x="1224" y="313"/>
                  </a:lnTo>
                  <a:lnTo>
                    <a:pt x="1301" y="257"/>
                  </a:lnTo>
                  <a:lnTo>
                    <a:pt x="1376" y="194"/>
                  </a:lnTo>
                  <a:lnTo>
                    <a:pt x="1462" y="122"/>
                  </a:lnTo>
                  <a:lnTo>
                    <a:pt x="1546" y="70"/>
                  </a:lnTo>
                  <a:lnTo>
                    <a:pt x="1624" y="34"/>
                  </a:lnTo>
                  <a:lnTo>
                    <a:pt x="1699" y="12"/>
                  </a:lnTo>
                  <a:lnTo>
                    <a:pt x="1768" y="2"/>
                  </a:lnTo>
                  <a:lnTo>
                    <a:pt x="1832" y="0"/>
                  </a:lnTo>
                  <a:lnTo>
                    <a:pt x="1890" y="6"/>
                  </a:lnTo>
                  <a:lnTo>
                    <a:pt x="194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08400" y="583200"/>
              <a:ext cx="2880" cy="79560"/>
            </a:xfrm>
            <a:custGeom>
              <a:avLst/>
              <a:gdLst/>
              <a:ahLst/>
              <a:rect l="l" t="t" r="r" b="b"/>
              <a:pathLst>
                <a:path w="12" h="323">
                  <a:moveTo>
                    <a:pt x="0" y="323"/>
                  </a:moveTo>
                  <a:lnTo>
                    <a:pt x="9" y="244"/>
                  </a:lnTo>
                  <a:lnTo>
                    <a:pt x="12" y="16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2796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58"/>
                  </a:moveTo>
                  <a:lnTo>
                    <a:pt x="24" y="41"/>
                  </a:lnTo>
                  <a:lnTo>
                    <a:pt x="18" y="25"/>
                  </a:lnTo>
                  <a:lnTo>
                    <a:pt x="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25080" y="601920"/>
              <a:ext cx="41400" cy="54000"/>
            </a:xfrm>
            <a:custGeom>
              <a:avLst/>
              <a:gdLst/>
              <a:ahLst/>
              <a:rect l="l" t="t" r="r" b="b"/>
              <a:pathLst>
                <a:path w="167" h="221">
                  <a:moveTo>
                    <a:pt x="0" y="221"/>
                  </a:moveTo>
                  <a:lnTo>
                    <a:pt x="13" y="174"/>
                  </a:lnTo>
                  <a:lnTo>
                    <a:pt x="29" y="127"/>
                  </a:lnTo>
                  <a:lnTo>
                    <a:pt x="56" y="88"/>
                  </a:lnTo>
                  <a:lnTo>
                    <a:pt x="89" y="54"/>
                  </a:lnTo>
                  <a:lnTo>
                    <a:pt x="127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1932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6" h="773">
                  <a:moveTo>
                    <a:pt x="138" y="773"/>
                  </a:moveTo>
                  <a:lnTo>
                    <a:pt x="155" y="770"/>
                  </a:lnTo>
                  <a:lnTo>
                    <a:pt x="169" y="762"/>
                  </a:lnTo>
                  <a:lnTo>
                    <a:pt x="182" y="750"/>
                  </a:lnTo>
                  <a:lnTo>
                    <a:pt x="194" y="733"/>
                  </a:lnTo>
                  <a:lnTo>
                    <a:pt x="212" y="691"/>
                  </a:lnTo>
                  <a:lnTo>
                    <a:pt x="227" y="642"/>
                  </a:lnTo>
                  <a:lnTo>
                    <a:pt x="242" y="532"/>
                  </a:lnTo>
                  <a:lnTo>
                    <a:pt x="246" y="443"/>
                  </a:lnTo>
                  <a:lnTo>
                    <a:pt x="244" y="366"/>
                  </a:lnTo>
                  <a:lnTo>
                    <a:pt x="239" y="296"/>
                  </a:lnTo>
                  <a:lnTo>
                    <a:pt x="228" y="236"/>
                  </a:lnTo>
                  <a:lnTo>
                    <a:pt x="215" y="184"/>
                  </a:lnTo>
                  <a:lnTo>
                    <a:pt x="199" y="138"/>
                  </a:lnTo>
                  <a:lnTo>
                    <a:pt x="182" y="100"/>
                  </a:lnTo>
                  <a:lnTo>
                    <a:pt x="163" y="68"/>
                  </a:lnTo>
                  <a:lnTo>
                    <a:pt x="143" y="45"/>
                  </a:lnTo>
                  <a:lnTo>
                    <a:pt x="122" y="25"/>
                  </a:lnTo>
                  <a:lnTo>
                    <a:pt x="101" y="12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42" y="2"/>
                  </a:lnTo>
                  <a:lnTo>
                    <a:pt x="25" y="7"/>
                  </a:lnTo>
                  <a:lnTo>
                    <a:pt x="12" y="15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1364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6736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504800" y="337320"/>
              <a:ext cx="64800" cy="190800"/>
            </a:xfrm>
            <a:custGeom>
              <a:avLst/>
              <a:gdLst/>
              <a:ahLst/>
              <a:rect l="l" t="t" r="r" b="b"/>
              <a:pathLst>
                <a:path w="261" h="779">
                  <a:moveTo>
                    <a:pt x="170" y="0"/>
                  </a:moveTo>
                  <a:lnTo>
                    <a:pt x="168" y="99"/>
                  </a:lnTo>
                  <a:lnTo>
                    <a:pt x="163" y="199"/>
                  </a:lnTo>
                  <a:lnTo>
                    <a:pt x="153" y="300"/>
                  </a:lnTo>
                  <a:lnTo>
                    <a:pt x="136" y="400"/>
                  </a:lnTo>
                  <a:lnTo>
                    <a:pt x="112" y="499"/>
                  </a:lnTo>
                  <a:lnTo>
                    <a:pt x="82" y="595"/>
                  </a:lnTo>
                  <a:lnTo>
                    <a:pt x="45" y="690"/>
                  </a:lnTo>
                  <a:lnTo>
                    <a:pt x="0" y="779"/>
                  </a:lnTo>
                  <a:lnTo>
                    <a:pt x="65" y="745"/>
                  </a:lnTo>
                  <a:lnTo>
                    <a:pt x="95" y="725"/>
                  </a:lnTo>
                  <a:lnTo>
                    <a:pt x="123" y="701"/>
                  </a:lnTo>
                  <a:lnTo>
                    <a:pt x="172" y="648"/>
                  </a:lnTo>
                  <a:lnTo>
                    <a:pt x="212" y="588"/>
                  </a:lnTo>
                  <a:lnTo>
                    <a:pt x="242" y="521"/>
                  </a:lnTo>
                  <a:lnTo>
                    <a:pt x="259" y="450"/>
                  </a:lnTo>
                  <a:lnTo>
                    <a:pt x="261" y="377"/>
                  </a:lnTo>
                  <a:lnTo>
                    <a:pt x="251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283400" y="401400"/>
              <a:ext cx="188640" cy="119880"/>
            </a:xfrm>
            <a:custGeom>
              <a:avLst/>
              <a:gdLst/>
              <a:ahLst/>
              <a:rect l="l" t="t" r="r" b="b"/>
              <a:pathLst>
                <a:path w="767" h="488">
                  <a:moveTo>
                    <a:pt x="0" y="488"/>
                  </a:moveTo>
                  <a:lnTo>
                    <a:pt x="85" y="450"/>
                  </a:lnTo>
                  <a:lnTo>
                    <a:pt x="173" y="418"/>
                  </a:lnTo>
                  <a:lnTo>
                    <a:pt x="261" y="386"/>
                  </a:lnTo>
                  <a:lnTo>
                    <a:pt x="354" y="347"/>
                  </a:lnTo>
                  <a:lnTo>
                    <a:pt x="449" y="296"/>
                  </a:lnTo>
                  <a:lnTo>
                    <a:pt x="499" y="263"/>
                  </a:lnTo>
                  <a:lnTo>
                    <a:pt x="550" y="225"/>
                  </a:lnTo>
                  <a:lnTo>
                    <a:pt x="655" y="128"/>
                  </a:lnTo>
                  <a:lnTo>
                    <a:pt x="7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4928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7">
                  <a:moveTo>
                    <a:pt x="0" y="277"/>
                  </a:moveTo>
                  <a:lnTo>
                    <a:pt x="101" y="221"/>
                  </a:lnTo>
                  <a:lnTo>
                    <a:pt x="197" y="164"/>
                  </a:lnTo>
                  <a:lnTo>
                    <a:pt x="241" y="131"/>
                  </a:lnTo>
                  <a:lnTo>
                    <a:pt x="284" y="94"/>
                  </a:lnTo>
                  <a:lnTo>
                    <a:pt x="322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38680" y="1078560"/>
              <a:ext cx="34200" cy="9216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0" y="377"/>
                  </a:move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0" y="177"/>
                  </a:lnTo>
                  <a:lnTo>
                    <a:pt x="86" y="86"/>
                  </a:lnTo>
                  <a:lnTo>
                    <a:pt x="1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064960" y="929160"/>
              <a:ext cx="23400" cy="91080"/>
            </a:xfrm>
            <a:custGeom>
              <a:avLst/>
              <a:gdLst/>
              <a:ahLst/>
              <a:rect l="l" t="t" r="r" b="b"/>
              <a:pathLst>
                <a:path w="98" h="372">
                  <a:moveTo>
                    <a:pt x="1" y="372"/>
                  </a:moveTo>
                  <a:lnTo>
                    <a:pt x="0" y="321"/>
                  </a:lnTo>
                  <a:lnTo>
                    <a:pt x="4" y="275"/>
                  </a:lnTo>
                  <a:lnTo>
                    <a:pt x="11" y="232"/>
                  </a:lnTo>
                  <a:lnTo>
                    <a:pt x="23" y="190"/>
                  </a:lnTo>
                  <a:lnTo>
                    <a:pt x="56" y="102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34360" y="627480"/>
              <a:ext cx="92520" cy="13356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378" y="544"/>
                  </a:moveTo>
                  <a:lnTo>
                    <a:pt x="346" y="538"/>
                  </a:lnTo>
                  <a:lnTo>
                    <a:pt x="315" y="525"/>
                  </a:lnTo>
                  <a:lnTo>
                    <a:pt x="288" y="506"/>
                  </a:lnTo>
                  <a:lnTo>
                    <a:pt x="263" y="478"/>
                  </a:lnTo>
                  <a:lnTo>
                    <a:pt x="217" y="407"/>
                  </a:lnTo>
                  <a:lnTo>
                    <a:pt x="175" y="324"/>
                  </a:lnTo>
                  <a:lnTo>
                    <a:pt x="136" y="232"/>
                  </a:lnTo>
                  <a:lnTo>
                    <a:pt x="96" y="143"/>
                  </a:lnTo>
                  <a:lnTo>
                    <a:pt x="51" y="63"/>
                  </a:lnTo>
                  <a:lnTo>
                    <a:pt x="26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2042640" y="664920"/>
              <a:ext cx="27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00600" y="571320"/>
              <a:ext cx="59760" cy="189360"/>
            </a:xfrm>
            <a:custGeom>
              <a:avLst/>
              <a:gdLst/>
              <a:ahLst/>
              <a:rect l="l" t="t" r="r" b="b"/>
              <a:pathLst>
                <a:path w="248" h="773">
                  <a:moveTo>
                    <a:pt x="110" y="773"/>
                  </a:moveTo>
                  <a:lnTo>
                    <a:pt x="93" y="770"/>
                  </a:lnTo>
                  <a:lnTo>
                    <a:pt x="79" y="762"/>
                  </a:lnTo>
                  <a:lnTo>
                    <a:pt x="66" y="750"/>
                  </a:lnTo>
                  <a:lnTo>
                    <a:pt x="54" y="733"/>
                  </a:lnTo>
                  <a:lnTo>
                    <a:pt x="34" y="691"/>
                  </a:lnTo>
                  <a:lnTo>
                    <a:pt x="20" y="642"/>
                  </a:lnTo>
                  <a:lnTo>
                    <a:pt x="4" y="532"/>
                  </a:lnTo>
                  <a:lnTo>
                    <a:pt x="0" y="443"/>
                  </a:lnTo>
                  <a:lnTo>
                    <a:pt x="3" y="366"/>
                  </a:lnTo>
                  <a:lnTo>
                    <a:pt x="8" y="296"/>
                  </a:lnTo>
                  <a:lnTo>
                    <a:pt x="19" y="236"/>
                  </a:lnTo>
                  <a:lnTo>
                    <a:pt x="32" y="184"/>
                  </a:lnTo>
                  <a:lnTo>
                    <a:pt x="47" y="138"/>
                  </a:lnTo>
                  <a:lnTo>
                    <a:pt x="64" y="100"/>
                  </a:lnTo>
                  <a:lnTo>
                    <a:pt x="84" y="68"/>
                  </a:lnTo>
                  <a:lnTo>
                    <a:pt x="105" y="45"/>
                  </a:lnTo>
                  <a:lnTo>
                    <a:pt x="147" y="12"/>
                  </a:lnTo>
                  <a:lnTo>
                    <a:pt x="167" y="4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1" y="7"/>
                  </a:lnTo>
                  <a:lnTo>
                    <a:pt x="236" y="15"/>
                  </a:lnTo>
                  <a:lnTo>
                    <a:pt x="24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13200" y="601920"/>
              <a:ext cx="40320" cy="54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66" y="221"/>
                  </a:moveTo>
                  <a:lnTo>
                    <a:pt x="154" y="174"/>
                  </a:lnTo>
                  <a:lnTo>
                    <a:pt x="148" y="149"/>
                  </a:lnTo>
                  <a:lnTo>
                    <a:pt x="138" y="127"/>
                  </a:lnTo>
                  <a:lnTo>
                    <a:pt x="111" y="88"/>
                  </a:lnTo>
                  <a:lnTo>
                    <a:pt x="77" y="54"/>
                  </a:lnTo>
                  <a:lnTo>
                    <a:pt x="39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145960" y="607680"/>
              <a:ext cx="5760" cy="144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5" y="2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19160" y="367920"/>
              <a:ext cx="81720" cy="108000"/>
            </a:xfrm>
            <a:custGeom>
              <a:avLst/>
              <a:gdLst/>
              <a:ahLst/>
              <a:rect l="l" t="t" r="r" b="b"/>
              <a:pathLst>
                <a:path w="333" h="441">
                  <a:moveTo>
                    <a:pt x="0" y="441"/>
                  </a:moveTo>
                  <a:lnTo>
                    <a:pt x="9" y="342"/>
                  </a:lnTo>
                  <a:lnTo>
                    <a:pt x="23" y="237"/>
                  </a:lnTo>
                  <a:lnTo>
                    <a:pt x="45" y="139"/>
                  </a:lnTo>
                  <a:lnTo>
                    <a:pt x="59" y="96"/>
                  </a:lnTo>
                  <a:lnTo>
                    <a:pt x="76" y="59"/>
                  </a:lnTo>
                  <a:lnTo>
                    <a:pt x="96" y="30"/>
                  </a:lnTo>
                  <a:lnTo>
                    <a:pt x="118" y="10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8" y="20"/>
                  </a:lnTo>
                  <a:lnTo>
                    <a:pt x="245" y="51"/>
                  </a:lnTo>
                  <a:lnTo>
                    <a:pt x="287" y="99"/>
                  </a:lnTo>
                  <a:lnTo>
                    <a:pt x="33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12320" y="312840"/>
              <a:ext cx="56880" cy="16776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7" y="513"/>
                  </a:lnTo>
                  <a:lnTo>
                    <a:pt x="8" y="376"/>
                  </a:lnTo>
                  <a:lnTo>
                    <a:pt x="17" y="234"/>
                  </a:lnTo>
                  <a:lnTo>
                    <a:pt x="25" y="168"/>
                  </a:lnTo>
                  <a:lnTo>
                    <a:pt x="38" y="110"/>
                  </a:lnTo>
                  <a:lnTo>
                    <a:pt x="54" y="60"/>
                  </a:lnTo>
                  <a:lnTo>
                    <a:pt x="77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2"/>
                  </a:lnTo>
                  <a:lnTo>
                    <a:pt x="160" y="7"/>
                  </a:lnTo>
                  <a:lnTo>
                    <a:pt x="182" y="19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884960" y="270720"/>
              <a:ext cx="36360" cy="227880"/>
            </a:xfrm>
            <a:custGeom>
              <a:avLst/>
              <a:gdLst/>
              <a:ahLst/>
              <a:rect l="l" t="t" r="r" b="b"/>
              <a:pathLst>
                <a:path w="148" h="929">
                  <a:moveTo>
                    <a:pt x="23" y="929"/>
                  </a:moveTo>
                  <a:lnTo>
                    <a:pt x="6" y="632"/>
                  </a:lnTo>
                  <a:lnTo>
                    <a:pt x="2" y="476"/>
                  </a:lnTo>
                  <a:lnTo>
                    <a:pt x="0" y="419"/>
                  </a:lnTo>
                  <a:lnTo>
                    <a:pt x="3" y="330"/>
                  </a:lnTo>
                  <a:lnTo>
                    <a:pt x="16" y="199"/>
                  </a:lnTo>
                  <a:lnTo>
                    <a:pt x="26" y="142"/>
                  </a:lnTo>
                  <a:lnTo>
                    <a:pt x="42" y="94"/>
                  </a:lnTo>
                  <a:lnTo>
                    <a:pt x="60" y="55"/>
                  </a:lnTo>
                  <a:lnTo>
                    <a:pt x="85" y="25"/>
                  </a:lnTo>
                  <a:lnTo>
                    <a:pt x="114" y="6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842480" y="268560"/>
              <a:ext cx="44280" cy="206280"/>
            </a:xfrm>
            <a:custGeom>
              <a:avLst/>
              <a:gdLst/>
              <a:ahLst/>
              <a:rect l="l" t="t" r="r" b="b"/>
              <a:pathLst>
                <a:path w="179" h="840">
                  <a:moveTo>
                    <a:pt x="179" y="0"/>
                  </a:moveTo>
                  <a:lnTo>
                    <a:pt x="125" y="98"/>
                  </a:lnTo>
                  <a:lnTo>
                    <a:pt x="85" y="199"/>
                  </a:lnTo>
                  <a:lnTo>
                    <a:pt x="55" y="301"/>
                  </a:lnTo>
                  <a:lnTo>
                    <a:pt x="34" y="404"/>
                  </a:lnTo>
                  <a:lnTo>
                    <a:pt x="19" y="510"/>
                  </a:lnTo>
                  <a:lnTo>
                    <a:pt x="10" y="619"/>
                  </a:lnTo>
                  <a:lnTo>
                    <a:pt x="0" y="8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80560" y="238320"/>
              <a:ext cx="46800" cy="317160"/>
            </a:xfrm>
            <a:custGeom>
              <a:avLst/>
              <a:gdLst/>
              <a:ahLst/>
              <a:rect l="l" t="t" r="r" b="b"/>
              <a:pathLst>
                <a:path w="194" h="1293">
                  <a:moveTo>
                    <a:pt x="97" y="1293"/>
                  </a:moveTo>
                  <a:lnTo>
                    <a:pt x="98" y="1149"/>
                  </a:lnTo>
                  <a:lnTo>
                    <a:pt x="105" y="1014"/>
                  </a:lnTo>
                  <a:lnTo>
                    <a:pt x="130" y="770"/>
                  </a:lnTo>
                  <a:lnTo>
                    <a:pt x="186" y="386"/>
                  </a:lnTo>
                  <a:lnTo>
                    <a:pt x="192" y="310"/>
                  </a:lnTo>
                  <a:lnTo>
                    <a:pt x="194" y="243"/>
                  </a:lnTo>
                  <a:lnTo>
                    <a:pt x="188" y="183"/>
                  </a:lnTo>
                  <a:lnTo>
                    <a:pt x="174" y="132"/>
                  </a:lnTo>
                  <a:lnTo>
                    <a:pt x="149" y="87"/>
                  </a:lnTo>
                  <a:lnTo>
                    <a:pt x="113" y="51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19320" y="238320"/>
              <a:ext cx="941400" cy="1355400"/>
            </a:xfrm>
            <a:custGeom>
              <a:avLst/>
              <a:gdLst/>
              <a:ahLst/>
              <a:rect l="l" t="t" r="r" b="b"/>
              <a:pathLst>
                <a:path w="3826" h="5516">
                  <a:moveTo>
                    <a:pt x="1211" y="5505"/>
                  </a:moveTo>
                  <a:lnTo>
                    <a:pt x="1179" y="5497"/>
                  </a:lnTo>
                  <a:lnTo>
                    <a:pt x="1154" y="5487"/>
                  </a:lnTo>
                  <a:lnTo>
                    <a:pt x="1134" y="5473"/>
                  </a:lnTo>
                  <a:lnTo>
                    <a:pt x="1116" y="5456"/>
                  </a:lnTo>
                  <a:lnTo>
                    <a:pt x="1106" y="5435"/>
                  </a:lnTo>
                  <a:lnTo>
                    <a:pt x="1098" y="5408"/>
                  </a:lnTo>
                  <a:lnTo>
                    <a:pt x="1096" y="5380"/>
                  </a:lnTo>
                  <a:lnTo>
                    <a:pt x="1097" y="5346"/>
                  </a:lnTo>
                  <a:lnTo>
                    <a:pt x="1123" y="4996"/>
                  </a:lnTo>
                  <a:lnTo>
                    <a:pt x="1136" y="4647"/>
                  </a:lnTo>
                  <a:lnTo>
                    <a:pt x="1137" y="4392"/>
                  </a:lnTo>
                  <a:lnTo>
                    <a:pt x="1131" y="4135"/>
                  </a:lnTo>
                  <a:lnTo>
                    <a:pt x="1207" y="4044"/>
                  </a:lnTo>
                  <a:lnTo>
                    <a:pt x="1294" y="3952"/>
                  </a:lnTo>
                  <a:lnTo>
                    <a:pt x="1394" y="3858"/>
                  </a:lnTo>
                  <a:lnTo>
                    <a:pt x="1501" y="3762"/>
                  </a:lnTo>
                  <a:lnTo>
                    <a:pt x="1735" y="3561"/>
                  </a:lnTo>
                  <a:lnTo>
                    <a:pt x="1981" y="3346"/>
                  </a:lnTo>
                  <a:lnTo>
                    <a:pt x="2103" y="3232"/>
                  </a:lnTo>
                  <a:lnTo>
                    <a:pt x="2223" y="3112"/>
                  </a:lnTo>
                  <a:lnTo>
                    <a:pt x="2337" y="2987"/>
                  </a:lnTo>
                  <a:lnTo>
                    <a:pt x="2446" y="2857"/>
                  </a:lnTo>
                  <a:lnTo>
                    <a:pt x="2545" y="2719"/>
                  </a:lnTo>
                  <a:lnTo>
                    <a:pt x="2634" y="2574"/>
                  </a:lnTo>
                  <a:lnTo>
                    <a:pt x="2674" y="2499"/>
                  </a:lnTo>
                  <a:lnTo>
                    <a:pt x="2710" y="2422"/>
                  </a:lnTo>
                  <a:lnTo>
                    <a:pt x="2772" y="2261"/>
                  </a:lnTo>
                  <a:lnTo>
                    <a:pt x="2781" y="2641"/>
                  </a:lnTo>
                  <a:lnTo>
                    <a:pt x="2782" y="3021"/>
                  </a:lnTo>
                  <a:lnTo>
                    <a:pt x="2769" y="3783"/>
                  </a:lnTo>
                  <a:lnTo>
                    <a:pt x="2763" y="4164"/>
                  </a:lnTo>
                  <a:lnTo>
                    <a:pt x="2761" y="4545"/>
                  </a:lnTo>
                  <a:lnTo>
                    <a:pt x="2769" y="4926"/>
                  </a:lnTo>
                  <a:lnTo>
                    <a:pt x="2787" y="5306"/>
                  </a:lnTo>
                  <a:lnTo>
                    <a:pt x="2787" y="5348"/>
                  </a:lnTo>
                  <a:lnTo>
                    <a:pt x="2782" y="5385"/>
                  </a:lnTo>
                  <a:lnTo>
                    <a:pt x="2773" y="5416"/>
                  </a:lnTo>
                  <a:lnTo>
                    <a:pt x="2759" y="5444"/>
                  </a:lnTo>
                  <a:lnTo>
                    <a:pt x="2740" y="5466"/>
                  </a:lnTo>
                  <a:lnTo>
                    <a:pt x="2717" y="5484"/>
                  </a:lnTo>
                  <a:lnTo>
                    <a:pt x="2691" y="5497"/>
                  </a:lnTo>
                  <a:lnTo>
                    <a:pt x="2662" y="5505"/>
                  </a:lnTo>
                  <a:lnTo>
                    <a:pt x="2586" y="5514"/>
                  </a:lnTo>
                  <a:lnTo>
                    <a:pt x="2510" y="5516"/>
                  </a:lnTo>
                  <a:lnTo>
                    <a:pt x="2358" y="5505"/>
                  </a:lnTo>
                  <a:lnTo>
                    <a:pt x="2248" y="5492"/>
                  </a:lnTo>
                  <a:lnTo>
                    <a:pt x="2172" y="5475"/>
                  </a:lnTo>
                  <a:lnTo>
                    <a:pt x="2145" y="5463"/>
                  </a:lnTo>
                  <a:lnTo>
                    <a:pt x="2124" y="5448"/>
                  </a:lnTo>
                  <a:lnTo>
                    <a:pt x="2107" y="5427"/>
                  </a:lnTo>
                  <a:lnTo>
                    <a:pt x="2097" y="5402"/>
                  </a:lnTo>
                  <a:lnTo>
                    <a:pt x="2090" y="5390"/>
                  </a:lnTo>
                  <a:lnTo>
                    <a:pt x="2077" y="5380"/>
                  </a:lnTo>
                  <a:lnTo>
                    <a:pt x="2040" y="5364"/>
                  </a:lnTo>
                  <a:lnTo>
                    <a:pt x="1991" y="5354"/>
                  </a:lnTo>
                  <a:lnTo>
                    <a:pt x="1936" y="5351"/>
                  </a:lnTo>
                  <a:lnTo>
                    <a:pt x="1881" y="5354"/>
                  </a:lnTo>
                  <a:lnTo>
                    <a:pt x="1831" y="5364"/>
                  </a:lnTo>
                  <a:lnTo>
                    <a:pt x="1794" y="5380"/>
                  </a:lnTo>
                  <a:lnTo>
                    <a:pt x="1781" y="5390"/>
                  </a:lnTo>
                  <a:lnTo>
                    <a:pt x="1775" y="5402"/>
                  </a:lnTo>
                  <a:lnTo>
                    <a:pt x="1764" y="5427"/>
                  </a:lnTo>
                  <a:lnTo>
                    <a:pt x="1748" y="5448"/>
                  </a:lnTo>
                  <a:lnTo>
                    <a:pt x="1728" y="5463"/>
                  </a:lnTo>
                  <a:lnTo>
                    <a:pt x="1700" y="5475"/>
                  </a:lnTo>
                  <a:lnTo>
                    <a:pt x="1623" y="5492"/>
                  </a:lnTo>
                  <a:lnTo>
                    <a:pt x="1514" y="5505"/>
                  </a:lnTo>
                  <a:lnTo>
                    <a:pt x="1362" y="5516"/>
                  </a:lnTo>
                  <a:lnTo>
                    <a:pt x="1285" y="5514"/>
                  </a:lnTo>
                  <a:lnTo>
                    <a:pt x="1258" y="5513"/>
                  </a:lnTo>
                  <a:lnTo>
                    <a:pt x="1211" y="5505"/>
                  </a:lnTo>
                  <a:close/>
                  <a:moveTo>
                    <a:pt x="1175" y="3304"/>
                  </a:moveTo>
                  <a:lnTo>
                    <a:pt x="1182" y="2866"/>
                  </a:lnTo>
                  <a:lnTo>
                    <a:pt x="1209" y="2838"/>
                  </a:lnTo>
                  <a:lnTo>
                    <a:pt x="1242" y="2813"/>
                  </a:lnTo>
                  <a:lnTo>
                    <a:pt x="1280" y="2790"/>
                  </a:lnTo>
                  <a:lnTo>
                    <a:pt x="1326" y="2768"/>
                  </a:lnTo>
                  <a:lnTo>
                    <a:pt x="1455" y="2710"/>
                  </a:lnTo>
                  <a:lnTo>
                    <a:pt x="1586" y="2647"/>
                  </a:lnTo>
                  <a:lnTo>
                    <a:pt x="1717" y="2576"/>
                  </a:lnTo>
                  <a:lnTo>
                    <a:pt x="1849" y="2501"/>
                  </a:lnTo>
                  <a:lnTo>
                    <a:pt x="1979" y="2419"/>
                  </a:lnTo>
                  <a:lnTo>
                    <a:pt x="2110" y="2333"/>
                  </a:lnTo>
                  <a:lnTo>
                    <a:pt x="2238" y="2243"/>
                  </a:lnTo>
                  <a:lnTo>
                    <a:pt x="2363" y="2147"/>
                  </a:lnTo>
                  <a:lnTo>
                    <a:pt x="2323" y="2224"/>
                  </a:lnTo>
                  <a:lnTo>
                    <a:pt x="2273" y="2302"/>
                  </a:lnTo>
                  <a:lnTo>
                    <a:pt x="2213" y="2376"/>
                  </a:lnTo>
                  <a:lnTo>
                    <a:pt x="2145" y="2451"/>
                  </a:lnTo>
                  <a:lnTo>
                    <a:pt x="2070" y="2524"/>
                  </a:lnTo>
                  <a:lnTo>
                    <a:pt x="1989" y="2596"/>
                  </a:lnTo>
                  <a:lnTo>
                    <a:pt x="1819" y="2740"/>
                  </a:lnTo>
                  <a:lnTo>
                    <a:pt x="1641" y="2880"/>
                  </a:lnTo>
                  <a:lnTo>
                    <a:pt x="1467" y="3021"/>
                  </a:lnTo>
                  <a:lnTo>
                    <a:pt x="1386" y="3091"/>
                  </a:lnTo>
                  <a:lnTo>
                    <a:pt x="1309" y="3161"/>
                  </a:lnTo>
                  <a:lnTo>
                    <a:pt x="1238" y="3232"/>
                  </a:lnTo>
                  <a:lnTo>
                    <a:pt x="1175" y="3304"/>
                  </a:lnTo>
                  <a:close/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  <a:moveTo>
                    <a:pt x="2846" y="968"/>
                  </a:moveTo>
                  <a:lnTo>
                    <a:pt x="2854" y="869"/>
                  </a:lnTo>
                  <a:lnTo>
                    <a:pt x="2869" y="764"/>
                  </a:lnTo>
                  <a:lnTo>
                    <a:pt x="2891" y="664"/>
                  </a:lnTo>
                  <a:lnTo>
                    <a:pt x="2922" y="586"/>
                  </a:lnTo>
                  <a:lnTo>
                    <a:pt x="2942" y="556"/>
                  </a:lnTo>
                  <a:lnTo>
                    <a:pt x="2964" y="536"/>
                  </a:lnTo>
                  <a:lnTo>
                    <a:pt x="2990" y="527"/>
                  </a:lnTo>
                  <a:lnTo>
                    <a:pt x="3020" y="530"/>
                  </a:lnTo>
                  <a:lnTo>
                    <a:pt x="3053" y="545"/>
                  </a:lnTo>
                  <a:lnTo>
                    <a:pt x="3091" y="577"/>
                  </a:lnTo>
                  <a:lnTo>
                    <a:pt x="3133" y="625"/>
                  </a:lnTo>
                  <a:lnTo>
                    <a:pt x="3179" y="691"/>
                  </a:lnTo>
                  <a:lnTo>
                    <a:pt x="3296" y="880"/>
                  </a:lnTo>
                  <a:lnTo>
                    <a:pt x="3205" y="869"/>
                  </a:lnTo>
                  <a:lnTo>
                    <a:pt x="3154" y="867"/>
                  </a:lnTo>
                  <a:lnTo>
                    <a:pt x="3099" y="871"/>
                  </a:lnTo>
                  <a:lnTo>
                    <a:pt x="3040" y="882"/>
                  </a:lnTo>
                  <a:lnTo>
                    <a:pt x="2978" y="900"/>
                  </a:lnTo>
                  <a:lnTo>
                    <a:pt x="2914" y="929"/>
                  </a:lnTo>
                  <a:lnTo>
                    <a:pt x="2846" y="968"/>
                  </a:lnTo>
                  <a:close/>
                  <a:moveTo>
                    <a:pt x="3113" y="1422"/>
                  </a:moveTo>
                  <a:lnTo>
                    <a:pt x="3202" y="1307"/>
                  </a:lnTo>
                  <a:lnTo>
                    <a:pt x="3253" y="1246"/>
                  </a:lnTo>
                  <a:lnTo>
                    <a:pt x="3309" y="1191"/>
                  </a:lnTo>
                  <a:lnTo>
                    <a:pt x="3367" y="1147"/>
                  </a:lnTo>
                  <a:lnTo>
                    <a:pt x="3398" y="1132"/>
                  </a:lnTo>
                  <a:lnTo>
                    <a:pt x="3430" y="1121"/>
                  </a:lnTo>
                  <a:lnTo>
                    <a:pt x="3463" y="1119"/>
                  </a:lnTo>
                  <a:lnTo>
                    <a:pt x="3495" y="1121"/>
                  </a:lnTo>
                  <a:lnTo>
                    <a:pt x="3529" y="1132"/>
                  </a:lnTo>
                  <a:lnTo>
                    <a:pt x="3563" y="1151"/>
                  </a:lnTo>
                  <a:lnTo>
                    <a:pt x="3626" y="1196"/>
                  </a:lnTo>
                  <a:lnTo>
                    <a:pt x="3692" y="1247"/>
                  </a:lnTo>
                  <a:lnTo>
                    <a:pt x="3760" y="1308"/>
                  </a:lnTo>
                  <a:lnTo>
                    <a:pt x="3826" y="1382"/>
                  </a:lnTo>
                  <a:lnTo>
                    <a:pt x="3815" y="1370"/>
                  </a:lnTo>
                  <a:lnTo>
                    <a:pt x="3801" y="1362"/>
                  </a:lnTo>
                  <a:lnTo>
                    <a:pt x="3784" y="1357"/>
                  </a:lnTo>
                  <a:lnTo>
                    <a:pt x="3766" y="1355"/>
                  </a:lnTo>
                  <a:lnTo>
                    <a:pt x="3747" y="1359"/>
                  </a:lnTo>
                  <a:lnTo>
                    <a:pt x="3726" y="1367"/>
                  </a:lnTo>
                  <a:lnTo>
                    <a:pt x="3705" y="1380"/>
                  </a:lnTo>
                  <a:lnTo>
                    <a:pt x="3684" y="1400"/>
                  </a:lnTo>
                  <a:lnTo>
                    <a:pt x="3664" y="1423"/>
                  </a:lnTo>
                  <a:lnTo>
                    <a:pt x="3644" y="1455"/>
                  </a:lnTo>
                  <a:lnTo>
                    <a:pt x="3627" y="1493"/>
                  </a:lnTo>
                  <a:lnTo>
                    <a:pt x="3612" y="1539"/>
                  </a:lnTo>
                  <a:lnTo>
                    <a:pt x="3599" y="1591"/>
                  </a:lnTo>
                  <a:lnTo>
                    <a:pt x="3588" y="1651"/>
                  </a:lnTo>
                  <a:lnTo>
                    <a:pt x="3583" y="1721"/>
                  </a:lnTo>
                  <a:lnTo>
                    <a:pt x="3580" y="1798"/>
                  </a:lnTo>
                  <a:lnTo>
                    <a:pt x="3584" y="1887"/>
                  </a:lnTo>
                  <a:lnTo>
                    <a:pt x="3600" y="1997"/>
                  </a:lnTo>
                  <a:lnTo>
                    <a:pt x="3614" y="2046"/>
                  </a:lnTo>
                  <a:lnTo>
                    <a:pt x="3633" y="2088"/>
                  </a:lnTo>
                  <a:lnTo>
                    <a:pt x="3644" y="2105"/>
                  </a:lnTo>
                  <a:lnTo>
                    <a:pt x="3658" y="2117"/>
                  </a:lnTo>
                  <a:lnTo>
                    <a:pt x="3672" y="2125"/>
                  </a:lnTo>
                  <a:lnTo>
                    <a:pt x="3689" y="2128"/>
                  </a:lnTo>
                  <a:lnTo>
                    <a:pt x="3650" y="2121"/>
                  </a:lnTo>
                  <a:lnTo>
                    <a:pt x="3616" y="2103"/>
                  </a:lnTo>
                  <a:lnTo>
                    <a:pt x="3584" y="2075"/>
                  </a:lnTo>
                  <a:lnTo>
                    <a:pt x="3555" y="2039"/>
                  </a:lnTo>
                  <a:lnTo>
                    <a:pt x="3504" y="1946"/>
                  </a:lnTo>
                  <a:lnTo>
                    <a:pt x="3457" y="1840"/>
                  </a:lnTo>
                  <a:lnTo>
                    <a:pt x="3400" y="1790"/>
                  </a:lnTo>
                  <a:lnTo>
                    <a:pt x="3346" y="1736"/>
                  </a:lnTo>
                  <a:lnTo>
                    <a:pt x="3281" y="1663"/>
                  </a:lnTo>
                  <a:lnTo>
                    <a:pt x="3220" y="1586"/>
                  </a:lnTo>
                  <a:lnTo>
                    <a:pt x="3166" y="1506"/>
                  </a:lnTo>
                  <a:lnTo>
                    <a:pt x="3113" y="1422"/>
                  </a:lnTo>
                  <a:close/>
                </a:path>
              </a:pathLst>
            </a:cu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87880" y="793440"/>
              <a:ext cx="416160" cy="799920"/>
            </a:xfrm>
            <a:custGeom>
              <a:avLst/>
              <a:gdLst/>
              <a:ahLst/>
              <a:rect l="l" t="t" r="r" b="b"/>
              <a:pathLst>
                <a:path w="1691" h="3255">
                  <a:moveTo>
                    <a:pt x="115" y="3244"/>
                  </a:moveTo>
                  <a:lnTo>
                    <a:pt x="83" y="3236"/>
                  </a:lnTo>
                  <a:lnTo>
                    <a:pt x="58" y="3226"/>
                  </a:lnTo>
                  <a:lnTo>
                    <a:pt x="38" y="3212"/>
                  </a:lnTo>
                  <a:lnTo>
                    <a:pt x="20" y="3195"/>
                  </a:lnTo>
                  <a:lnTo>
                    <a:pt x="10" y="3174"/>
                  </a:lnTo>
                  <a:lnTo>
                    <a:pt x="2" y="3147"/>
                  </a:lnTo>
                  <a:lnTo>
                    <a:pt x="0" y="3119"/>
                  </a:lnTo>
                  <a:lnTo>
                    <a:pt x="1" y="3085"/>
                  </a:lnTo>
                  <a:lnTo>
                    <a:pt x="27" y="2735"/>
                  </a:lnTo>
                  <a:lnTo>
                    <a:pt x="40" y="2386"/>
                  </a:lnTo>
                  <a:lnTo>
                    <a:pt x="41" y="2131"/>
                  </a:lnTo>
                  <a:lnTo>
                    <a:pt x="35" y="1874"/>
                  </a:lnTo>
                  <a:lnTo>
                    <a:pt x="111" y="1783"/>
                  </a:lnTo>
                  <a:lnTo>
                    <a:pt x="198" y="1691"/>
                  </a:lnTo>
                  <a:lnTo>
                    <a:pt x="298" y="1597"/>
                  </a:lnTo>
                  <a:lnTo>
                    <a:pt x="405" y="1501"/>
                  </a:lnTo>
                  <a:lnTo>
                    <a:pt x="639" y="1300"/>
                  </a:lnTo>
                  <a:lnTo>
                    <a:pt x="885" y="1085"/>
                  </a:lnTo>
                  <a:lnTo>
                    <a:pt x="1007" y="971"/>
                  </a:lnTo>
                  <a:lnTo>
                    <a:pt x="1127" y="851"/>
                  </a:lnTo>
                  <a:lnTo>
                    <a:pt x="1241" y="726"/>
                  </a:lnTo>
                  <a:lnTo>
                    <a:pt x="1350" y="596"/>
                  </a:lnTo>
                  <a:lnTo>
                    <a:pt x="1449" y="458"/>
                  </a:lnTo>
                  <a:lnTo>
                    <a:pt x="1538" y="313"/>
                  </a:lnTo>
                  <a:lnTo>
                    <a:pt x="1578" y="238"/>
                  </a:lnTo>
                  <a:lnTo>
                    <a:pt x="1614" y="161"/>
                  </a:lnTo>
                  <a:lnTo>
                    <a:pt x="1676" y="0"/>
                  </a:lnTo>
                  <a:lnTo>
                    <a:pt x="1685" y="380"/>
                  </a:lnTo>
                  <a:lnTo>
                    <a:pt x="1686" y="760"/>
                  </a:lnTo>
                  <a:lnTo>
                    <a:pt x="1673" y="1522"/>
                  </a:lnTo>
                  <a:lnTo>
                    <a:pt x="1667" y="1903"/>
                  </a:lnTo>
                  <a:lnTo>
                    <a:pt x="1665" y="2284"/>
                  </a:lnTo>
                  <a:lnTo>
                    <a:pt x="1673" y="2665"/>
                  </a:lnTo>
                  <a:lnTo>
                    <a:pt x="1691" y="3045"/>
                  </a:lnTo>
                  <a:lnTo>
                    <a:pt x="1691" y="3087"/>
                  </a:lnTo>
                  <a:lnTo>
                    <a:pt x="1686" y="3124"/>
                  </a:lnTo>
                  <a:lnTo>
                    <a:pt x="1677" y="3155"/>
                  </a:lnTo>
                  <a:lnTo>
                    <a:pt x="1663" y="3183"/>
                  </a:lnTo>
                  <a:lnTo>
                    <a:pt x="1644" y="3205"/>
                  </a:lnTo>
                  <a:lnTo>
                    <a:pt x="1621" y="3223"/>
                  </a:lnTo>
                  <a:lnTo>
                    <a:pt x="1595" y="3236"/>
                  </a:lnTo>
                  <a:lnTo>
                    <a:pt x="1566" y="3244"/>
                  </a:lnTo>
                  <a:lnTo>
                    <a:pt x="1490" y="3253"/>
                  </a:lnTo>
                  <a:lnTo>
                    <a:pt x="1414" y="3255"/>
                  </a:lnTo>
                  <a:lnTo>
                    <a:pt x="1262" y="3244"/>
                  </a:lnTo>
                  <a:lnTo>
                    <a:pt x="1152" y="3231"/>
                  </a:lnTo>
                  <a:lnTo>
                    <a:pt x="1076" y="3214"/>
                  </a:lnTo>
                  <a:lnTo>
                    <a:pt x="1049" y="3202"/>
                  </a:lnTo>
                  <a:lnTo>
                    <a:pt x="1028" y="3187"/>
                  </a:lnTo>
                  <a:lnTo>
                    <a:pt x="1011" y="3166"/>
                  </a:lnTo>
                  <a:lnTo>
                    <a:pt x="1001" y="3141"/>
                  </a:lnTo>
                  <a:lnTo>
                    <a:pt x="994" y="3129"/>
                  </a:lnTo>
                  <a:lnTo>
                    <a:pt x="981" y="3119"/>
                  </a:lnTo>
                  <a:lnTo>
                    <a:pt x="944" y="3103"/>
                  </a:lnTo>
                  <a:lnTo>
                    <a:pt x="895" y="3093"/>
                  </a:lnTo>
                  <a:lnTo>
                    <a:pt x="840" y="3090"/>
                  </a:lnTo>
                  <a:lnTo>
                    <a:pt x="785" y="3093"/>
                  </a:lnTo>
                  <a:lnTo>
                    <a:pt x="735" y="3103"/>
                  </a:lnTo>
                  <a:lnTo>
                    <a:pt x="698" y="3119"/>
                  </a:lnTo>
                  <a:lnTo>
                    <a:pt x="685" y="3129"/>
                  </a:lnTo>
                  <a:lnTo>
                    <a:pt x="679" y="3141"/>
                  </a:lnTo>
                  <a:lnTo>
                    <a:pt x="668" y="3166"/>
                  </a:lnTo>
                  <a:lnTo>
                    <a:pt x="652" y="3187"/>
                  </a:lnTo>
                  <a:lnTo>
                    <a:pt x="632" y="3202"/>
                  </a:lnTo>
                  <a:lnTo>
                    <a:pt x="604" y="3214"/>
                  </a:lnTo>
                  <a:lnTo>
                    <a:pt x="527" y="3231"/>
                  </a:lnTo>
                  <a:lnTo>
                    <a:pt x="418" y="3244"/>
                  </a:lnTo>
                  <a:lnTo>
                    <a:pt x="266" y="3255"/>
                  </a:lnTo>
                  <a:lnTo>
                    <a:pt x="189" y="3253"/>
                  </a:lnTo>
                  <a:lnTo>
                    <a:pt x="162" y="3252"/>
                  </a:lnTo>
                  <a:lnTo>
                    <a:pt x="115" y="324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07680" y="766080"/>
              <a:ext cx="292320" cy="283680"/>
            </a:xfrm>
            <a:custGeom>
              <a:avLst/>
              <a:gdLst/>
              <a:ahLst/>
              <a:rect l="l" t="t" r="r" b="b"/>
              <a:pathLst>
                <a:path w="1188" h="1157">
                  <a:moveTo>
                    <a:pt x="0" y="1157"/>
                  </a:moveTo>
                  <a:lnTo>
                    <a:pt x="7" y="719"/>
                  </a:lnTo>
                  <a:lnTo>
                    <a:pt x="34" y="691"/>
                  </a:lnTo>
                  <a:lnTo>
                    <a:pt x="67" y="666"/>
                  </a:lnTo>
                  <a:lnTo>
                    <a:pt x="105" y="643"/>
                  </a:lnTo>
                  <a:lnTo>
                    <a:pt x="151" y="621"/>
                  </a:lnTo>
                  <a:lnTo>
                    <a:pt x="280" y="563"/>
                  </a:lnTo>
                  <a:lnTo>
                    <a:pt x="411" y="500"/>
                  </a:lnTo>
                  <a:lnTo>
                    <a:pt x="542" y="429"/>
                  </a:lnTo>
                  <a:lnTo>
                    <a:pt x="674" y="354"/>
                  </a:lnTo>
                  <a:lnTo>
                    <a:pt x="804" y="272"/>
                  </a:lnTo>
                  <a:lnTo>
                    <a:pt x="935" y="186"/>
                  </a:lnTo>
                  <a:lnTo>
                    <a:pt x="1063" y="96"/>
                  </a:lnTo>
                  <a:lnTo>
                    <a:pt x="1188" y="0"/>
                  </a:lnTo>
                  <a:lnTo>
                    <a:pt x="1148" y="77"/>
                  </a:lnTo>
                  <a:lnTo>
                    <a:pt x="1098" y="155"/>
                  </a:lnTo>
                  <a:lnTo>
                    <a:pt x="1038" y="229"/>
                  </a:lnTo>
                  <a:lnTo>
                    <a:pt x="970" y="304"/>
                  </a:lnTo>
                  <a:lnTo>
                    <a:pt x="895" y="377"/>
                  </a:lnTo>
                  <a:lnTo>
                    <a:pt x="814" y="449"/>
                  </a:lnTo>
                  <a:lnTo>
                    <a:pt x="644" y="593"/>
                  </a:lnTo>
                  <a:lnTo>
                    <a:pt x="466" y="733"/>
                  </a:lnTo>
                  <a:lnTo>
                    <a:pt x="292" y="874"/>
                  </a:lnTo>
                  <a:lnTo>
                    <a:pt x="211" y="944"/>
                  </a:lnTo>
                  <a:lnTo>
                    <a:pt x="134" y="1014"/>
                  </a:lnTo>
                  <a:lnTo>
                    <a:pt x="63" y="1085"/>
                  </a:lnTo>
                  <a:lnTo>
                    <a:pt x="0" y="115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19320" y="238320"/>
              <a:ext cx="608400" cy="522720"/>
            </a:xfrm>
            <a:custGeom>
              <a:avLst/>
              <a:gdLst/>
              <a:ahLst/>
              <a:rect l="l" t="t" r="r" b="b"/>
              <a:pathLst>
                <a:path w="2475" h="2128">
                  <a:moveTo>
                    <a:pt x="1179" y="1728"/>
                  </a:moveTo>
                  <a:lnTo>
                    <a:pt x="1188" y="1649"/>
                  </a:lnTo>
                  <a:lnTo>
                    <a:pt x="1191" y="1567"/>
                  </a:lnTo>
                  <a:lnTo>
                    <a:pt x="1183" y="1405"/>
                  </a:lnTo>
                  <a:lnTo>
                    <a:pt x="1164" y="1183"/>
                  </a:lnTo>
                  <a:lnTo>
                    <a:pt x="1134" y="1222"/>
                  </a:lnTo>
                  <a:lnTo>
                    <a:pt x="1096" y="1252"/>
                  </a:lnTo>
                  <a:lnTo>
                    <a:pt x="1052" y="1274"/>
                  </a:lnTo>
                  <a:lnTo>
                    <a:pt x="1009" y="1291"/>
                  </a:lnTo>
                  <a:lnTo>
                    <a:pt x="957" y="1393"/>
                  </a:lnTo>
                  <a:lnTo>
                    <a:pt x="894" y="1488"/>
                  </a:lnTo>
                  <a:lnTo>
                    <a:pt x="823" y="1577"/>
                  </a:lnTo>
                  <a:lnTo>
                    <a:pt x="746" y="1659"/>
                  </a:lnTo>
                  <a:lnTo>
                    <a:pt x="661" y="1736"/>
                  </a:lnTo>
                  <a:lnTo>
                    <a:pt x="572" y="1808"/>
                  </a:lnTo>
                  <a:lnTo>
                    <a:pt x="385" y="1936"/>
                  </a:lnTo>
                  <a:lnTo>
                    <a:pt x="369" y="1969"/>
                  </a:lnTo>
                  <a:lnTo>
                    <a:pt x="346" y="2002"/>
                  </a:lnTo>
                  <a:lnTo>
                    <a:pt x="316" y="2033"/>
                  </a:lnTo>
                  <a:lnTo>
                    <a:pt x="282" y="2063"/>
                  </a:lnTo>
                  <a:lnTo>
                    <a:pt x="244" y="2090"/>
                  </a:lnTo>
                  <a:lnTo>
                    <a:pt x="207" y="2109"/>
                  </a:lnTo>
                  <a:lnTo>
                    <a:pt x="170" y="2122"/>
                  </a:lnTo>
                  <a:lnTo>
                    <a:pt x="138" y="2128"/>
                  </a:lnTo>
                  <a:lnTo>
                    <a:pt x="155" y="2125"/>
                  </a:lnTo>
                  <a:lnTo>
                    <a:pt x="169" y="2117"/>
                  </a:lnTo>
                  <a:lnTo>
                    <a:pt x="182" y="2105"/>
                  </a:lnTo>
                  <a:lnTo>
                    <a:pt x="194" y="2088"/>
                  </a:lnTo>
                  <a:lnTo>
                    <a:pt x="214" y="2046"/>
                  </a:lnTo>
                  <a:lnTo>
                    <a:pt x="228" y="1997"/>
                  </a:lnTo>
                  <a:lnTo>
                    <a:pt x="244" y="1887"/>
                  </a:lnTo>
                  <a:lnTo>
                    <a:pt x="248" y="1798"/>
                  </a:lnTo>
                  <a:lnTo>
                    <a:pt x="245" y="1721"/>
                  </a:lnTo>
                  <a:lnTo>
                    <a:pt x="239" y="1651"/>
                  </a:lnTo>
                  <a:lnTo>
                    <a:pt x="229" y="1591"/>
                  </a:lnTo>
                  <a:lnTo>
                    <a:pt x="216" y="1539"/>
                  </a:lnTo>
                  <a:lnTo>
                    <a:pt x="201" y="1493"/>
                  </a:lnTo>
                  <a:lnTo>
                    <a:pt x="182" y="1455"/>
                  </a:lnTo>
                  <a:lnTo>
                    <a:pt x="164" y="1423"/>
                  </a:lnTo>
                  <a:lnTo>
                    <a:pt x="143" y="1400"/>
                  </a:lnTo>
                  <a:lnTo>
                    <a:pt x="101" y="1367"/>
                  </a:lnTo>
                  <a:lnTo>
                    <a:pt x="80" y="1359"/>
                  </a:lnTo>
                  <a:lnTo>
                    <a:pt x="61" y="1355"/>
                  </a:lnTo>
                  <a:lnTo>
                    <a:pt x="42" y="1357"/>
                  </a:lnTo>
                  <a:lnTo>
                    <a:pt x="25" y="1362"/>
                  </a:lnTo>
                  <a:lnTo>
                    <a:pt x="12" y="1370"/>
                  </a:lnTo>
                  <a:lnTo>
                    <a:pt x="0" y="1382"/>
                  </a:lnTo>
                  <a:lnTo>
                    <a:pt x="67" y="1302"/>
                  </a:lnTo>
                  <a:lnTo>
                    <a:pt x="134" y="1239"/>
                  </a:lnTo>
                  <a:lnTo>
                    <a:pt x="199" y="1189"/>
                  </a:lnTo>
                  <a:lnTo>
                    <a:pt x="265" y="1151"/>
                  </a:lnTo>
                  <a:lnTo>
                    <a:pt x="295" y="1103"/>
                  </a:lnTo>
                  <a:lnTo>
                    <a:pt x="325" y="1060"/>
                  </a:lnTo>
                  <a:lnTo>
                    <a:pt x="358" y="1020"/>
                  </a:lnTo>
                  <a:lnTo>
                    <a:pt x="392" y="986"/>
                  </a:lnTo>
                  <a:lnTo>
                    <a:pt x="460" y="929"/>
                  </a:lnTo>
                  <a:lnTo>
                    <a:pt x="530" y="880"/>
                  </a:lnTo>
                  <a:lnTo>
                    <a:pt x="549" y="811"/>
                  </a:lnTo>
                  <a:lnTo>
                    <a:pt x="577" y="753"/>
                  </a:lnTo>
                  <a:lnTo>
                    <a:pt x="614" y="704"/>
                  </a:lnTo>
                  <a:lnTo>
                    <a:pt x="653" y="661"/>
                  </a:lnTo>
                  <a:lnTo>
                    <a:pt x="734" y="575"/>
                  </a:lnTo>
                  <a:lnTo>
                    <a:pt x="768" y="528"/>
                  </a:lnTo>
                  <a:lnTo>
                    <a:pt x="780" y="509"/>
                  </a:lnTo>
                  <a:lnTo>
                    <a:pt x="795" y="472"/>
                  </a:lnTo>
                  <a:lnTo>
                    <a:pt x="836" y="371"/>
                  </a:lnTo>
                  <a:lnTo>
                    <a:pt x="859" y="327"/>
                  </a:lnTo>
                  <a:lnTo>
                    <a:pt x="884" y="286"/>
                  </a:lnTo>
                  <a:lnTo>
                    <a:pt x="911" y="248"/>
                  </a:lnTo>
                  <a:lnTo>
                    <a:pt x="941" y="216"/>
                  </a:lnTo>
                  <a:lnTo>
                    <a:pt x="1011" y="158"/>
                  </a:lnTo>
                  <a:lnTo>
                    <a:pt x="1050" y="133"/>
                  </a:lnTo>
                  <a:lnTo>
                    <a:pt x="1093" y="111"/>
                  </a:lnTo>
                  <a:lnTo>
                    <a:pt x="1191" y="76"/>
                  </a:lnTo>
                  <a:lnTo>
                    <a:pt x="1310" y="48"/>
                  </a:lnTo>
                  <a:lnTo>
                    <a:pt x="1449" y="28"/>
                  </a:lnTo>
                  <a:lnTo>
                    <a:pt x="1512" y="18"/>
                  </a:lnTo>
                  <a:lnTo>
                    <a:pt x="1563" y="2"/>
                  </a:lnTo>
                  <a:lnTo>
                    <a:pt x="1559" y="7"/>
                  </a:lnTo>
                  <a:lnTo>
                    <a:pt x="1567" y="19"/>
                  </a:lnTo>
                  <a:lnTo>
                    <a:pt x="1603" y="56"/>
                  </a:lnTo>
                  <a:lnTo>
                    <a:pt x="1641" y="87"/>
                  </a:lnTo>
                  <a:lnTo>
                    <a:pt x="1683" y="111"/>
                  </a:lnTo>
                  <a:lnTo>
                    <a:pt x="1729" y="129"/>
                  </a:lnTo>
                  <a:lnTo>
                    <a:pt x="1776" y="142"/>
                  </a:lnTo>
                  <a:lnTo>
                    <a:pt x="1828" y="151"/>
                  </a:lnTo>
                  <a:lnTo>
                    <a:pt x="1945" y="158"/>
                  </a:lnTo>
                  <a:lnTo>
                    <a:pt x="2000" y="155"/>
                  </a:lnTo>
                  <a:lnTo>
                    <a:pt x="2052" y="149"/>
                  </a:lnTo>
                  <a:lnTo>
                    <a:pt x="2102" y="137"/>
                  </a:lnTo>
                  <a:lnTo>
                    <a:pt x="2146" y="120"/>
                  </a:lnTo>
                  <a:lnTo>
                    <a:pt x="2188" y="98"/>
                  </a:lnTo>
                  <a:lnTo>
                    <a:pt x="2225" y="70"/>
                  </a:lnTo>
                  <a:lnTo>
                    <a:pt x="2255" y="38"/>
                  </a:lnTo>
                  <a:lnTo>
                    <a:pt x="2281" y="0"/>
                  </a:lnTo>
                  <a:lnTo>
                    <a:pt x="2345" y="22"/>
                  </a:lnTo>
                  <a:lnTo>
                    <a:pt x="2394" y="51"/>
                  </a:lnTo>
                  <a:lnTo>
                    <a:pt x="2430" y="87"/>
                  </a:lnTo>
                  <a:lnTo>
                    <a:pt x="2455" y="132"/>
                  </a:lnTo>
                  <a:lnTo>
                    <a:pt x="2469" y="183"/>
                  </a:lnTo>
                  <a:lnTo>
                    <a:pt x="2475" y="243"/>
                  </a:lnTo>
                  <a:lnTo>
                    <a:pt x="2473" y="310"/>
                  </a:lnTo>
                  <a:lnTo>
                    <a:pt x="2467" y="386"/>
                  </a:lnTo>
                  <a:lnTo>
                    <a:pt x="2411" y="770"/>
                  </a:lnTo>
                  <a:lnTo>
                    <a:pt x="2386" y="1014"/>
                  </a:lnTo>
                  <a:lnTo>
                    <a:pt x="2378" y="1112"/>
                  </a:lnTo>
                  <a:lnTo>
                    <a:pt x="2377" y="1141"/>
                  </a:lnTo>
                  <a:lnTo>
                    <a:pt x="2378" y="1293"/>
                  </a:lnTo>
                  <a:lnTo>
                    <a:pt x="2252" y="1348"/>
                  </a:lnTo>
                  <a:lnTo>
                    <a:pt x="2124" y="1397"/>
                  </a:lnTo>
                  <a:lnTo>
                    <a:pt x="1862" y="1489"/>
                  </a:lnTo>
                  <a:lnTo>
                    <a:pt x="1731" y="1535"/>
                  </a:lnTo>
                  <a:lnTo>
                    <a:pt x="1602" y="1584"/>
                  </a:lnTo>
                  <a:lnTo>
                    <a:pt x="1475" y="1641"/>
                  </a:lnTo>
                  <a:lnTo>
                    <a:pt x="1353" y="1706"/>
                  </a:lnTo>
                  <a:lnTo>
                    <a:pt x="1179" y="172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19160" y="367920"/>
              <a:ext cx="111240" cy="108000"/>
            </a:xfrm>
            <a:custGeom>
              <a:avLst/>
              <a:gdLst/>
              <a:ahLst/>
              <a:rect l="l" t="t" r="r" b="b"/>
              <a:pathLst>
                <a:path w="450" h="441">
                  <a:moveTo>
                    <a:pt x="0" y="441"/>
                  </a:moveTo>
                  <a:lnTo>
                    <a:pt x="8" y="342"/>
                  </a:lnTo>
                  <a:lnTo>
                    <a:pt x="23" y="237"/>
                  </a:lnTo>
                  <a:lnTo>
                    <a:pt x="45" y="137"/>
                  </a:lnTo>
                  <a:lnTo>
                    <a:pt x="76" y="59"/>
                  </a:lnTo>
                  <a:lnTo>
                    <a:pt x="96" y="29"/>
                  </a:lnTo>
                  <a:lnTo>
                    <a:pt x="118" y="9"/>
                  </a:lnTo>
                  <a:lnTo>
                    <a:pt x="144" y="0"/>
                  </a:lnTo>
                  <a:lnTo>
                    <a:pt x="174" y="3"/>
                  </a:lnTo>
                  <a:lnTo>
                    <a:pt x="207" y="18"/>
                  </a:lnTo>
                  <a:lnTo>
                    <a:pt x="245" y="50"/>
                  </a:lnTo>
                  <a:lnTo>
                    <a:pt x="287" y="98"/>
                  </a:lnTo>
                  <a:lnTo>
                    <a:pt x="333" y="164"/>
                  </a:lnTo>
                  <a:lnTo>
                    <a:pt x="450" y="353"/>
                  </a:lnTo>
                  <a:lnTo>
                    <a:pt x="359" y="342"/>
                  </a:lnTo>
                  <a:lnTo>
                    <a:pt x="308" y="340"/>
                  </a:lnTo>
                  <a:lnTo>
                    <a:pt x="253" y="344"/>
                  </a:lnTo>
                  <a:lnTo>
                    <a:pt x="194" y="355"/>
                  </a:lnTo>
                  <a:lnTo>
                    <a:pt x="132" y="373"/>
                  </a:lnTo>
                  <a:lnTo>
                    <a:pt x="68" y="402"/>
                  </a:lnTo>
                  <a:lnTo>
                    <a:pt x="0" y="44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85400" y="512280"/>
              <a:ext cx="174960" cy="248400"/>
            </a:xfrm>
            <a:custGeom>
              <a:avLst/>
              <a:gdLst/>
              <a:ahLst/>
              <a:rect l="l" t="t" r="r" b="b"/>
              <a:pathLst>
                <a:path w="713" h="1009">
                  <a:moveTo>
                    <a:pt x="0" y="303"/>
                  </a:moveTo>
                  <a:lnTo>
                    <a:pt x="89" y="188"/>
                  </a:lnTo>
                  <a:lnTo>
                    <a:pt x="140" y="127"/>
                  </a:lnTo>
                  <a:lnTo>
                    <a:pt x="196" y="72"/>
                  </a:lnTo>
                  <a:lnTo>
                    <a:pt x="254" y="28"/>
                  </a:lnTo>
                  <a:lnTo>
                    <a:pt x="285" y="13"/>
                  </a:lnTo>
                  <a:lnTo>
                    <a:pt x="317" y="2"/>
                  </a:lnTo>
                  <a:lnTo>
                    <a:pt x="350" y="0"/>
                  </a:lnTo>
                  <a:lnTo>
                    <a:pt x="382" y="2"/>
                  </a:lnTo>
                  <a:lnTo>
                    <a:pt x="416" y="13"/>
                  </a:lnTo>
                  <a:lnTo>
                    <a:pt x="450" y="32"/>
                  </a:lnTo>
                  <a:lnTo>
                    <a:pt x="513" y="77"/>
                  </a:lnTo>
                  <a:lnTo>
                    <a:pt x="579" y="128"/>
                  </a:lnTo>
                  <a:lnTo>
                    <a:pt x="647" y="189"/>
                  </a:lnTo>
                  <a:lnTo>
                    <a:pt x="713" y="263"/>
                  </a:lnTo>
                  <a:lnTo>
                    <a:pt x="702" y="251"/>
                  </a:lnTo>
                  <a:lnTo>
                    <a:pt x="688" y="243"/>
                  </a:lnTo>
                  <a:lnTo>
                    <a:pt x="671" y="238"/>
                  </a:lnTo>
                  <a:lnTo>
                    <a:pt x="653" y="236"/>
                  </a:lnTo>
                  <a:lnTo>
                    <a:pt x="634" y="240"/>
                  </a:lnTo>
                  <a:lnTo>
                    <a:pt x="613" y="248"/>
                  </a:lnTo>
                  <a:lnTo>
                    <a:pt x="592" y="261"/>
                  </a:lnTo>
                  <a:lnTo>
                    <a:pt x="571" y="281"/>
                  </a:lnTo>
                  <a:lnTo>
                    <a:pt x="551" y="304"/>
                  </a:lnTo>
                  <a:lnTo>
                    <a:pt x="531" y="336"/>
                  </a:lnTo>
                  <a:lnTo>
                    <a:pt x="514" y="374"/>
                  </a:lnTo>
                  <a:lnTo>
                    <a:pt x="499" y="420"/>
                  </a:lnTo>
                  <a:lnTo>
                    <a:pt x="486" y="472"/>
                  </a:lnTo>
                  <a:lnTo>
                    <a:pt x="475" y="532"/>
                  </a:lnTo>
                  <a:lnTo>
                    <a:pt x="470" y="602"/>
                  </a:lnTo>
                  <a:lnTo>
                    <a:pt x="467" y="679"/>
                  </a:lnTo>
                  <a:lnTo>
                    <a:pt x="471" y="768"/>
                  </a:lnTo>
                  <a:lnTo>
                    <a:pt x="487" y="878"/>
                  </a:lnTo>
                  <a:lnTo>
                    <a:pt x="501" y="927"/>
                  </a:lnTo>
                  <a:lnTo>
                    <a:pt x="520" y="969"/>
                  </a:lnTo>
                  <a:lnTo>
                    <a:pt x="531" y="986"/>
                  </a:lnTo>
                  <a:lnTo>
                    <a:pt x="545" y="998"/>
                  </a:lnTo>
                  <a:lnTo>
                    <a:pt x="559" y="1006"/>
                  </a:lnTo>
                  <a:lnTo>
                    <a:pt x="576" y="1009"/>
                  </a:lnTo>
                  <a:lnTo>
                    <a:pt x="537" y="1002"/>
                  </a:lnTo>
                  <a:lnTo>
                    <a:pt x="503" y="984"/>
                  </a:lnTo>
                  <a:lnTo>
                    <a:pt x="471" y="956"/>
                  </a:lnTo>
                  <a:lnTo>
                    <a:pt x="442" y="920"/>
                  </a:lnTo>
                  <a:lnTo>
                    <a:pt x="391" y="827"/>
                  </a:lnTo>
                  <a:lnTo>
                    <a:pt x="344" y="721"/>
                  </a:lnTo>
                  <a:lnTo>
                    <a:pt x="287" y="671"/>
                  </a:lnTo>
                  <a:lnTo>
                    <a:pt x="233" y="617"/>
                  </a:lnTo>
                  <a:lnTo>
                    <a:pt x="168" y="544"/>
                  </a:lnTo>
                  <a:lnTo>
                    <a:pt x="107" y="467"/>
                  </a:lnTo>
                  <a:lnTo>
                    <a:pt x="53" y="387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33680" y="1166040"/>
              <a:ext cx="6480" cy="339840"/>
            </a:xfrm>
            <a:custGeom>
              <a:avLst/>
              <a:gdLst/>
              <a:ahLst/>
              <a:rect l="l" t="t" r="r" b="b"/>
              <a:pathLst>
                <a:path w="26" h="1385">
                  <a:moveTo>
                    <a:pt x="26" y="1385"/>
                  </a:moveTo>
                  <a:lnTo>
                    <a:pt x="22" y="1039"/>
                  </a:lnTo>
                  <a:lnTo>
                    <a:pt x="8" y="693"/>
                  </a:lnTo>
                  <a:lnTo>
                    <a:pt x="3" y="520"/>
                  </a:lnTo>
                  <a:lnTo>
                    <a:pt x="0" y="347"/>
                  </a:lnTo>
                  <a:lnTo>
                    <a:pt x="3" y="17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33400" y="1462680"/>
              <a:ext cx="2880" cy="102240"/>
            </a:xfrm>
            <a:custGeom>
              <a:avLst/>
              <a:gdLst/>
              <a:ahLst/>
              <a:rect l="l" t="t" r="r" b="b"/>
              <a:pathLst>
                <a:path w="11" h="419">
                  <a:moveTo>
                    <a:pt x="8" y="419"/>
                  </a:moveTo>
                  <a:lnTo>
                    <a:pt x="2" y="386"/>
                  </a:lnTo>
                  <a:lnTo>
                    <a:pt x="0" y="344"/>
                  </a:lnTo>
                  <a:lnTo>
                    <a:pt x="4" y="236"/>
                  </a:lnTo>
                  <a:lnTo>
                    <a:pt x="10" y="11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743840" y="1022760"/>
              <a:ext cx="26280" cy="384840"/>
            </a:xfrm>
            <a:custGeom>
              <a:avLst/>
              <a:gdLst/>
              <a:ahLst/>
              <a:rect l="l" t="t" r="r" b="b"/>
              <a:pathLst>
                <a:path w="108" h="1565">
                  <a:moveTo>
                    <a:pt x="92" y="1565"/>
                  </a:moveTo>
                  <a:lnTo>
                    <a:pt x="103" y="1449"/>
                  </a:lnTo>
                  <a:lnTo>
                    <a:pt x="108" y="1338"/>
                  </a:lnTo>
                  <a:lnTo>
                    <a:pt x="108" y="1232"/>
                  </a:lnTo>
                  <a:lnTo>
                    <a:pt x="104" y="1128"/>
                  </a:lnTo>
                  <a:lnTo>
                    <a:pt x="86" y="933"/>
                  </a:lnTo>
                  <a:lnTo>
                    <a:pt x="59" y="746"/>
                  </a:lnTo>
                  <a:lnTo>
                    <a:pt x="32" y="564"/>
                  </a:lnTo>
                  <a:lnTo>
                    <a:pt x="10" y="381"/>
                  </a:lnTo>
                  <a:lnTo>
                    <a:pt x="3" y="289"/>
                  </a:lnTo>
                  <a:lnTo>
                    <a:pt x="0" y="195"/>
                  </a:lnTo>
                  <a:lnTo>
                    <a:pt x="2" y="10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13640" y="607680"/>
              <a:ext cx="72720" cy="105840"/>
            </a:xfrm>
            <a:custGeom>
              <a:avLst/>
              <a:gdLst/>
              <a:ahLst/>
              <a:rect l="l" t="t" r="r" b="b"/>
              <a:pathLst>
                <a:path w="296" h="433">
                  <a:moveTo>
                    <a:pt x="0" y="433"/>
                  </a:moveTo>
                  <a:lnTo>
                    <a:pt x="25" y="372"/>
                  </a:lnTo>
                  <a:lnTo>
                    <a:pt x="54" y="312"/>
                  </a:lnTo>
                  <a:lnTo>
                    <a:pt x="85" y="254"/>
                  </a:lnTo>
                  <a:lnTo>
                    <a:pt x="120" y="198"/>
                  </a:lnTo>
                  <a:lnTo>
                    <a:pt x="200" y="92"/>
                  </a:lnTo>
                  <a:lnTo>
                    <a:pt x="246" y="45"/>
                  </a:lnTo>
                  <a:lnTo>
                    <a:pt x="2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284120" y="401400"/>
              <a:ext cx="187920" cy="119880"/>
            </a:xfrm>
            <a:custGeom>
              <a:avLst/>
              <a:gdLst/>
              <a:ahLst/>
              <a:rect l="l" t="t" r="r" b="b"/>
              <a:pathLst>
                <a:path w="765" h="488">
                  <a:moveTo>
                    <a:pt x="0" y="488"/>
                  </a:moveTo>
                  <a:lnTo>
                    <a:pt x="85" y="450"/>
                  </a:lnTo>
                  <a:lnTo>
                    <a:pt x="171" y="418"/>
                  </a:lnTo>
                  <a:lnTo>
                    <a:pt x="260" y="386"/>
                  </a:lnTo>
                  <a:lnTo>
                    <a:pt x="352" y="347"/>
                  </a:lnTo>
                  <a:lnTo>
                    <a:pt x="447" y="296"/>
                  </a:lnTo>
                  <a:lnTo>
                    <a:pt x="497" y="263"/>
                  </a:lnTo>
                  <a:lnTo>
                    <a:pt x="548" y="225"/>
                  </a:lnTo>
                  <a:lnTo>
                    <a:pt x="653" y="128"/>
                  </a:lnTo>
                  <a:lnTo>
                    <a:pt x="7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49280" y="385560"/>
              <a:ext cx="87480" cy="6876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278"/>
                  </a:moveTo>
                  <a:lnTo>
                    <a:pt x="101" y="222"/>
                  </a:lnTo>
                  <a:lnTo>
                    <a:pt x="197" y="165"/>
                  </a:lnTo>
                  <a:lnTo>
                    <a:pt x="242" y="132"/>
                  </a:lnTo>
                  <a:lnTo>
                    <a:pt x="284" y="95"/>
                  </a:lnTo>
                  <a:lnTo>
                    <a:pt x="323" y="5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67360" y="402120"/>
              <a:ext cx="50040" cy="153000"/>
            </a:xfrm>
            <a:custGeom>
              <a:avLst/>
              <a:gdLst/>
              <a:ahLst/>
              <a:rect l="l" t="t" r="r" b="b"/>
              <a:pathLst>
                <a:path w="203" h="620">
                  <a:moveTo>
                    <a:pt x="0" y="620"/>
                  </a:moveTo>
                  <a:lnTo>
                    <a:pt x="30" y="543"/>
                  </a:lnTo>
                  <a:lnTo>
                    <a:pt x="53" y="465"/>
                  </a:lnTo>
                  <a:lnTo>
                    <a:pt x="87" y="305"/>
                  </a:lnTo>
                  <a:lnTo>
                    <a:pt x="105" y="225"/>
                  </a:lnTo>
                  <a:lnTo>
                    <a:pt x="128" y="147"/>
                  </a:lnTo>
                  <a:lnTo>
                    <a:pt x="160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504800" y="336600"/>
              <a:ext cx="64800" cy="191520"/>
            </a:xfrm>
            <a:custGeom>
              <a:avLst/>
              <a:gdLst/>
              <a:ahLst/>
              <a:rect l="l" t="t" r="r" b="b"/>
              <a:pathLst>
                <a:path w="261" h="780">
                  <a:moveTo>
                    <a:pt x="170" y="0"/>
                  </a:moveTo>
                  <a:lnTo>
                    <a:pt x="168" y="99"/>
                  </a:lnTo>
                  <a:lnTo>
                    <a:pt x="163" y="200"/>
                  </a:lnTo>
                  <a:lnTo>
                    <a:pt x="153" y="301"/>
                  </a:lnTo>
                  <a:lnTo>
                    <a:pt x="136" y="400"/>
                  </a:lnTo>
                  <a:lnTo>
                    <a:pt x="113" y="500"/>
                  </a:lnTo>
                  <a:lnTo>
                    <a:pt x="83" y="596"/>
                  </a:lnTo>
                  <a:lnTo>
                    <a:pt x="45" y="689"/>
                  </a:lnTo>
                  <a:lnTo>
                    <a:pt x="0" y="780"/>
                  </a:lnTo>
                  <a:lnTo>
                    <a:pt x="65" y="746"/>
                  </a:lnTo>
                  <a:lnTo>
                    <a:pt x="95" y="726"/>
                  </a:lnTo>
                  <a:lnTo>
                    <a:pt x="123" y="702"/>
                  </a:lnTo>
                  <a:lnTo>
                    <a:pt x="172" y="649"/>
                  </a:lnTo>
                  <a:lnTo>
                    <a:pt x="212" y="589"/>
                  </a:lnTo>
                  <a:lnTo>
                    <a:pt x="242" y="522"/>
                  </a:lnTo>
                  <a:lnTo>
                    <a:pt x="259" y="451"/>
                  </a:lnTo>
                  <a:lnTo>
                    <a:pt x="261" y="378"/>
                  </a:lnTo>
                  <a:lnTo>
                    <a:pt x="251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34360" y="627480"/>
              <a:ext cx="35280" cy="6264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0" y="0"/>
                  </a:moveTo>
                  <a:lnTo>
                    <a:pt x="42" y="50"/>
                  </a:lnTo>
                  <a:lnTo>
                    <a:pt x="79" y="112"/>
                  </a:lnTo>
                  <a:lnTo>
                    <a:pt x="145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51520" y="228600"/>
              <a:ext cx="674280" cy="1092600"/>
            </a:xfrm>
            <a:custGeom>
              <a:avLst/>
              <a:gdLst/>
              <a:ahLst/>
              <a:rect l="l" t="t" r="r" b="b"/>
              <a:pathLst>
                <a:path w="2742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  <a:moveTo>
                    <a:pt x="2384" y="3834"/>
                  </a:moveTo>
                  <a:lnTo>
                    <a:pt x="2382" y="3704"/>
                  </a:lnTo>
                  <a:lnTo>
                    <a:pt x="2383" y="3571"/>
                  </a:lnTo>
                  <a:lnTo>
                    <a:pt x="2391" y="3307"/>
                  </a:lnTo>
                  <a:lnTo>
                    <a:pt x="2420" y="2782"/>
                  </a:lnTo>
                  <a:lnTo>
                    <a:pt x="2432" y="2523"/>
                  </a:lnTo>
                  <a:lnTo>
                    <a:pt x="2434" y="2268"/>
                  </a:lnTo>
                  <a:lnTo>
                    <a:pt x="2425" y="2017"/>
                  </a:lnTo>
                  <a:lnTo>
                    <a:pt x="2415" y="1895"/>
                  </a:lnTo>
                  <a:lnTo>
                    <a:pt x="2399" y="1773"/>
                  </a:lnTo>
                  <a:lnTo>
                    <a:pt x="2452" y="1826"/>
                  </a:lnTo>
                  <a:lnTo>
                    <a:pt x="2510" y="1875"/>
                  </a:lnTo>
                  <a:lnTo>
                    <a:pt x="2557" y="1981"/>
                  </a:lnTo>
                  <a:lnTo>
                    <a:pt x="2608" y="2074"/>
                  </a:lnTo>
                  <a:lnTo>
                    <a:pt x="2637" y="2111"/>
                  </a:lnTo>
                  <a:lnTo>
                    <a:pt x="2668" y="2138"/>
                  </a:lnTo>
                  <a:lnTo>
                    <a:pt x="2702" y="2157"/>
                  </a:lnTo>
                  <a:lnTo>
                    <a:pt x="2742" y="2163"/>
                  </a:lnTo>
                  <a:lnTo>
                    <a:pt x="2739" y="2255"/>
                  </a:lnTo>
                  <a:lnTo>
                    <a:pt x="2730" y="2344"/>
                  </a:lnTo>
                  <a:lnTo>
                    <a:pt x="2715" y="2432"/>
                  </a:lnTo>
                  <a:lnTo>
                    <a:pt x="2697" y="2517"/>
                  </a:lnTo>
                  <a:lnTo>
                    <a:pt x="2649" y="2683"/>
                  </a:lnTo>
                  <a:lnTo>
                    <a:pt x="2587" y="2848"/>
                  </a:lnTo>
                  <a:lnTo>
                    <a:pt x="2629" y="2946"/>
                  </a:lnTo>
                  <a:lnTo>
                    <a:pt x="2651" y="3035"/>
                  </a:lnTo>
                  <a:lnTo>
                    <a:pt x="2657" y="3117"/>
                  </a:lnTo>
                  <a:lnTo>
                    <a:pt x="2647" y="3192"/>
                  </a:lnTo>
                  <a:lnTo>
                    <a:pt x="2626" y="3263"/>
                  </a:lnTo>
                  <a:lnTo>
                    <a:pt x="2596" y="3331"/>
                  </a:lnTo>
                  <a:lnTo>
                    <a:pt x="2523" y="3458"/>
                  </a:lnTo>
                  <a:lnTo>
                    <a:pt x="2471" y="3544"/>
                  </a:lnTo>
                  <a:lnTo>
                    <a:pt x="2425" y="3634"/>
                  </a:lnTo>
                  <a:lnTo>
                    <a:pt x="2407" y="3680"/>
                  </a:lnTo>
                  <a:lnTo>
                    <a:pt x="2394" y="3730"/>
                  </a:lnTo>
                  <a:lnTo>
                    <a:pt x="2386" y="3781"/>
                  </a:lnTo>
                  <a:lnTo>
                    <a:pt x="2384" y="3834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51520" y="228600"/>
              <a:ext cx="644040" cy="1092600"/>
            </a:xfrm>
            <a:custGeom>
              <a:avLst/>
              <a:gdLst/>
              <a:ahLst/>
              <a:rect l="l" t="t" r="r" b="b"/>
              <a:pathLst>
                <a:path w="2616" h="4447">
                  <a:moveTo>
                    <a:pt x="53" y="4447"/>
                  </a:moveTo>
                  <a:lnTo>
                    <a:pt x="38" y="4395"/>
                  </a:lnTo>
                  <a:lnTo>
                    <a:pt x="28" y="4344"/>
                  </a:lnTo>
                  <a:lnTo>
                    <a:pt x="21" y="4239"/>
                  </a:lnTo>
                  <a:lnTo>
                    <a:pt x="30" y="4135"/>
                  </a:lnTo>
                  <a:lnTo>
                    <a:pt x="40" y="4084"/>
                  </a:lnTo>
                  <a:lnTo>
                    <a:pt x="54" y="4035"/>
                  </a:lnTo>
                  <a:lnTo>
                    <a:pt x="34" y="3957"/>
                  </a:lnTo>
                  <a:lnTo>
                    <a:pt x="24" y="3876"/>
                  </a:lnTo>
                  <a:lnTo>
                    <a:pt x="27" y="3791"/>
                  </a:lnTo>
                  <a:lnTo>
                    <a:pt x="41" y="3704"/>
                  </a:lnTo>
                  <a:lnTo>
                    <a:pt x="67" y="3613"/>
                  </a:lnTo>
                  <a:lnTo>
                    <a:pt x="106" y="3522"/>
                  </a:lnTo>
                  <a:lnTo>
                    <a:pt x="160" y="3430"/>
                  </a:lnTo>
                  <a:lnTo>
                    <a:pt x="227" y="3340"/>
                  </a:lnTo>
                  <a:lnTo>
                    <a:pt x="290" y="3268"/>
                  </a:lnTo>
                  <a:lnTo>
                    <a:pt x="360" y="3197"/>
                  </a:lnTo>
                  <a:lnTo>
                    <a:pt x="437" y="3126"/>
                  </a:lnTo>
                  <a:lnTo>
                    <a:pt x="519" y="3057"/>
                  </a:lnTo>
                  <a:lnTo>
                    <a:pt x="693" y="2916"/>
                  </a:lnTo>
                  <a:lnTo>
                    <a:pt x="871" y="2776"/>
                  </a:lnTo>
                  <a:lnTo>
                    <a:pt x="1041" y="2632"/>
                  </a:lnTo>
                  <a:lnTo>
                    <a:pt x="1122" y="2560"/>
                  </a:lnTo>
                  <a:lnTo>
                    <a:pt x="1196" y="2487"/>
                  </a:lnTo>
                  <a:lnTo>
                    <a:pt x="1264" y="2412"/>
                  </a:lnTo>
                  <a:lnTo>
                    <a:pt x="1325" y="2337"/>
                  </a:lnTo>
                  <a:lnTo>
                    <a:pt x="1374" y="2260"/>
                  </a:lnTo>
                  <a:lnTo>
                    <a:pt x="1415" y="2183"/>
                  </a:lnTo>
                  <a:lnTo>
                    <a:pt x="1289" y="2278"/>
                  </a:lnTo>
                  <a:lnTo>
                    <a:pt x="1161" y="2369"/>
                  </a:lnTo>
                  <a:lnTo>
                    <a:pt x="1031" y="2455"/>
                  </a:lnTo>
                  <a:lnTo>
                    <a:pt x="901" y="2536"/>
                  </a:lnTo>
                  <a:lnTo>
                    <a:pt x="770" y="2612"/>
                  </a:lnTo>
                  <a:lnTo>
                    <a:pt x="638" y="2683"/>
                  </a:lnTo>
                  <a:lnTo>
                    <a:pt x="507" y="2746"/>
                  </a:lnTo>
                  <a:lnTo>
                    <a:pt x="377" y="2803"/>
                  </a:lnTo>
                  <a:lnTo>
                    <a:pt x="321" y="2831"/>
                  </a:lnTo>
                  <a:lnTo>
                    <a:pt x="274" y="2862"/>
                  </a:lnTo>
                  <a:lnTo>
                    <a:pt x="239" y="2896"/>
                  </a:lnTo>
                  <a:lnTo>
                    <a:pt x="210" y="2933"/>
                  </a:lnTo>
                  <a:lnTo>
                    <a:pt x="189" y="2972"/>
                  </a:lnTo>
                  <a:lnTo>
                    <a:pt x="173" y="3015"/>
                  </a:lnTo>
                  <a:lnTo>
                    <a:pt x="161" y="3062"/>
                  </a:lnTo>
                  <a:lnTo>
                    <a:pt x="153" y="3113"/>
                  </a:lnTo>
                  <a:lnTo>
                    <a:pt x="133" y="3049"/>
                  </a:lnTo>
                  <a:lnTo>
                    <a:pt x="117" y="2983"/>
                  </a:lnTo>
                  <a:lnTo>
                    <a:pt x="106" y="2914"/>
                  </a:lnTo>
                  <a:lnTo>
                    <a:pt x="101" y="2846"/>
                  </a:lnTo>
                  <a:lnTo>
                    <a:pt x="101" y="2780"/>
                  </a:lnTo>
                  <a:lnTo>
                    <a:pt x="108" y="2716"/>
                  </a:lnTo>
                  <a:lnTo>
                    <a:pt x="119" y="2654"/>
                  </a:lnTo>
                  <a:lnTo>
                    <a:pt x="138" y="2596"/>
                  </a:lnTo>
                  <a:lnTo>
                    <a:pt x="151" y="2541"/>
                  </a:lnTo>
                  <a:lnTo>
                    <a:pt x="151" y="2488"/>
                  </a:lnTo>
                  <a:lnTo>
                    <a:pt x="138" y="2437"/>
                  </a:lnTo>
                  <a:lnTo>
                    <a:pt x="114" y="2387"/>
                  </a:lnTo>
                  <a:lnTo>
                    <a:pt x="91" y="2345"/>
                  </a:lnTo>
                  <a:lnTo>
                    <a:pt x="74" y="2306"/>
                  </a:lnTo>
                  <a:lnTo>
                    <a:pt x="54" y="2231"/>
                  </a:lnTo>
                  <a:lnTo>
                    <a:pt x="54" y="2161"/>
                  </a:lnTo>
                  <a:lnTo>
                    <a:pt x="72" y="2090"/>
                  </a:lnTo>
                  <a:lnTo>
                    <a:pt x="59" y="2074"/>
                  </a:lnTo>
                  <a:lnTo>
                    <a:pt x="49" y="2052"/>
                  </a:lnTo>
                  <a:lnTo>
                    <a:pt x="40" y="1997"/>
                  </a:lnTo>
                  <a:lnTo>
                    <a:pt x="41" y="1968"/>
                  </a:lnTo>
                  <a:lnTo>
                    <a:pt x="46" y="1943"/>
                  </a:lnTo>
                  <a:lnTo>
                    <a:pt x="55" y="1922"/>
                  </a:lnTo>
                  <a:lnTo>
                    <a:pt x="70" y="1908"/>
                  </a:lnTo>
                  <a:lnTo>
                    <a:pt x="0" y="1750"/>
                  </a:lnTo>
                  <a:lnTo>
                    <a:pt x="19" y="1771"/>
                  </a:lnTo>
                  <a:lnTo>
                    <a:pt x="47" y="1781"/>
                  </a:lnTo>
                  <a:lnTo>
                    <a:pt x="87" y="1784"/>
                  </a:lnTo>
                  <a:lnTo>
                    <a:pt x="135" y="1780"/>
                  </a:lnTo>
                  <a:lnTo>
                    <a:pt x="257" y="1760"/>
                  </a:lnTo>
                  <a:lnTo>
                    <a:pt x="405" y="1742"/>
                  </a:lnTo>
                  <a:lnTo>
                    <a:pt x="526" y="1676"/>
                  </a:lnTo>
                  <a:lnTo>
                    <a:pt x="653" y="1620"/>
                  </a:lnTo>
                  <a:lnTo>
                    <a:pt x="783" y="1570"/>
                  </a:lnTo>
                  <a:lnTo>
                    <a:pt x="914" y="1525"/>
                  </a:lnTo>
                  <a:lnTo>
                    <a:pt x="1177" y="1433"/>
                  </a:lnTo>
                  <a:lnTo>
                    <a:pt x="1305" y="1383"/>
                  </a:lnTo>
                  <a:lnTo>
                    <a:pt x="1353" y="1365"/>
                  </a:lnTo>
                  <a:lnTo>
                    <a:pt x="1431" y="1328"/>
                  </a:lnTo>
                  <a:lnTo>
                    <a:pt x="1432" y="1184"/>
                  </a:lnTo>
                  <a:lnTo>
                    <a:pt x="1438" y="1050"/>
                  </a:lnTo>
                  <a:lnTo>
                    <a:pt x="1463" y="806"/>
                  </a:lnTo>
                  <a:lnTo>
                    <a:pt x="1520" y="421"/>
                  </a:lnTo>
                  <a:lnTo>
                    <a:pt x="1526" y="345"/>
                  </a:lnTo>
                  <a:lnTo>
                    <a:pt x="1527" y="279"/>
                  </a:lnTo>
                  <a:lnTo>
                    <a:pt x="1522" y="219"/>
                  </a:lnTo>
                  <a:lnTo>
                    <a:pt x="1508" y="167"/>
                  </a:lnTo>
                  <a:lnTo>
                    <a:pt x="1483" y="123"/>
                  </a:lnTo>
                  <a:lnTo>
                    <a:pt x="1446" y="86"/>
                  </a:lnTo>
                  <a:lnTo>
                    <a:pt x="1398" y="58"/>
                  </a:lnTo>
                  <a:lnTo>
                    <a:pt x="1334" y="35"/>
                  </a:lnTo>
                  <a:lnTo>
                    <a:pt x="1314" y="33"/>
                  </a:lnTo>
                  <a:lnTo>
                    <a:pt x="1340" y="14"/>
                  </a:lnTo>
                  <a:lnTo>
                    <a:pt x="1368" y="4"/>
                  </a:lnTo>
                  <a:lnTo>
                    <a:pt x="1397" y="0"/>
                  </a:lnTo>
                  <a:lnTo>
                    <a:pt x="1427" y="3"/>
                  </a:lnTo>
                  <a:lnTo>
                    <a:pt x="1468" y="10"/>
                  </a:lnTo>
                  <a:lnTo>
                    <a:pt x="1500" y="24"/>
                  </a:lnTo>
                  <a:lnTo>
                    <a:pt x="1572" y="65"/>
                  </a:lnTo>
                  <a:lnTo>
                    <a:pt x="1608" y="54"/>
                  </a:lnTo>
                  <a:lnTo>
                    <a:pt x="1654" y="48"/>
                  </a:lnTo>
                  <a:lnTo>
                    <a:pt x="1704" y="50"/>
                  </a:lnTo>
                  <a:lnTo>
                    <a:pt x="1755" y="58"/>
                  </a:lnTo>
                  <a:lnTo>
                    <a:pt x="1803" y="72"/>
                  </a:lnTo>
                  <a:lnTo>
                    <a:pt x="1848" y="96"/>
                  </a:lnTo>
                  <a:lnTo>
                    <a:pt x="1883" y="127"/>
                  </a:lnTo>
                  <a:lnTo>
                    <a:pt x="1907" y="167"/>
                  </a:lnTo>
                  <a:lnTo>
                    <a:pt x="1954" y="171"/>
                  </a:lnTo>
                  <a:lnTo>
                    <a:pt x="1996" y="185"/>
                  </a:lnTo>
                  <a:lnTo>
                    <a:pt x="2034" y="204"/>
                  </a:lnTo>
                  <a:lnTo>
                    <a:pt x="2068" y="230"/>
                  </a:lnTo>
                  <a:lnTo>
                    <a:pt x="2097" y="262"/>
                  </a:lnTo>
                  <a:lnTo>
                    <a:pt x="2123" y="298"/>
                  </a:lnTo>
                  <a:lnTo>
                    <a:pt x="2163" y="381"/>
                  </a:lnTo>
                  <a:lnTo>
                    <a:pt x="2192" y="472"/>
                  </a:lnTo>
                  <a:lnTo>
                    <a:pt x="2212" y="564"/>
                  </a:lnTo>
                  <a:lnTo>
                    <a:pt x="2225" y="652"/>
                  </a:lnTo>
                  <a:lnTo>
                    <a:pt x="2231" y="728"/>
                  </a:lnTo>
                  <a:lnTo>
                    <a:pt x="2186" y="662"/>
                  </a:lnTo>
                  <a:lnTo>
                    <a:pt x="2144" y="614"/>
                  </a:lnTo>
                  <a:lnTo>
                    <a:pt x="2106" y="582"/>
                  </a:lnTo>
                  <a:lnTo>
                    <a:pt x="2073" y="567"/>
                  </a:lnTo>
                  <a:lnTo>
                    <a:pt x="2043" y="564"/>
                  </a:lnTo>
                  <a:lnTo>
                    <a:pt x="2017" y="573"/>
                  </a:lnTo>
                  <a:lnTo>
                    <a:pt x="1994" y="593"/>
                  </a:lnTo>
                  <a:lnTo>
                    <a:pt x="1975" y="623"/>
                  </a:lnTo>
                  <a:lnTo>
                    <a:pt x="1943" y="701"/>
                  </a:lnTo>
                  <a:lnTo>
                    <a:pt x="1921" y="800"/>
                  </a:lnTo>
                  <a:lnTo>
                    <a:pt x="1907" y="904"/>
                  </a:lnTo>
                  <a:lnTo>
                    <a:pt x="1899" y="1004"/>
                  </a:lnTo>
                  <a:lnTo>
                    <a:pt x="1967" y="964"/>
                  </a:lnTo>
                  <a:lnTo>
                    <a:pt x="2031" y="937"/>
                  </a:lnTo>
                  <a:lnTo>
                    <a:pt x="2093" y="917"/>
                  </a:lnTo>
                  <a:lnTo>
                    <a:pt x="2152" y="908"/>
                  </a:lnTo>
                  <a:lnTo>
                    <a:pt x="2206" y="904"/>
                  </a:lnTo>
                  <a:lnTo>
                    <a:pt x="2257" y="906"/>
                  </a:lnTo>
                  <a:lnTo>
                    <a:pt x="2349" y="917"/>
                  </a:lnTo>
                  <a:lnTo>
                    <a:pt x="2399" y="932"/>
                  </a:lnTo>
                  <a:lnTo>
                    <a:pt x="2447" y="954"/>
                  </a:lnTo>
                  <a:lnTo>
                    <a:pt x="2492" y="983"/>
                  </a:lnTo>
                  <a:lnTo>
                    <a:pt x="2532" y="1018"/>
                  </a:lnTo>
                  <a:lnTo>
                    <a:pt x="2566" y="1057"/>
                  </a:lnTo>
                  <a:lnTo>
                    <a:pt x="2592" y="1099"/>
                  </a:lnTo>
                  <a:lnTo>
                    <a:pt x="2609" y="1144"/>
                  </a:lnTo>
                  <a:lnTo>
                    <a:pt x="2616" y="1187"/>
                  </a:lnTo>
                  <a:lnTo>
                    <a:pt x="2582" y="1167"/>
                  </a:lnTo>
                  <a:lnTo>
                    <a:pt x="2548" y="1157"/>
                  </a:lnTo>
                  <a:lnTo>
                    <a:pt x="2515" y="1154"/>
                  </a:lnTo>
                  <a:lnTo>
                    <a:pt x="2483" y="1157"/>
                  </a:lnTo>
                  <a:lnTo>
                    <a:pt x="2451" y="1167"/>
                  </a:lnTo>
                  <a:lnTo>
                    <a:pt x="2420" y="1183"/>
                  </a:lnTo>
                  <a:lnTo>
                    <a:pt x="2362" y="1226"/>
                  </a:lnTo>
                  <a:lnTo>
                    <a:pt x="2306" y="1281"/>
                  </a:lnTo>
                  <a:lnTo>
                    <a:pt x="2255" y="1343"/>
                  </a:lnTo>
                  <a:lnTo>
                    <a:pt x="2166" y="1458"/>
                  </a:lnTo>
                  <a:lnTo>
                    <a:pt x="2032" y="1612"/>
                  </a:lnTo>
                  <a:lnTo>
                    <a:pt x="1891" y="1761"/>
                  </a:lnTo>
                  <a:lnTo>
                    <a:pt x="1892" y="1904"/>
                  </a:lnTo>
                  <a:lnTo>
                    <a:pt x="1889" y="1973"/>
                  </a:lnTo>
                  <a:lnTo>
                    <a:pt x="1882" y="2040"/>
                  </a:lnTo>
                  <a:lnTo>
                    <a:pt x="1860" y="2171"/>
                  </a:lnTo>
                  <a:lnTo>
                    <a:pt x="1824" y="2297"/>
                  </a:lnTo>
                  <a:lnTo>
                    <a:pt x="1789" y="2394"/>
                  </a:lnTo>
                  <a:lnTo>
                    <a:pt x="1750" y="2487"/>
                  </a:lnTo>
                  <a:lnTo>
                    <a:pt x="1704" y="2577"/>
                  </a:lnTo>
                  <a:lnTo>
                    <a:pt x="1654" y="2666"/>
                  </a:lnTo>
                  <a:lnTo>
                    <a:pt x="1599" y="2751"/>
                  </a:lnTo>
                  <a:lnTo>
                    <a:pt x="1542" y="2833"/>
                  </a:lnTo>
                  <a:lnTo>
                    <a:pt x="1416" y="2992"/>
                  </a:lnTo>
                  <a:lnTo>
                    <a:pt x="1281" y="3141"/>
                  </a:lnTo>
                  <a:lnTo>
                    <a:pt x="1139" y="3284"/>
                  </a:lnTo>
                  <a:lnTo>
                    <a:pt x="992" y="3418"/>
                  </a:lnTo>
                  <a:lnTo>
                    <a:pt x="846" y="3547"/>
                  </a:lnTo>
                  <a:lnTo>
                    <a:pt x="564" y="3787"/>
                  </a:lnTo>
                  <a:lnTo>
                    <a:pt x="436" y="3901"/>
                  </a:lnTo>
                  <a:lnTo>
                    <a:pt x="321" y="4014"/>
                  </a:lnTo>
                  <a:lnTo>
                    <a:pt x="222" y="4122"/>
                  </a:lnTo>
                  <a:lnTo>
                    <a:pt x="178" y="4177"/>
                  </a:lnTo>
                  <a:lnTo>
                    <a:pt x="142" y="4231"/>
                  </a:lnTo>
                  <a:lnTo>
                    <a:pt x="110" y="4285"/>
                  </a:lnTo>
                  <a:lnTo>
                    <a:pt x="84" y="4338"/>
                  </a:lnTo>
                  <a:lnTo>
                    <a:pt x="65" y="4393"/>
                  </a:lnTo>
                  <a:lnTo>
                    <a:pt x="53" y="4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37600" y="664920"/>
              <a:ext cx="88200" cy="506160"/>
            </a:xfrm>
            <a:custGeom>
              <a:avLst/>
              <a:gdLst/>
              <a:ahLst/>
              <a:rect l="l" t="t" r="r" b="b"/>
              <a:pathLst>
                <a:path w="360" h="2061">
                  <a:moveTo>
                    <a:pt x="2" y="2061"/>
                  </a:moveTo>
                  <a:lnTo>
                    <a:pt x="0" y="1931"/>
                  </a:lnTo>
                  <a:lnTo>
                    <a:pt x="1" y="1798"/>
                  </a:lnTo>
                  <a:lnTo>
                    <a:pt x="9" y="1534"/>
                  </a:lnTo>
                  <a:lnTo>
                    <a:pt x="38" y="1009"/>
                  </a:lnTo>
                  <a:lnTo>
                    <a:pt x="50" y="750"/>
                  </a:lnTo>
                  <a:lnTo>
                    <a:pt x="52" y="495"/>
                  </a:lnTo>
                  <a:lnTo>
                    <a:pt x="43" y="244"/>
                  </a:lnTo>
                  <a:lnTo>
                    <a:pt x="33" y="122"/>
                  </a:lnTo>
                  <a:lnTo>
                    <a:pt x="17" y="0"/>
                  </a:lnTo>
                  <a:lnTo>
                    <a:pt x="70" y="53"/>
                  </a:lnTo>
                  <a:lnTo>
                    <a:pt x="128" y="102"/>
                  </a:lnTo>
                  <a:lnTo>
                    <a:pt x="175" y="208"/>
                  </a:lnTo>
                  <a:lnTo>
                    <a:pt x="226" y="301"/>
                  </a:lnTo>
                  <a:lnTo>
                    <a:pt x="255" y="338"/>
                  </a:lnTo>
                  <a:lnTo>
                    <a:pt x="286" y="365"/>
                  </a:lnTo>
                  <a:lnTo>
                    <a:pt x="320" y="384"/>
                  </a:lnTo>
                  <a:lnTo>
                    <a:pt x="360" y="390"/>
                  </a:lnTo>
                  <a:lnTo>
                    <a:pt x="357" y="482"/>
                  </a:lnTo>
                  <a:lnTo>
                    <a:pt x="348" y="571"/>
                  </a:lnTo>
                  <a:lnTo>
                    <a:pt x="333" y="659"/>
                  </a:lnTo>
                  <a:lnTo>
                    <a:pt x="315" y="744"/>
                  </a:lnTo>
                  <a:lnTo>
                    <a:pt x="267" y="910"/>
                  </a:lnTo>
                  <a:lnTo>
                    <a:pt x="205" y="1075"/>
                  </a:lnTo>
                  <a:lnTo>
                    <a:pt x="247" y="1173"/>
                  </a:lnTo>
                  <a:lnTo>
                    <a:pt x="269" y="1262"/>
                  </a:lnTo>
                  <a:lnTo>
                    <a:pt x="275" y="1344"/>
                  </a:lnTo>
                  <a:lnTo>
                    <a:pt x="265" y="1419"/>
                  </a:lnTo>
                  <a:lnTo>
                    <a:pt x="244" y="1490"/>
                  </a:lnTo>
                  <a:lnTo>
                    <a:pt x="214" y="1558"/>
                  </a:lnTo>
                  <a:lnTo>
                    <a:pt x="141" y="1685"/>
                  </a:lnTo>
                  <a:lnTo>
                    <a:pt x="89" y="1771"/>
                  </a:lnTo>
                  <a:lnTo>
                    <a:pt x="43" y="1861"/>
                  </a:lnTo>
                  <a:lnTo>
                    <a:pt x="25" y="1907"/>
                  </a:lnTo>
                  <a:lnTo>
                    <a:pt x="12" y="1957"/>
                  </a:lnTo>
                  <a:lnTo>
                    <a:pt x="4" y="2008"/>
                  </a:lnTo>
                  <a:lnTo>
                    <a:pt x="2" y="206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465200" y="682560"/>
              <a:ext cx="430560" cy="537480"/>
            </a:xfrm>
            <a:custGeom>
              <a:avLst/>
              <a:gdLst/>
              <a:ahLst/>
              <a:rect l="l" t="t" r="r" b="b"/>
              <a:pathLst>
                <a:path w="1748" h="2187">
                  <a:moveTo>
                    <a:pt x="0" y="2187"/>
                  </a:moveTo>
                  <a:lnTo>
                    <a:pt x="29" y="2107"/>
                  </a:lnTo>
                  <a:lnTo>
                    <a:pt x="64" y="2030"/>
                  </a:lnTo>
                  <a:lnTo>
                    <a:pt x="105" y="1955"/>
                  </a:lnTo>
                  <a:lnTo>
                    <a:pt x="149" y="1884"/>
                  </a:lnTo>
                  <a:lnTo>
                    <a:pt x="199" y="1816"/>
                  </a:lnTo>
                  <a:lnTo>
                    <a:pt x="253" y="1750"/>
                  </a:lnTo>
                  <a:lnTo>
                    <a:pt x="310" y="1685"/>
                  </a:lnTo>
                  <a:lnTo>
                    <a:pt x="370" y="1623"/>
                  </a:lnTo>
                  <a:lnTo>
                    <a:pt x="500" y="1502"/>
                  </a:lnTo>
                  <a:lnTo>
                    <a:pt x="637" y="1386"/>
                  </a:lnTo>
                  <a:lnTo>
                    <a:pt x="923" y="1158"/>
                  </a:lnTo>
                  <a:lnTo>
                    <a:pt x="1065" y="1042"/>
                  </a:lnTo>
                  <a:lnTo>
                    <a:pt x="1203" y="921"/>
                  </a:lnTo>
                  <a:lnTo>
                    <a:pt x="1332" y="796"/>
                  </a:lnTo>
                  <a:lnTo>
                    <a:pt x="1394" y="729"/>
                  </a:lnTo>
                  <a:lnTo>
                    <a:pt x="1451" y="661"/>
                  </a:lnTo>
                  <a:lnTo>
                    <a:pt x="1505" y="590"/>
                  </a:lnTo>
                  <a:lnTo>
                    <a:pt x="1554" y="515"/>
                  </a:lnTo>
                  <a:lnTo>
                    <a:pt x="1600" y="440"/>
                  </a:lnTo>
                  <a:lnTo>
                    <a:pt x="1641" y="358"/>
                  </a:lnTo>
                  <a:lnTo>
                    <a:pt x="1676" y="275"/>
                  </a:lnTo>
                  <a:lnTo>
                    <a:pt x="1706" y="187"/>
                  </a:lnTo>
                  <a:lnTo>
                    <a:pt x="1731" y="95"/>
                  </a:lnTo>
                  <a:lnTo>
                    <a:pt x="17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00360" y="661680"/>
              <a:ext cx="117000" cy="102960"/>
            </a:xfrm>
            <a:custGeom>
              <a:avLst/>
              <a:gdLst/>
              <a:ahLst/>
              <a:rect l="l" t="t" r="r" b="b"/>
              <a:pathLst>
                <a:path w="476" h="422">
                  <a:moveTo>
                    <a:pt x="0" y="422"/>
                  </a:moveTo>
                  <a:lnTo>
                    <a:pt x="124" y="322"/>
                  </a:lnTo>
                  <a:lnTo>
                    <a:pt x="245" y="218"/>
                  </a:lnTo>
                  <a:lnTo>
                    <a:pt x="362" y="11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69160" y="488880"/>
              <a:ext cx="626400" cy="378360"/>
            </a:xfrm>
            <a:custGeom>
              <a:avLst/>
              <a:gdLst/>
              <a:ahLst/>
              <a:rect l="l" t="t" r="r" b="b"/>
              <a:pathLst>
                <a:path w="2544" h="1537">
                  <a:moveTo>
                    <a:pt x="66" y="1537"/>
                  </a:moveTo>
                  <a:lnTo>
                    <a:pt x="88" y="1489"/>
                  </a:lnTo>
                  <a:lnTo>
                    <a:pt x="114" y="1443"/>
                  </a:lnTo>
                  <a:lnTo>
                    <a:pt x="146" y="1401"/>
                  </a:lnTo>
                  <a:lnTo>
                    <a:pt x="180" y="1362"/>
                  </a:lnTo>
                  <a:lnTo>
                    <a:pt x="261" y="1291"/>
                  </a:lnTo>
                  <a:lnTo>
                    <a:pt x="355" y="1229"/>
                  </a:lnTo>
                  <a:lnTo>
                    <a:pt x="460" y="1171"/>
                  </a:lnTo>
                  <a:lnTo>
                    <a:pt x="576" y="1119"/>
                  </a:lnTo>
                  <a:lnTo>
                    <a:pt x="833" y="1017"/>
                  </a:lnTo>
                  <a:lnTo>
                    <a:pt x="1111" y="904"/>
                  </a:lnTo>
                  <a:lnTo>
                    <a:pt x="1255" y="839"/>
                  </a:lnTo>
                  <a:lnTo>
                    <a:pt x="1400" y="764"/>
                  </a:lnTo>
                  <a:lnTo>
                    <a:pt x="1546" y="679"/>
                  </a:lnTo>
                  <a:lnTo>
                    <a:pt x="1688" y="579"/>
                  </a:lnTo>
                  <a:lnTo>
                    <a:pt x="1758" y="525"/>
                  </a:lnTo>
                  <a:lnTo>
                    <a:pt x="1827" y="466"/>
                  </a:lnTo>
                  <a:lnTo>
                    <a:pt x="1895" y="401"/>
                  </a:lnTo>
                  <a:lnTo>
                    <a:pt x="1960" y="333"/>
                  </a:lnTo>
                  <a:lnTo>
                    <a:pt x="2030" y="260"/>
                  </a:lnTo>
                  <a:lnTo>
                    <a:pt x="2103" y="191"/>
                  </a:lnTo>
                  <a:lnTo>
                    <a:pt x="2179" y="128"/>
                  </a:lnTo>
                  <a:lnTo>
                    <a:pt x="2217" y="102"/>
                  </a:lnTo>
                  <a:lnTo>
                    <a:pt x="2255" y="80"/>
                  </a:lnTo>
                  <a:lnTo>
                    <a:pt x="2294" y="61"/>
                  </a:lnTo>
                  <a:lnTo>
                    <a:pt x="2332" y="49"/>
                  </a:lnTo>
                  <a:lnTo>
                    <a:pt x="2369" y="43"/>
                  </a:lnTo>
                  <a:lnTo>
                    <a:pt x="2407" y="44"/>
                  </a:lnTo>
                  <a:lnTo>
                    <a:pt x="2442" y="52"/>
                  </a:lnTo>
                  <a:lnTo>
                    <a:pt x="2477" y="68"/>
                  </a:lnTo>
                  <a:lnTo>
                    <a:pt x="2511" y="93"/>
                  </a:lnTo>
                  <a:lnTo>
                    <a:pt x="2544" y="128"/>
                  </a:lnTo>
                  <a:lnTo>
                    <a:pt x="2518" y="93"/>
                  </a:lnTo>
                  <a:lnTo>
                    <a:pt x="2492" y="63"/>
                  </a:lnTo>
                  <a:lnTo>
                    <a:pt x="2464" y="39"/>
                  </a:lnTo>
                  <a:lnTo>
                    <a:pt x="2438" y="21"/>
                  </a:lnTo>
                  <a:lnTo>
                    <a:pt x="2412" y="9"/>
                  </a:lnTo>
                  <a:lnTo>
                    <a:pt x="2384" y="1"/>
                  </a:lnTo>
                  <a:lnTo>
                    <a:pt x="2329" y="0"/>
                  </a:lnTo>
                  <a:lnTo>
                    <a:pt x="2272" y="17"/>
                  </a:lnTo>
                  <a:lnTo>
                    <a:pt x="2210" y="48"/>
                  </a:lnTo>
                  <a:lnTo>
                    <a:pt x="2148" y="91"/>
                  </a:lnTo>
                  <a:lnTo>
                    <a:pt x="2080" y="148"/>
                  </a:lnTo>
                  <a:lnTo>
                    <a:pt x="1929" y="281"/>
                  </a:lnTo>
                  <a:lnTo>
                    <a:pt x="1754" y="432"/>
                  </a:lnTo>
                  <a:lnTo>
                    <a:pt x="1656" y="507"/>
                  </a:lnTo>
                  <a:lnTo>
                    <a:pt x="1550" y="582"/>
                  </a:lnTo>
                  <a:lnTo>
                    <a:pt x="1436" y="651"/>
                  </a:lnTo>
                  <a:lnTo>
                    <a:pt x="1311" y="716"/>
                  </a:lnTo>
                  <a:lnTo>
                    <a:pt x="1183" y="771"/>
                  </a:lnTo>
                  <a:lnTo>
                    <a:pt x="1059" y="815"/>
                  </a:lnTo>
                  <a:lnTo>
                    <a:pt x="939" y="850"/>
                  </a:lnTo>
                  <a:lnTo>
                    <a:pt x="822" y="878"/>
                  </a:lnTo>
                  <a:lnTo>
                    <a:pt x="607" y="916"/>
                  </a:lnTo>
                  <a:lnTo>
                    <a:pt x="418" y="937"/>
                  </a:lnTo>
                  <a:lnTo>
                    <a:pt x="258" y="949"/>
                  </a:lnTo>
                  <a:lnTo>
                    <a:pt x="133" y="963"/>
                  </a:lnTo>
                  <a:lnTo>
                    <a:pt x="84" y="973"/>
                  </a:lnTo>
                  <a:lnTo>
                    <a:pt x="45" y="986"/>
                  </a:lnTo>
                  <a:lnTo>
                    <a:pt x="17" y="1006"/>
                  </a:lnTo>
                  <a:lnTo>
                    <a:pt x="7" y="1018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68440" y="664920"/>
              <a:ext cx="323640" cy="46080"/>
            </a:xfrm>
            <a:custGeom>
              <a:avLst/>
              <a:gdLst/>
              <a:ahLst/>
              <a:rect l="l" t="t" r="r" b="b"/>
              <a:pathLst>
                <a:path w="1313" h="188">
                  <a:moveTo>
                    <a:pt x="0" y="133"/>
                  </a:moveTo>
                  <a:lnTo>
                    <a:pt x="19" y="154"/>
                  </a:lnTo>
                  <a:lnTo>
                    <a:pt x="56" y="170"/>
                  </a:lnTo>
                  <a:lnTo>
                    <a:pt x="110" y="180"/>
                  </a:lnTo>
                  <a:lnTo>
                    <a:pt x="176" y="187"/>
                  </a:lnTo>
                  <a:lnTo>
                    <a:pt x="343" y="188"/>
                  </a:lnTo>
                  <a:lnTo>
                    <a:pt x="541" y="175"/>
                  </a:lnTo>
                  <a:lnTo>
                    <a:pt x="753" y="147"/>
                  </a:lnTo>
                  <a:lnTo>
                    <a:pt x="859" y="129"/>
                  </a:lnTo>
                  <a:lnTo>
                    <a:pt x="963" y="108"/>
                  </a:lnTo>
                  <a:lnTo>
                    <a:pt x="1062" y="85"/>
                  </a:lnTo>
                  <a:lnTo>
                    <a:pt x="1155" y="58"/>
                  </a:lnTo>
                  <a:lnTo>
                    <a:pt x="13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50880" y="655920"/>
              <a:ext cx="113040" cy="18720"/>
            </a:xfrm>
            <a:custGeom>
              <a:avLst/>
              <a:gdLst/>
              <a:ahLst/>
              <a:rect l="l" t="t" r="r" b="b"/>
              <a:pathLst>
                <a:path w="459" h="76">
                  <a:moveTo>
                    <a:pt x="0" y="4"/>
                  </a:moveTo>
                  <a:lnTo>
                    <a:pt x="107" y="0"/>
                  </a:lnTo>
                  <a:lnTo>
                    <a:pt x="222" y="8"/>
                  </a:lnTo>
                  <a:lnTo>
                    <a:pt x="280" y="17"/>
                  </a:lnTo>
                  <a:lnTo>
                    <a:pt x="340" y="31"/>
                  </a:lnTo>
                  <a:lnTo>
                    <a:pt x="399" y="51"/>
                  </a:lnTo>
                  <a:lnTo>
                    <a:pt x="459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03960" y="474840"/>
              <a:ext cx="115200" cy="80640"/>
            </a:xfrm>
            <a:custGeom>
              <a:avLst/>
              <a:gdLst/>
              <a:ahLst/>
              <a:rect l="l" t="t" r="r" b="b"/>
              <a:pathLst>
                <a:path w="468" h="324">
                  <a:moveTo>
                    <a:pt x="0" y="324"/>
                  </a:moveTo>
                  <a:lnTo>
                    <a:pt x="92" y="276"/>
                  </a:lnTo>
                  <a:lnTo>
                    <a:pt x="181" y="222"/>
                  </a:lnTo>
                  <a:lnTo>
                    <a:pt x="268" y="162"/>
                  </a:lnTo>
                  <a:lnTo>
                    <a:pt x="350" y="93"/>
                  </a:lnTo>
                  <a:lnTo>
                    <a:pt x="410" y="42"/>
                  </a:lnTo>
                  <a:lnTo>
                    <a:pt x="4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842480" y="267480"/>
              <a:ext cx="43200" cy="206280"/>
            </a:xfrm>
            <a:custGeom>
              <a:avLst/>
              <a:gdLst/>
              <a:ahLst/>
              <a:rect l="l" t="t" r="r" b="b"/>
              <a:pathLst>
                <a:path w="178" h="840">
                  <a:moveTo>
                    <a:pt x="0" y="840"/>
                  </a:moveTo>
                  <a:lnTo>
                    <a:pt x="11" y="619"/>
                  </a:lnTo>
                  <a:lnTo>
                    <a:pt x="19" y="510"/>
                  </a:lnTo>
                  <a:lnTo>
                    <a:pt x="33" y="404"/>
                  </a:lnTo>
                  <a:lnTo>
                    <a:pt x="54" y="301"/>
                  </a:lnTo>
                  <a:lnTo>
                    <a:pt x="84" y="199"/>
                  </a:lnTo>
                  <a:lnTo>
                    <a:pt x="125" y="98"/>
                  </a:lnTo>
                  <a:lnTo>
                    <a:pt x="1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84960" y="269640"/>
              <a:ext cx="36360" cy="228600"/>
            </a:xfrm>
            <a:custGeom>
              <a:avLst/>
              <a:gdLst/>
              <a:ahLst/>
              <a:rect l="l" t="t" r="r" b="b"/>
              <a:pathLst>
                <a:path w="148" h="930">
                  <a:moveTo>
                    <a:pt x="148" y="0"/>
                  </a:moveTo>
                  <a:lnTo>
                    <a:pt x="114" y="7"/>
                  </a:lnTo>
                  <a:lnTo>
                    <a:pt x="85" y="25"/>
                  </a:lnTo>
                  <a:lnTo>
                    <a:pt x="60" y="55"/>
                  </a:lnTo>
                  <a:lnTo>
                    <a:pt x="42" y="95"/>
                  </a:lnTo>
                  <a:lnTo>
                    <a:pt x="26" y="143"/>
                  </a:lnTo>
                  <a:lnTo>
                    <a:pt x="16" y="199"/>
                  </a:lnTo>
                  <a:lnTo>
                    <a:pt x="8" y="262"/>
                  </a:lnTo>
                  <a:lnTo>
                    <a:pt x="3" y="330"/>
                  </a:lnTo>
                  <a:lnTo>
                    <a:pt x="0" y="477"/>
                  </a:lnTo>
                  <a:lnTo>
                    <a:pt x="5" y="633"/>
                  </a:lnTo>
                  <a:lnTo>
                    <a:pt x="22" y="9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911600" y="311760"/>
              <a:ext cx="56880" cy="168840"/>
            </a:xfrm>
            <a:custGeom>
              <a:avLst/>
              <a:gdLst/>
              <a:ahLst/>
              <a:rect l="l" t="t" r="r" b="b"/>
              <a:pathLst>
                <a:path w="233" h="686">
                  <a:moveTo>
                    <a:pt x="0" y="686"/>
                  </a:moveTo>
                  <a:lnTo>
                    <a:pt x="5" y="623"/>
                  </a:lnTo>
                  <a:lnTo>
                    <a:pt x="5" y="513"/>
                  </a:lnTo>
                  <a:lnTo>
                    <a:pt x="8" y="376"/>
                  </a:lnTo>
                  <a:lnTo>
                    <a:pt x="16" y="234"/>
                  </a:lnTo>
                  <a:lnTo>
                    <a:pt x="25" y="167"/>
                  </a:lnTo>
                  <a:lnTo>
                    <a:pt x="37" y="110"/>
                  </a:lnTo>
                  <a:lnTo>
                    <a:pt x="54" y="60"/>
                  </a:lnTo>
                  <a:lnTo>
                    <a:pt x="64" y="41"/>
                  </a:lnTo>
                  <a:lnTo>
                    <a:pt x="76" y="25"/>
                  </a:lnTo>
                  <a:lnTo>
                    <a:pt x="90" y="12"/>
                  </a:lnTo>
                  <a:lnTo>
                    <a:pt x="105" y="4"/>
                  </a:lnTo>
                  <a:lnTo>
                    <a:pt x="122" y="0"/>
                  </a:lnTo>
                  <a:lnTo>
                    <a:pt x="140" y="1"/>
                  </a:lnTo>
                  <a:lnTo>
                    <a:pt x="160" y="6"/>
                  </a:lnTo>
                  <a:lnTo>
                    <a:pt x="182" y="18"/>
                  </a:lnTo>
                  <a:lnTo>
                    <a:pt x="207" y="37"/>
                  </a:lnTo>
                  <a:lnTo>
                    <a:pt x="233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64960" y="928080"/>
              <a:ext cx="23400" cy="91080"/>
            </a:xfrm>
            <a:custGeom>
              <a:avLst/>
              <a:gdLst/>
              <a:ahLst/>
              <a:rect l="l" t="t" r="r" b="b"/>
              <a:pathLst>
                <a:path w="97" h="371">
                  <a:moveTo>
                    <a:pt x="0" y="371"/>
                  </a:moveTo>
                  <a:lnTo>
                    <a:pt x="0" y="320"/>
                  </a:lnTo>
                  <a:lnTo>
                    <a:pt x="4" y="275"/>
                  </a:lnTo>
                  <a:lnTo>
                    <a:pt x="24" y="189"/>
                  </a:lnTo>
                  <a:lnTo>
                    <a:pt x="55" y="102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25080" y="238320"/>
              <a:ext cx="928800" cy="521640"/>
            </a:xfrm>
            <a:custGeom>
              <a:avLst/>
              <a:gdLst/>
              <a:ahLst/>
              <a:rect l="l" t="t" r="r" b="b"/>
              <a:pathLst>
                <a:path w="3771" h="2125">
                  <a:moveTo>
                    <a:pt x="109" y="2125"/>
                  </a:moveTo>
                  <a:lnTo>
                    <a:pt x="81" y="2120"/>
                  </a:lnTo>
                  <a:lnTo>
                    <a:pt x="62" y="2104"/>
                  </a:lnTo>
                  <a:lnTo>
                    <a:pt x="51" y="2082"/>
                  </a:lnTo>
                  <a:lnTo>
                    <a:pt x="44" y="2056"/>
                  </a:lnTo>
                  <a:lnTo>
                    <a:pt x="43" y="1997"/>
                  </a:lnTo>
                  <a:lnTo>
                    <a:pt x="45" y="1946"/>
                  </a:lnTo>
                  <a:lnTo>
                    <a:pt x="41" y="1883"/>
                  </a:lnTo>
                  <a:lnTo>
                    <a:pt x="30" y="1820"/>
                  </a:lnTo>
                  <a:lnTo>
                    <a:pt x="0" y="1699"/>
                  </a:lnTo>
                  <a:lnTo>
                    <a:pt x="13" y="1652"/>
                  </a:lnTo>
                  <a:lnTo>
                    <a:pt x="19" y="1628"/>
                  </a:lnTo>
                  <a:lnTo>
                    <a:pt x="28" y="1606"/>
                  </a:lnTo>
                  <a:lnTo>
                    <a:pt x="56" y="1566"/>
                  </a:lnTo>
                  <a:lnTo>
                    <a:pt x="89" y="1532"/>
                  </a:lnTo>
                  <a:lnTo>
                    <a:pt x="126" y="1504"/>
                  </a:lnTo>
                  <a:lnTo>
                    <a:pt x="167" y="1477"/>
                  </a:lnTo>
                  <a:lnTo>
                    <a:pt x="188" y="1536"/>
                  </a:lnTo>
                  <a:lnTo>
                    <a:pt x="204" y="1608"/>
                  </a:lnTo>
                  <a:lnTo>
                    <a:pt x="214" y="1693"/>
                  </a:lnTo>
                  <a:lnTo>
                    <a:pt x="218" y="1795"/>
                  </a:lnTo>
                  <a:lnTo>
                    <a:pt x="214" y="1884"/>
                  </a:lnTo>
                  <a:lnTo>
                    <a:pt x="198" y="1994"/>
                  </a:lnTo>
                  <a:lnTo>
                    <a:pt x="184" y="2044"/>
                  </a:lnTo>
                  <a:lnTo>
                    <a:pt x="166" y="2086"/>
                  </a:lnTo>
                  <a:lnTo>
                    <a:pt x="154" y="2103"/>
                  </a:lnTo>
                  <a:lnTo>
                    <a:pt x="141" y="2115"/>
                  </a:lnTo>
                  <a:lnTo>
                    <a:pt x="126" y="2123"/>
                  </a:lnTo>
                  <a:lnTo>
                    <a:pt x="109" y="2125"/>
                  </a:lnTo>
                  <a:close/>
                  <a:moveTo>
                    <a:pt x="3662" y="2125"/>
                  </a:moveTo>
                  <a:lnTo>
                    <a:pt x="3645" y="2123"/>
                  </a:lnTo>
                  <a:lnTo>
                    <a:pt x="3631" y="2115"/>
                  </a:lnTo>
                  <a:lnTo>
                    <a:pt x="3617" y="2103"/>
                  </a:lnTo>
                  <a:lnTo>
                    <a:pt x="3606" y="2086"/>
                  </a:lnTo>
                  <a:lnTo>
                    <a:pt x="3586" y="2044"/>
                  </a:lnTo>
                  <a:lnTo>
                    <a:pt x="3572" y="1994"/>
                  </a:lnTo>
                  <a:lnTo>
                    <a:pt x="3556" y="1884"/>
                  </a:lnTo>
                  <a:lnTo>
                    <a:pt x="3552" y="1795"/>
                  </a:lnTo>
                  <a:lnTo>
                    <a:pt x="3556" y="1693"/>
                  </a:lnTo>
                  <a:lnTo>
                    <a:pt x="3566" y="1608"/>
                  </a:lnTo>
                  <a:lnTo>
                    <a:pt x="3583" y="1536"/>
                  </a:lnTo>
                  <a:lnTo>
                    <a:pt x="3604" y="1477"/>
                  </a:lnTo>
                  <a:lnTo>
                    <a:pt x="3644" y="1504"/>
                  </a:lnTo>
                  <a:lnTo>
                    <a:pt x="3682" y="1532"/>
                  </a:lnTo>
                  <a:lnTo>
                    <a:pt x="3716" y="1566"/>
                  </a:lnTo>
                  <a:lnTo>
                    <a:pt x="3743" y="1606"/>
                  </a:lnTo>
                  <a:lnTo>
                    <a:pt x="3752" y="1628"/>
                  </a:lnTo>
                  <a:lnTo>
                    <a:pt x="3759" y="1652"/>
                  </a:lnTo>
                  <a:lnTo>
                    <a:pt x="3771" y="1699"/>
                  </a:lnTo>
                  <a:lnTo>
                    <a:pt x="3742" y="1820"/>
                  </a:lnTo>
                  <a:lnTo>
                    <a:pt x="3730" y="1883"/>
                  </a:lnTo>
                  <a:lnTo>
                    <a:pt x="3726" y="1946"/>
                  </a:lnTo>
                  <a:lnTo>
                    <a:pt x="3729" y="1997"/>
                  </a:lnTo>
                  <a:lnTo>
                    <a:pt x="3727" y="2056"/>
                  </a:lnTo>
                  <a:lnTo>
                    <a:pt x="3721" y="2082"/>
                  </a:lnTo>
                  <a:lnTo>
                    <a:pt x="3709" y="2104"/>
                  </a:lnTo>
                  <a:lnTo>
                    <a:pt x="3689" y="2120"/>
                  </a:lnTo>
                  <a:lnTo>
                    <a:pt x="3662" y="2125"/>
                  </a:lnTo>
                  <a:close/>
                  <a:moveTo>
                    <a:pt x="1538" y="17"/>
                  </a:moveTo>
                  <a:lnTo>
                    <a:pt x="1530" y="4"/>
                  </a:lnTo>
                  <a:lnTo>
                    <a:pt x="1536" y="0"/>
                  </a:lnTo>
                  <a:lnTo>
                    <a:pt x="1561" y="8"/>
                  </a:lnTo>
                  <a:lnTo>
                    <a:pt x="1538" y="17"/>
                  </a:lnTo>
                  <a:close/>
                </a:path>
              </a:pathLst>
            </a:custGeom>
            <a:solidFill>
              <a:srgbClr val="e0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2508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8" h="648">
                  <a:moveTo>
                    <a:pt x="109" y="648"/>
                  </a:moveTo>
                  <a:lnTo>
                    <a:pt x="81" y="643"/>
                  </a:lnTo>
                  <a:lnTo>
                    <a:pt x="62" y="627"/>
                  </a:lnTo>
                  <a:lnTo>
                    <a:pt x="51" y="605"/>
                  </a:lnTo>
                  <a:lnTo>
                    <a:pt x="44" y="579"/>
                  </a:lnTo>
                  <a:lnTo>
                    <a:pt x="43" y="520"/>
                  </a:lnTo>
                  <a:lnTo>
                    <a:pt x="45" y="469"/>
                  </a:lnTo>
                  <a:lnTo>
                    <a:pt x="41" y="406"/>
                  </a:lnTo>
                  <a:lnTo>
                    <a:pt x="30" y="343"/>
                  </a:lnTo>
                  <a:lnTo>
                    <a:pt x="0" y="222"/>
                  </a:lnTo>
                  <a:lnTo>
                    <a:pt x="13" y="175"/>
                  </a:lnTo>
                  <a:lnTo>
                    <a:pt x="19" y="151"/>
                  </a:lnTo>
                  <a:lnTo>
                    <a:pt x="28" y="129"/>
                  </a:lnTo>
                  <a:lnTo>
                    <a:pt x="56" y="89"/>
                  </a:lnTo>
                  <a:lnTo>
                    <a:pt x="89" y="55"/>
                  </a:lnTo>
                  <a:lnTo>
                    <a:pt x="126" y="27"/>
                  </a:lnTo>
                  <a:lnTo>
                    <a:pt x="167" y="0"/>
                  </a:lnTo>
                  <a:lnTo>
                    <a:pt x="188" y="59"/>
                  </a:lnTo>
                  <a:lnTo>
                    <a:pt x="204" y="131"/>
                  </a:lnTo>
                  <a:lnTo>
                    <a:pt x="214" y="216"/>
                  </a:lnTo>
                  <a:lnTo>
                    <a:pt x="218" y="318"/>
                  </a:lnTo>
                  <a:lnTo>
                    <a:pt x="214" y="407"/>
                  </a:lnTo>
                  <a:lnTo>
                    <a:pt x="198" y="517"/>
                  </a:lnTo>
                  <a:lnTo>
                    <a:pt x="184" y="567"/>
                  </a:lnTo>
                  <a:lnTo>
                    <a:pt x="166" y="609"/>
                  </a:lnTo>
                  <a:lnTo>
                    <a:pt x="154" y="626"/>
                  </a:lnTo>
                  <a:lnTo>
                    <a:pt x="141" y="638"/>
                  </a:lnTo>
                  <a:lnTo>
                    <a:pt x="126" y="646"/>
                  </a:lnTo>
                  <a:lnTo>
                    <a:pt x="109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99520" y="600840"/>
              <a:ext cx="54000" cy="159120"/>
            </a:xfrm>
            <a:custGeom>
              <a:avLst/>
              <a:gdLst/>
              <a:ahLst/>
              <a:rect l="l" t="t" r="r" b="b"/>
              <a:pathLst>
                <a:path w="219" h="648">
                  <a:moveTo>
                    <a:pt x="110" y="648"/>
                  </a:moveTo>
                  <a:lnTo>
                    <a:pt x="93" y="646"/>
                  </a:lnTo>
                  <a:lnTo>
                    <a:pt x="79" y="638"/>
                  </a:lnTo>
                  <a:lnTo>
                    <a:pt x="65" y="626"/>
                  </a:lnTo>
                  <a:lnTo>
                    <a:pt x="54" y="609"/>
                  </a:lnTo>
                  <a:lnTo>
                    <a:pt x="34" y="567"/>
                  </a:lnTo>
                  <a:lnTo>
                    <a:pt x="20" y="517"/>
                  </a:lnTo>
                  <a:lnTo>
                    <a:pt x="4" y="407"/>
                  </a:lnTo>
                  <a:lnTo>
                    <a:pt x="0" y="318"/>
                  </a:lnTo>
                  <a:lnTo>
                    <a:pt x="4" y="216"/>
                  </a:lnTo>
                  <a:lnTo>
                    <a:pt x="14" y="131"/>
                  </a:lnTo>
                  <a:lnTo>
                    <a:pt x="31" y="59"/>
                  </a:lnTo>
                  <a:lnTo>
                    <a:pt x="52" y="0"/>
                  </a:lnTo>
                  <a:lnTo>
                    <a:pt x="92" y="27"/>
                  </a:lnTo>
                  <a:lnTo>
                    <a:pt x="130" y="55"/>
                  </a:lnTo>
                  <a:lnTo>
                    <a:pt x="164" y="89"/>
                  </a:lnTo>
                  <a:lnTo>
                    <a:pt x="191" y="129"/>
                  </a:lnTo>
                  <a:lnTo>
                    <a:pt x="200" y="151"/>
                  </a:lnTo>
                  <a:lnTo>
                    <a:pt x="207" y="175"/>
                  </a:lnTo>
                  <a:lnTo>
                    <a:pt x="219" y="222"/>
                  </a:lnTo>
                  <a:lnTo>
                    <a:pt x="190" y="343"/>
                  </a:lnTo>
                  <a:lnTo>
                    <a:pt x="178" y="406"/>
                  </a:lnTo>
                  <a:lnTo>
                    <a:pt x="174" y="469"/>
                  </a:lnTo>
                  <a:lnTo>
                    <a:pt x="177" y="520"/>
                  </a:lnTo>
                  <a:lnTo>
                    <a:pt x="175" y="579"/>
                  </a:lnTo>
                  <a:lnTo>
                    <a:pt x="169" y="605"/>
                  </a:lnTo>
                  <a:lnTo>
                    <a:pt x="157" y="627"/>
                  </a:lnTo>
                  <a:lnTo>
                    <a:pt x="137" y="643"/>
                  </a:lnTo>
                  <a:lnTo>
                    <a:pt x="110" y="64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51520" y="583200"/>
              <a:ext cx="626040" cy="795960"/>
            </a:xfrm>
            <a:custGeom>
              <a:avLst/>
              <a:gdLst/>
              <a:ahLst/>
              <a:rect l="l" t="t" r="r" b="b"/>
              <a:pathLst>
                <a:path w="2544" h="3242">
                  <a:moveTo>
                    <a:pt x="192" y="3242"/>
                  </a:moveTo>
                  <a:lnTo>
                    <a:pt x="148" y="3185"/>
                  </a:lnTo>
                  <a:lnTo>
                    <a:pt x="111" y="3128"/>
                  </a:lnTo>
                  <a:lnTo>
                    <a:pt x="80" y="3067"/>
                  </a:lnTo>
                  <a:lnTo>
                    <a:pt x="56" y="3006"/>
                  </a:lnTo>
                  <a:lnTo>
                    <a:pt x="73" y="2937"/>
                  </a:lnTo>
                  <a:lnTo>
                    <a:pt x="102" y="2867"/>
                  </a:lnTo>
                  <a:lnTo>
                    <a:pt x="140" y="2798"/>
                  </a:lnTo>
                  <a:lnTo>
                    <a:pt x="187" y="2728"/>
                  </a:lnTo>
                  <a:lnTo>
                    <a:pt x="194" y="2985"/>
                  </a:lnTo>
                  <a:lnTo>
                    <a:pt x="192" y="3242"/>
                  </a:lnTo>
                  <a:close/>
                  <a:moveTo>
                    <a:pt x="233" y="1818"/>
                  </a:moveTo>
                  <a:lnTo>
                    <a:pt x="192" y="1748"/>
                  </a:lnTo>
                  <a:lnTo>
                    <a:pt x="158" y="1672"/>
                  </a:lnTo>
                  <a:lnTo>
                    <a:pt x="169" y="1611"/>
                  </a:lnTo>
                  <a:lnTo>
                    <a:pt x="185" y="1556"/>
                  </a:lnTo>
                  <a:lnTo>
                    <a:pt x="207" y="1505"/>
                  </a:lnTo>
                  <a:lnTo>
                    <a:pt x="238" y="1459"/>
                  </a:lnTo>
                  <a:lnTo>
                    <a:pt x="233" y="1818"/>
                  </a:lnTo>
                  <a:close/>
                  <a:moveTo>
                    <a:pt x="2494" y="2697"/>
                  </a:moveTo>
                  <a:lnTo>
                    <a:pt x="2447" y="2612"/>
                  </a:lnTo>
                  <a:lnTo>
                    <a:pt x="2414" y="2533"/>
                  </a:lnTo>
                  <a:lnTo>
                    <a:pt x="2396" y="2462"/>
                  </a:lnTo>
                  <a:lnTo>
                    <a:pt x="2388" y="2393"/>
                  </a:lnTo>
                  <a:lnTo>
                    <a:pt x="2389" y="2340"/>
                  </a:lnTo>
                  <a:lnTo>
                    <a:pt x="2397" y="2289"/>
                  </a:lnTo>
                  <a:lnTo>
                    <a:pt x="2410" y="2239"/>
                  </a:lnTo>
                  <a:lnTo>
                    <a:pt x="2429" y="2193"/>
                  </a:lnTo>
                  <a:lnTo>
                    <a:pt x="2473" y="2103"/>
                  </a:lnTo>
                  <a:lnTo>
                    <a:pt x="2525" y="2017"/>
                  </a:lnTo>
                  <a:lnTo>
                    <a:pt x="2541" y="2192"/>
                  </a:lnTo>
                  <a:lnTo>
                    <a:pt x="2544" y="2278"/>
                  </a:lnTo>
                  <a:lnTo>
                    <a:pt x="2541" y="2365"/>
                  </a:lnTo>
                  <a:lnTo>
                    <a:pt x="2524" y="2533"/>
                  </a:lnTo>
                  <a:lnTo>
                    <a:pt x="2494" y="2697"/>
                  </a:lnTo>
                  <a:close/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4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65200" y="1253520"/>
              <a:ext cx="33480" cy="125640"/>
            </a:xfrm>
            <a:custGeom>
              <a:avLst/>
              <a:gdLst/>
              <a:ahLst/>
              <a:rect l="l" t="t" r="r" b="b"/>
              <a:pathLst>
                <a:path w="138" h="514">
                  <a:moveTo>
                    <a:pt x="136" y="514"/>
                  </a:moveTo>
                  <a:lnTo>
                    <a:pt x="92" y="457"/>
                  </a:lnTo>
                  <a:lnTo>
                    <a:pt x="55" y="400"/>
                  </a:lnTo>
                  <a:lnTo>
                    <a:pt x="24" y="339"/>
                  </a:lnTo>
                  <a:lnTo>
                    <a:pt x="0" y="278"/>
                  </a:lnTo>
                  <a:lnTo>
                    <a:pt x="17" y="209"/>
                  </a:lnTo>
                  <a:lnTo>
                    <a:pt x="46" y="139"/>
                  </a:lnTo>
                  <a:lnTo>
                    <a:pt x="84" y="70"/>
                  </a:lnTo>
                  <a:lnTo>
                    <a:pt x="131" y="0"/>
                  </a:lnTo>
                  <a:lnTo>
                    <a:pt x="138" y="257"/>
                  </a:lnTo>
                  <a:lnTo>
                    <a:pt x="136" y="5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0040" y="941760"/>
              <a:ext cx="19440" cy="87480"/>
            </a:xfrm>
            <a:custGeom>
              <a:avLst/>
              <a:gdLst/>
              <a:ahLst/>
              <a:rect l="l" t="t" r="r" b="b"/>
              <a:pathLst>
                <a:path w="80" h="359">
                  <a:moveTo>
                    <a:pt x="75" y="359"/>
                  </a:moveTo>
                  <a:lnTo>
                    <a:pt x="34" y="289"/>
                  </a:lnTo>
                  <a:lnTo>
                    <a:pt x="0" y="213"/>
                  </a:lnTo>
                  <a:lnTo>
                    <a:pt x="11" y="152"/>
                  </a:lnTo>
                  <a:lnTo>
                    <a:pt x="27" y="97"/>
                  </a:lnTo>
                  <a:lnTo>
                    <a:pt x="49" y="46"/>
                  </a:lnTo>
                  <a:lnTo>
                    <a:pt x="80" y="0"/>
                  </a:lnTo>
                  <a:lnTo>
                    <a:pt x="75" y="3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39400" y="1078560"/>
              <a:ext cx="38160" cy="167040"/>
            </a:xfrm>
            <a:custGeom>
              <a:avLst/>
              <a:gdLst/>
              <a:ahLst/>
              <a:rect l="l" t="t" r="r" b="b"/>
              <a:pathLst>
                <a:path w="156" h="680">
                  <a:moveTo>
                    <a:pt x="106" y="680"/>
                  </a:moveTo>
                  <a:lnTo>
                    <a:pt x="59" y="595"/>
                  </a:lnTo>
                  <a:lnTo>
                    <a:pt x="26" y="516"/>
                  </a:lnTo>
                  <a:lnTo>
                    <a:pt x="8" y="445"/>
                  </a:lnTo>
                  <a:lnTo>
                    <a:pt x="0" y="376"/>
                  </a:lnTo>
                  <a:lnTo>
                    <a:pt x="1" y="323"/>
                  </a:lnTo>
                  <a:lnTo>
                    <a:pt x="9" y="272"/>
                  </a:lnTo>
                  <a:lnTo>
                    <a:pt x="22" y="222"/>
                  </a:lnTo>
                  <a:lnTo>
                    <a:pt x="41" y="176"/>
                  </a:lnTo>
                  <a:lnTo>
                    <a:pt x="85" y="86"/>
                  </a:lnTo>
                  <a:lnTo>
                    <a:pt x="137" y="0"/>
                  </a:lnTo>
                  <a:lnTo>
                    <a:pt x="153" y="175"/>
                  </a:lnTo>
                  <a:lnTo>
                    <a:pt x="156" y="261"/>
                  </a:lnTo>
                  <a:lnTo>
                    <a:pt x="153" y="348"/>
                  </a:lnTo>
                  <a:lnTo>
                    <a:pt x="136" y="516"/>
                  </a:lnTo>
                  <a:lnTo>
                    <a:pt x="106" y="6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51520" y="583200"/>
              <a:ext cx="60840" cy="8316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5" y="309"/>
                  </a:moveTo>
                  <a:lnTo>
                    <a:pt x="0" y="288"/>
                  </a:lnTo>
                  <a:lnTo>
                    <a:pt x="0" y="268"/>
                  </a:lnTo>
                  <a:lnTo>
                    <a:pt x="17" y="231"/>
                  </a:lnTo>
                  <a:lnTo>
                    <a:pt x="50" y="197"/>
                  </a:lnTo>
                  <a:lnTo>
                    <a:pt x="93" y="163"/>
                  </a:lnTo>
                  <a:lnTo>
                    <a:pt x="140" y="128"/>
                  </a:lnTo>
                  <a:lnTo>
                    <a:pt x="183" y="90"/>
                  </a:lnTo>
                  <a:lnTo>
                    <a:pt x="219" y="48"/>
                  </a:lnTo>
                  <a:lnTo>
                    <a:pt x="232" y="25"/>
                  </a:lnTo>
                  <a:lnTo>
                    <a:pt x="240" y="0"/>
                  </a:lnTo>
                  <a:lnTo>
                    <a:pt x="247" y="162"/>
                  </a:lnTo>
                  <a:lnTo>
                    <a:pt x="245" y="243"/>
                  </a:lnTo>
                  <a:lnTo>
                    <a:pt x="236" y="323"/>
                  </a:lnTo>
                  <a:lnTo>
                    <a:pt x="151" y="336"/>
                  </a:lnTo>
                  <a:lnTo>
                    <a:pt x="83" y="341"/>
                  </a:lnTo>
                  <a:lnTo>
                    <a:pt x="55" y="340"/>
                  </a:lnTo>
                  <a:lnTo>
                    <a:pt x="33" y="335"/>
                  </a:lnTo>
                  <a:lnTo>
                    <a:pt x="16" y="324"/>
                  </a:lnTo>
                  <a:lnTo>
                    <a:pt x="5" y="30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2743200" y="1828800"/>
            <a:ext cx="1127160" cy="798480"/>
            <a:chOff x="2743200" y="1828800"/>
            <a:chExt cx="1127160" cy="798480"/>
          </a:xfrm>
        </p:grpSpPr>
        <p:sp>
          <p:nvSpPr>
            <p:cNvPr id="1356" name=""/>
            <p:cNvSpPr/>
            <p:nvPr/>
          </p:nvSpPr>
          <p:spPr>
            <a:xfrm>
              <a:off x="2743200" y="182880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43200" y="182880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76720" y="227304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2080" y="238608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38480" y="213660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78320" y="212544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156120" y="251280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962520" y="1828800"/>
            <a:ext cx="1127160" cy="798480"/>
            <a:chOff x="3962520" y="1828800"/>
            <a:chExt cx="1127160" cy="798480"/>
          </a:xfrm>
        </p:grpSpPr>
        <p:sp>
          <p:nvSpPr>
            <p:cNvPr id="1364" name=""/>
            <p:cNvSpPr/>
            <p:nvPr/>
          </p:nvSpPr>
          <p:spPr>
            <a:xfrm>
              <a:off x="3962520" y="182880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62520" y="182880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96040" y="227304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721400" y="238608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357800" y="213660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97640" y="212544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75440" y="251280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5181480" y="1828800"/>
            <a:ext cx="1127160" cy="798480"/>
            <a:chOff x="5181480" y="1828800"/>
            <a:chExt cx="1127160" cy="798480"/>
          </a:xfrm>
        </p:grpSpPr>
        <p:sp>
          <p:nvSpPr>
            <p:cNvPr id="1372" name=""/>
            <p:cNvSpPr/>
            <p:nvPr/>
          </p:nvSpPr>
          <p:spPr>
            <a:xfrm>
              <a:off x="5181480" y="182880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181480" y="182880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715000" y="227304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40360" y="238608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576760" y="213660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16600" y="212544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94400" y="251280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6400800" y="1828800"/>
            <a:ext cx="1127160" cy="798480"/>
            <a:chOff x="6400800" y="1828800"/>
            <a:chExt cx="1127160" cy="798480"/>
          </a:xfrm>
        </p:grpSpPr>
        <p:sp>
          <p:nvSpPr>
            <p:cNvPr id="1380" name=""/>
            <p:cNvSpPr/>
            <p:nvPr/>
          </p:nvSpPr>
          <p:spPr>
            <a:xfrm>
              <a:off x="6400800" y="182880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400800" y="182880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34320" y="227304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159680" y="238608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96080" y="213660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135920" y="212544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13720" y="251280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7620120" y="1828800"/>
            <a:ext cx="1127160" cy="798480"/>
            <a:chOff x="7620120" y="1828800"/>
            <a:chExt cx="1127160" cy="798480"/>
          </a:xfrm>
        </p:grpSpPr>
        <p:sp>
          <p:nvSpPr>
            <p:cNvPr id="1388" name=""/>
            <p:cNvSpPr/>
            <p:nvPr/>
          </p:nvSpPr>
          <p:spPr>
            <a:xfrm>
              <a:off x="7620120" y="182880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620120" y="182880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153640" y="227304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379000" y="238608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15400" y="213660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355240" y="212544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33040" y="251280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2819520"/>
            <a:ext cx="1127160" cy="798480"/>
            <a:chOff x="2819520" y="2819520"/>
            <a:chExt cx="1127160" cy="798480"/>
          </a:xfrm>
        </p:grpSpPr>
        <p:sp>
          <p:nvSpPr>
            <p:cNvPr id="1396" name=""/>
            <p:cNvSpPr/>
            <p:nvPr/>
          </p:nvSpPr>
          <p:spPr>
            <a:xfrm>
              <a:off x="2819520" y="281952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281952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353040" y="326376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78400" y="337680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14800" y="312732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554640" y="311616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232440" y="350352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4038480" y="2819520"/>
            <a:ext cx="1127160" cy="798480"/>
            <a:chOff x="4038480" y="2819520"/>
            <a:chExt cx="1127160" cy="798480"/>
          </a:xfrm>
        </p:grpSpPr>
        <p:sp>
          <p:nvSpPr>
            <p:cNvPr id="1404" name=""/>
            <p:cNvSpPr/>
            <p:nvPr/>
          </p:nvSpPr>
          <p:spPr>
            <a:xfrm>
              <a:off x="4038480" y="281952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8480" y="281952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0" y="326376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97360" y="337680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3760" y="312732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73600" y="311616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51400" y="350352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257800" y="2819520"/>
            <a:ext cx="1127160" cy="798480"/>
            <a:chOff x="5257800" y="2819520"/>
            <a:chExt cx="1127160" cy="798480"/>
          </a:xfrm>
        </p:grpSpPr>
        <p:sp>
          <p:nvSpPr>
            <p:cNvPr id="1412" name=""/>
            <p:cNvSpPr/>
            <p:nvPr/>
          </p:nvSpPr>
          <p:spPr>
            <a:xfrm>
              <a:off x="5257800" y="281952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57800" y="281952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91320" y="326376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16680" y="337680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653080" y="312732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92920" y="311616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670720" y="350352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477120" y="2819520"/>
            <a:ext cx="1127160" cy="798480"/>
            <a:chOff x="6477120" y="2819520"/>
            <a:chExt cx="1127160" cy="798480"/>
          </a:xfrm>
        </p:grpSpPr>
        <p:sp>
          <p:nvSpPr>
            <p:cNvPr id="1420" name=""/>
            <p:cNvSpPr/>
            <p:nvPr/>
          </p:nvSpPr>
          <p:spPr>
            <a:xfrm>
              <a:off x="6477120" y="281952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477120" y="281952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010640" y="326376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36000" y="337680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72400" y="312732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212240" y="311616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90040" y="350352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7696080" y="2819520"/>
            <a:ext cx="1127160" cy="798480"/>
            <a:chOff x="7696080" y="2819520"/>
            <a:chExt cx="1127160" cy="798480"/>
          </a:xfrm>
        </p:grpSpPr>
        <p:sp>
          <p:nvSpPr>
            <p:cNvPr id="1428" name=""/>
            <p:cNvSpPr/>
            <p:nvPr/>
          </p:nvSpPr>
          <p:spPr>
            <a:xfrm>
              <a:off x="7696080" y="2819520"/>
              <a:ext cx="1127160" cy="728640"/>
            </a:xfrm>
            <a:custGeom>
              <a:avLst/>
              <a:gdLst/>
              <a:ahLst/>
              <a:rect l="l" t="t" r="r" b="b"/>
              <a:pathLst>
                <a:path w="7808" h="5054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  <a:moveTo>
                    <a:pt x="4339" y="4339"/>
                  </a:moveTo>
                  <a:lnTo>
                    <a:pt x="4273" y="4335"/>
                  </a:lnTo>
                  <a:lnTo>
                    <a:pt x="4209" y="4324"/>
                  </a:lnTo>
                  <a:lnTo>
                    <a:pt x="4148" y="4305"/>
                  </a:lnTo>
                  <a:lnTo>
                    <a:pt x="4089" y="4280"/>
                  </a:lnTo>
                  <a:lnTo>
                    <a:pt x="4032" y="4249"/>
                  </a:lnTo>
                  <a:lnTo>
                    <a:pt x="3978" y="4212"/>
                  </a:lnTo>
                  <a:lnTo>
                    <a:pt x="3929" y="4171"/>
                  </a:lnTo>
                  <a:lnTo>
                    <a:pt x="3882" y="4124"/>
                  </a:lnTo>
                  <a:lnTo>
                    <a:pt x="3841" y="4074"/>
                  </a:lnTo>
                  <a:lnTo>
                    <a:pt x="3803" y="4021"/>
                  </a:lnTo>
                  <a:lnTo>
                    <a:pt x="3771" y="3964"/>
                  </a:lnTo>
                  <a:lnTo>
                    <a:pt x="3743" y="3904"/>
                  </a:lnTo>
                  <a:lnTo>
                    <a:pt x="3721" y="3844"/>
                  </a:lnTo>
                  <a:lnTo>
                    <a:pt x="3705" y="3782"/>
                  </a:lnTo>
                  <a:lnTo>
                    <a:pt x="3695" y="3718"/>
                  </a:lnTo>
                  <a:lnTo>
                    <a:pt x="3692" y="3654"/>
                  </a:lnTo>
                  <a:lnTo>
                    <a:pt x="3696" y="3589"/>
                  </a:lnTo>
                  <a:lnTo>
                    <a:pt x="3706" y="3526"/>
                  </a:lnTo>
                  <a:lnTo>
                    <a:pt x="3723" y="3468"/>
                  </a:lnTo>
                  <a:lnTo>
                    <a:pt x="3747" y="3413"/>
                  </a:lnTo>
                  <a:lnTo>
                    <a:pt x="3776" y="3362"/>
                  </a:lnTo>
                  <a:lnTo>
                    <a:pt x="3810" y="3314"/>
                  </a:lnTo>
                  <a:lnTo>
                    <a:pt x="3850" y="3271"/>
                  </a:lnTo>
                  <a:lnTo>
                    <a:pt x="3892" y="3231"/>
                  </a:lnTo>
                  <a:lnTo>
                    <a:pt x="3940" y="3196"/>
                  </a:lnTo>
                  <a:lnTo>
                    <a:pt x="3991" y="3165"/>
                  </a:lnTo>
                  <a:lnTo>
                    <a:pt x="4044" y="3138"/>
                  </a:lnTo>
                  <a:lnTo>
                    <a:pt x="4100" y="3117"/>
                  </a:lnTo>
                  <a:lnTo>
                    <a:pt x="4158" y="3098"/>
                  </a:lnTo>
                  <a:lnTo>
                    <a:pt x="4217" y="3086"/>
                  </a:lnTo>
                  <a:lnTo>
                    <a:pt x="4278" y="3079"/>
                  </a:lnTo>
                  <a:lnTo>
                    <a:pt x="4339" y="3076"/>
                  </a:lnTo>
                  <a:lnTo>
                    <a:pt x="4402" y="3079"/>
                  </a:lnTo>
                  <a:lnTo>
                    <a:pt x="4459" y="3089"/>
                  </a:lnTo>
                  <a:lnTo>
                    <a:pt x="4513" y="3105"/>
                  </a:lnTo>
                  <a:lnTo>
                    <a:pt x="4563" y="3126"/>
                  </a:lnTo>
                  <a:lnTo>
                    <a:pt x="4607" y="3152"/>
                  </a:lnTo>
                  <a:lnTo>
                    <a:pt x="4648" y="3184"/>
                  </a:lnTo>
                  <a:lnTo>
                    <a:pt x="4684" y="3219"/>
                  </a:lnTo>
                  <a:lnTo>
                    <a:pt x="4717" y="3258"/>
                  </a:lnTo>
                  <a:lnTo>
                    <a:pt x="4745" y="3300"/>
                  </a:lnTo>
                  <a:lnTo>
                    <a:pt x="4770" y="3346"/>
                  </a:lnTo>
                  <a:lnTo>
                    <a:pt x="4791" y="3393"/>
                  </a:lnTo>
                  <a:lnTo>
                    <a:pt x="4807" y="3443"/>
                  </a:lnTo>
                  <a:lnTo>
                    <a:pt x="4820" y="3495"/>
                  </a:lnTo>
                  <a:lnTo>
                    <a:pt x="4829" y="3548"/>
                  </a:lnTo>
                  <a:lnTo>
                    <a:pt x="4834" y="3600"/>
                  </a:lnTo>
                  <a:lnTo>
                    <a:pt x="4836" y="3654"/>
                  </a:lnTo>
                  <a:lnTo>
                    <a:pt x="5070" y="3654"/>
                  </a:lnTo>
                  <a:lnTo>
                    <a:pt x="5066" y="3654"/>
                  </a:lnTo>
                  <a:lnTo>
                    <a:pt x="5067" y="3654"/>
                  </a:lnTo>
                  <a:lnTo>
                    <a:pt x="5070" y="3654"/>
                  </a:lnTo>
                  <a:lnTo>
                    <a:pt x="5066" y="3721"/>
                  </a:lnTo>
                  <a:lnTo>
                    <a:pt x="5053" y="3788"/>
                  </a:lnTo>
                  <a:lnTo>
                    <a:pt x="5033" y="3852"/>
                  </a:lnTo>
                  <a:lnTo>
                    <a:pt x="5005" y="3913"/>
                  </a:lnTo>
                  <a:lnTo>
                    <a:pt x="4971" y="3973"/>
                  </a:lnTo>
                  <a:lnTo>
                    <a:pt x="4930" y="4030"/>
                  </a:lnTo>
                  <a:lnTo>
                    <a:pt x="4885" y="4083"/>
                  </a:lnTo>
                  <a:lnTo>
                    <a:pt x="4835" y="4132"/>
                  </a:lnTo>
                  <a:lnTo>
                    <a:pt x="4781" y="4177"/>
                  </a:lnTo>
                  <a:lnTo>
                    <a:pt x="4724" y="4218"/>
                  </a:lnTo>
                  <a:lnTo>
                    <a:pt x="4663" y="4253"/>
                  </a:lnTo>
                  <a:lnTo>
                    <a:pt x="4600" y="4283"/>
                  </a:lnTo>
                  <a:lnTo>
                    <a:pt x="4535" y="4307"/>
                  </a:lnTo>
                  <a:lnTo>
                    <a:pt x="4471" y="4325"/>
                  </a:lnTo>
                  <a:lnTo>
                    <a:pt x="4405" y="4335"/>
                  </a:lnTo>
                  <a:lnTo>
                    <a:pt x="4339" y="4339"/>
                  </a:lnTo>
                  <a:close/>
                  <a:moveTo>
                    <a:pt x="5254" y="5054"/>
                  </a:moveTo>
                  <a:lnTo>
                    <a:pt x="5416" y="4951"/>
                  </a:lnTo>
                  <a:lnTo>
                    <a:pt x="5577" y="4862"/>
                  </a:lnTo>
                  <a:lnTo>
                    <a:pt x="5737" y="4785"/>
                  </a:lnTo>
                  <a:lnTo>
                    <a:pt x="5896" y="4722"/>
                  </a:lnTo>
                  <a:lnTo>
                    <a:pt x="6054" y="4672"/>
                  </a:lnTo>
                  <a:lnTo>
                    <a:pt x="6212" y="4635"/>
                  </a:lnTo>
                  <a:lnTo>
                    <a:pt x="6291" y="4622"/>
                  </a:lnTo>
                  <a:lnTo>
                    <a:pt x="6369" y="4612"/>
                  </a:lnTo>
                  <a:lnTo>
                    <a:pt x="6448" y="4606"/>
                  </a:lnTo>
                  <a:lnTo>
                    <a:pt x="6527" y="4602"/>
                  </a:lnTo>
                  <a:lnTo>
                    <a:pt x="6684" y="4606"/>
                  </a:lnTo>
                  <a:lnTo>
                    <a:pt x="6763" y="4612"/>
                  </a:lnTo>
                  <a:lnTo>
                    <a:pt x="6842" y="4622"/>
                  </a:lnTo>
                  <a:lnTo>
                    <a:pt x="7001" y="4653"/>
                  </a:lnTo>
                  <a:lnTo>
                    <a:pt x="7080" y="4674"/>
                  </a:lnTo>
                  <a:lnTo>
                    <a:pt x="7160" y="4697"/>
                  </a:lnTo>
                  <a:lnTo>
                    <a:pt x="7240" y="4724"/>
                  </a:lnTo>
                  <a:lnTo>
                    <a:pt x="7320" y="4755"/>
                  </a:lnTo>
                  <a:lnTo>
                    <a:pt x="7481" y="4826"/>
                  </a:lnTo>
                  <a:lnTo>
                    <a:pt x="7644" y="4911"/>
                  </a:lnTo>
                  <a:lnTo>
                    <a:pt x="7808" y="5010"/>
                  </a:lnTo>
                  <a:lnTo>
                    <a:pt x="6039" y="3864"/>
                  </a:lnTo>
                  <a:lnTo>
                    <a:pt x="6024" y="3959"/>
                  </a:lnTo>
                  <a:lnTo>
                    <a:pt x="6004" y="4052"/>
                  </a:lnTo>
                  <a:lnTo>
                    <a:pt x="5978" y="4143"/>
                  </a:lnTo>
                  <a:lnTo>
                    <a:pt x="5948" y="4231"/>
                  </a:lnTo>
                  <a:lnTo>
                    <a:pt x="5913" y="4317"/>
                  </a:lnTo>
                  <a:lnTo>
                    <a:pt x="5872" y="4400"/>
                  </a:lnTo>
                  <a:lnTo>
                    <a:pt x="5828" y="4480"/>
                  </a:lnTo>
                  <a:lnTo>
                    <a:pt x="5779" y="4557"/>
                  </a:lnTo>
                  <a:lnTo>
                    <a:pt x="5726" y="4631"/>
                  </a:lnTo>
                  <a:lnTo>
                    <a:pt x="5670" y="4702"/>
                  </a:lnTo>
                  <a:lnTo>
                    <a:pt x="5609" y="4769"/>
                  </a:lnTo>
                  <a:lnTo>
                    <a:pt x="5544" y="4834"/>
                  </a:lnTo>
                  <a:lnTo>
                    <a:pt x="5476" y="4895"/>
                  </a:lnTo>
                  <a:lnTo>
                    <a:pt x="5405" y="4951"/>
                  </a:lnTo>
                  <a:lnTo>
                    <a:pt x="5331" y="5004"/>
                  </a:lnTo>
                  <a:lnTo>
                    <a:pt x="5254" y="505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96080" y="2819520"/>
              <a:ext cx="735120" cy="684000"/>
            </a:xfrm>
            <a:custGeom>
              <a:avLst/>
              <a:gdLst/>
              <a:ahLst/>
              <a:rect l="l" t="t" r="r" b="b"/>
              <a:pathLst>
                <a:path w="5097" h="4745">
                  <a:moveTo>
                    <a:pt x="2856" y="4745"/>
                  </a:moveTo>
                  <a:lnTo>
                    <a:pt x="122" y="1106"/>
                  </a:lnTo>
                  <a:lnTo>
                    <a:pt x="87" y="1054"/>
                  </a:lnTo>
                  <a:lnTo>
                    <a:pt x="57" y="1001"/>
                  </a:lnTo>
                  <a:lnTo>
                    <a:pt x="34" y="949"/>
                  </a:lnTo>
                  <a:lnTo>
                    <a:pt x="17" y="894"/>
                  </a:lnTo>
                  <a:lnTo>
                    <a:pt x="6" y="840"/>
                  </a:lnTo>
                  <a:lnTo>
                    <a:pt x="0" y="784"/>
                  </a:lnTo>
                  <a:lnTo>
                    <a:pt x="0" y="730"/>
                  </a:lnTo>
                  <a:lnTo>
                    <a:pt x="4" y="676"/>
                  </a:lnTo>
                  <a:lnTo>
                    <a:pt x="13" y="621"/>
                  </a:lnTo>
                  <a:lnTo>
                    <a:pt x="27" y="568"/>
                  </a:lnTo>
                  <a:lnTo>
                    <a:pt x="45" y="516"/>
                  </a:lnTo>
                  <a:lnTo>
                    <a:pt x="68" y="465"/>
                  </a:lnTo>
                  <a:lnTo>
                    <a:pt x="93" y="415"/>
                  </a:lnTo>
                  <a:lnTo>
                    <a:pt x="122" y="367"/>
                  </a:lnTo>
                  <a:lnTo>
                    <a:pt x="155" y="321"/>
                  </a:lnTo>
                  <a:lnTo>
                    <a:pt x="191" y="277"/>
                  </a:lnTo>
                  <a:lnTo>
                    <a:pt x="230" y="235"/>
                  </a:lnTo>
                  <a:lnTo>
                    <a:pt x="270" y="196"/>
                  </a:lnTo>
                  <a:lnTo>
                    <a:pt x="314" y="160"/>
                  </a:lnTo>
                  <a:lnTo>
                    <a:pt x="359" y="126"/>
                  </a:lnTo>
                  <a:lnTo>
                    <a:pt x="407" y="97"/>
                  </a:lnTo>
                  <a:lnTo>
                    <a:pt x="455" y="71"/>
                  </a:lnTo>
                  <a:lnTo>
                    <a:pt x="506" y="48"/>
                  </a:lnTo>
                  <a:lnTo>
                    <a:pt x="558" y="30"/>
                  </a:lnTo>
                  <a:lnTo>
                    <a:pt x="609" y="15"/>
                  </a:lnTo>
                  <a:lnTo>
                    <a:pt x="662" y="6"/>
                  </a:lnTo>
                  <a:lnTo>
                    <a:pt x="716" y="1"/>
                  </a:lnTo>
                  <a:lnTo>
                    <a:pt x="768" y="0"/>
                  </a:lnTo>
                  <a:lnTo>
                    <a:pt x="822" y="5"/>
                  </a:lnTo>
                  <a:lnTo>
                    <a:pt x="875" y="16"/>
                  </a:lnTo>
                  <a:lnTo>
                    <a:pt x="926" y="31"/>
                  </a:lnTo>
                  <a:lnTo>
                    <a:pt x="978" y="53"/>
                  </a:lnTo>
                  <a:lnTo>
                    <a:pt x="5097" y="2056"/>
                  </a:lnTo>
                  <a:lnTo>
                    <a:pt x="5011" y="2018"/>
                  </a:lnTo>
                  <a:lnTo>
                    <a:pt x="4923" y="1984"/>
                  </a:lnTo>
                  <a:lnTo>
                    <a:pt x="4832" y="1955"/>
                  </a:lnTo>
                  <a:lnTo>
                    <a:pt x="4738" y="1931"/>
                  </a:lnTo>
                  <a:lnTo>
                    <a:pt x="4642" y="1912"/>
                  </a:lnTo>
                  <a:lnTo>
                    <a:pt x="4543" y="1898"/>
                  </a:lnTo>
                  <a:lnTo>
                    <a:pt x="4442" y="1890"/>
                  </a:lnTo>
                  <a:lnTo>
                    <a:pt x="4339" y="1887"/>
                  </a:lnTo>
                  <a:lnTo>
                    <a:pt x="4246" y="1889"/>
                  </a:lnTo>
                  <a:lnTo>
                    <a:pt x="4154" y="1895"/>
                  </a:lnTo>
                  <a:lnTo>
                    <a:pt x="4062" y="1906"/>
                  </a:lnTo>
                  <a:lnTo>
                    <a:pt x="3973" y="1921"/>
                  </a:lnTo>
                  <a:lnTo>
                    <a:pt x="3884" y="1939"/>
                  </a:lnTo>
                  <a:lnTo>
                    <a:pt x="3797" y="1961"/>
                  </a:lnTo>
                  <a:lnTo>
                    <a:pt x="3712" y="1988"/>
                  </a:lnTo>
                  <a:lnTo>
                    <a:pt x="3628" y="2017"/>
                  </a:lnTo>
                  <a:lnTo>
                    <a:pt x="3546" y="2051"/>
                  </a:lnTo>
                  <a:lnTo>
                    <a:pt x="3466" y="2088"/>
                  </a:lnTo>
                  <a:lnTo>
                    <a:pt x="3388" y="2128"/>
                  </a:lnTo>
                  <a:lnTo>
                    <a:pt x="3312" y="2173"/>
                  </a:lnTo>
                  <a:lnTo>
                    <a:pt x="3238" y="2221"/>
                  </a:lnTo>
                  <a:lnTo>
                    <a:pt x="3167" y="2271"/>
                  </a:lnTo>
                  <a:lnTo>
                    <a:pt x="3099" y="2325"/>
                  </a:lnTo>
                  <a:lnTo>
                    <a:pt x="3034" y="2382"/>
                  </a:lnTo>
                  <a:lnTo>
                    <a:pt x="2972" y="2442"/>
                  </a:lnTo>
                  <a:lnTo>
                    <a:pt x="2912" y="2504"/>
                  </a:lnTo>
                  <a:lnTo>
                    <a:pt x="2855" y="2570"/>
                  </a:lnTo>
                  <a:lnTo>
                    <a:pt x="2803" y="2639"/>
                  </a:lnTo>
                  <a:lnTo>
                    <a:pt x="2753" y="2710"/>
                  </a:lnTo>
                  <a:lnTo>
                    <a:pt x="2708" y="2784"/>
                  </a:lnTo>
                  <a:lnTo>
                    <a:pt x="2665" y="2861"/>
                  </a:lnTo>
                  <a:lnTo>
                    <a:pt x="2627" y="2940"/>
                  </a:lnTo>
                  <a:lnTo>
                    <a:pt x="2592" y="3022"/>
                  </a:lnTo>
                  <a:lnTo>
                    <a:pt x="2563" y="3106"/>
                  </a:lnTo>
                  <a:lnTo>
                    <a:pt x="2536" y="3192"/>
                  </a:lnTo>
                  <a:lnTo>
                    <a:pt x="2515" y="3280"/>
                  </a:lnTo>
                  <a:lnTo>
                    <a:pt x="2498" y="3371"/>
                  </a:lnTo>
                  <a:lnTo>
                    <a:pt x="2486" y="3463"/>
                  </a:lnTo>
                  <a:lnTo>
                    <a:pt x="2478" y="3558"/>
                  </a:lnTo>
                  <a:lnTo>
                    <a:pt x="2476" y="3654"/>
                  </a:lnTo>
                  <a:lnTo>
                    <a:pt x="2483" y="3801"/>
                  </a:lnTo>
                  <a:lnTo>
                    <a:pt x="2491" y="3875"/>
                  </a:lnTo>
                  <a:lnTo>
                    <a:pt x="2502" y="3947"/>
                  </a:lnTo>
                  <a:lnTo>
                    <a:pt x="2534" y="4090"/>
                  </a:lnTo>
                  <a:lnTo>
                    <a:pt x="2578" y="4230"/>
                  </a:lnTo>
                  <a:lnTo>
                    <a:pt x="2633" y="4366"/>
                  </a:lnTo>
                  <a:lnTo>
                    <a:pt x="2697" y="4497"/>
                  </a:lnTo>
                  <a:lnTo>
                    <a:pt x="2772" y="4624"/>
                  </a:lnTo>
                  <a:lnTo>
                    <a:pt x="2856" y="4745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29600" y="3263760"/>
              <a:ext cx="198360" cy="181080"/>
            </a:xfrm>
            <a:custGeom>
              <a:avLst/>
              <a:gdLst/>
              <a:ahLst/>
              <a:rect l="l" t="t" r="r" b="b"/>
              <a:pathLst>
                <a:path w="1378" h="1263">
                  <a:moveTo>
                    <a:pt x="647" y="1263"/>
                  </a:moveTo>
                  <a:lnTo>
                    <a:pt x="581" y="1259"/>
                  </a:lnTo>
                  <a:lnTo>
                    <a:pt x="517" y="1248"/>
                  </a:lnTo>
                  <a:lnTo>
                    <a:pt x="456" y="1229"/>
                  </a:lnTo>
                  <a:lnTo>
                    <a:pt x="397" y="1204"/>
                  </a:lnTo>
                  <a:lnTo>
                    <a:pt x="340" y="1173"/>
                  </a:lnTo>
                  <a:lnTo>
                    <a:pt x="286" y="1136"/>
                  </a:lnTo>
                  <a:lnTo>
                    <a:pt x="237" y="1095"/>
                  </a:lnTo>
                  <a:lnTo>
                    <a:pt x="190" y="1048"/>
                  </a:lnTo>
                  <a:lnTo>
                    <a:pt x="149" y="998"/>
                  </a:lnTo>
                  <a:lnTo>
                    <a:pt x="111" y="945"/>
                  </a:lnTo>
                  <a:lnTo>
                    <a:pt x="79" y="888"/>
                  </a:lnTo>
                  <a:lnTo>
                    <a:pt x="51" y="828"/>
                  </a:lnTo>
                  <a:lnTo>
                    <a:pt x="29" y="768"/>
                  </a:lnTo>
                  <a:lnTo>
                    <a:pt x="13" y="706"/>
                  </a:lnTo>
                  <a:lnTo>
                    <a:pt x="3" y="642"/>
                  </a:lnTo>
                  <a:lnTo>
                    <a:pt x="0" y="578"/>
                  </a:lnTo>
                  <a:lnTo>
                    <a:pt x="4" y="513"/>
                  </a:lnTo>
                  <a:lnTo>
                    <a:pt x="14" y="450"/>
                  </a:lnTo>
                  <a:lnTo>
                    <a:pt x="31" y="392"/>
                  </a:lnTo>
                  <a:lnTo>
                    <a:pt x="55" y="337"/>
                  </a:lnTo>
                  <a:lnTo>
                    <a:pt x="84" y="286"/>
                  </a:lnTo>
                  <a:lnTo>
                    <a:pt x="118" y="238"/>
                  </a:lnTo>
                  <a:lnTo>
                    <a:pt x="158" y="195"/>
                  </a:lnTo>
                  <a:lnTo>
                    <a:pt x="200" y="155"/>
                  </a:lnTo>
                  <a:lnTo>
                    <a:pt x="248" y="120"/>
                  </a:lnTo>
                  <a:lnTo>
                    <a:pt x="299" y="89"/>
                  </a:lnTo>
                  <a:lnTo>
                    <a:pt x="352" y="62"/>
                  </a:lnTo>
                  <a:lnTo>
                    <a:pt x="408" y="41"/>
                  </a:lnTo>
                  <a:lnTo>
                    <a:pt x="466" y="22"/>
                  </a:lnTo>
                  <a:lnTo>
                    <a:pt x="525" y="10"/>
                  </a:lnTo>
                  <a:lnTo>
                    <a:pt x="586" y="3"/>
                  </a:lnTo>
                  <a:lnTo>
                    <a:pt x="647" y="0"/>
                  </a:lnTo>
                  <a:lnTo>
                    <a:pt x="710" y="3"/>
                  </a:lnTo>
                  <a:lnTo>
                    <a:pt x="767" y="13"/>
                  </a:lnTo>
                  <a:lnTo>
                    <a:pt x="821" y="29"/>
                  </a:lnTo>
                  <a:lnTo>
                    <a:pt x="871" y="50"/>
                  </a:lnTo>
                  <a:lnTo>
                    <a:pt x="915" y="76"/>
                  </a:lnTo>
                  <a:lnTo>
                    <a:pt x="956" y="108"/>
                  </a:lnTo>
                  <a:lnTo>
                    <a:pt x="992" y="143"/>
                  </a:lnTo>
                  <a:lnTo>
                    <a:pt x="1025" y="182"/>
                  </a:lnTo>
                  <a:lnTo>
                    <a:pt x="1053" y="224"/>
                  </a:lnTo>
                  <a:lnTo>
                    <a:pt x="1078" y="270"/>
                  </a:lnTo>
                  <a:lnTo>
                    <a:pt x="1099" y="317"/>
                  </a:lnTo>
                  <a:lnTo>
                    <a:pt x="1115" y="367"/>
                  </a:lnTo>
                  <a:lnTo>
                    <a:pt x="1128" y="419"/>
                  </a:lnTo>
                  <a:lnTo>
                    <a:pt x="1137" y="472"/>
                  </a:lnTo>
                  <a:lnTo>
                    <a:pt x="1142" y="524"/>
                  </a:lnTo>
                  <a:lnTo>
                    <a:pt x="1144" y="578"/>
                  </a:lnTo>
                  <a:lnTo>
                    <a:pt x="1378" y="578"/>
                  </a:lnTo>
                  <a:lnTo>
                    <a:pt x="1374" y="578"/>
                  </a:lnTo>
                  <a:lnTo>
                    <a:pt x="1375" y="578"/>
                  </a:lnTo>
                  <a:lnTo>
                    <a:pt x="1378" y="578"/>
                  </a:lnTo>
                  <a:lnTo>
                    <a:pt x="1374" y="645"/>
                  </a:lnTo>
                  <a:lnTo>
                    <a:pt x="1361" y="712"/>
                  </a:lnTo>
                  <a:lnTo>
                    <a:pt x="1341" y="776"/>
                  </a:lnTo>
                  <a:lnTo>
                    <a:pt x="1313" y="837"/>
                  </a:lnTo>
                  <a:lnTo>
                    <a:pt x="1279" y="897"/>
                  </a:lnTo>
                  <a:lnTo>
                    <a:pt x="1238" y="954"/>
                  </a:lnTo>
                  <a:lnTo>
                    <a:pt x="1193" y="1007"/>
                  </a:lnTo>
                  <a:lnTo>
                    <a:pt x="1143" y="1056"/>
                  </a:lnTo>
                  <a:lnTo>
                    <a:pt x="1089" y="1101"/>
                  </a:lnTo>
                  <a:lnTo>
                    <a:pt x="1032" y="1142"/>
                  </a:lnTo>
                  <a:lnTo>
                    <a:pt x="971" y="1177"/>
                  </a:lnTo>
                  <a:lnTo>
                    <a:pt x="908" y="1207"/>
                  </a:lnTo>
                  <a:lnTo>
                    <a:pt x="843" y="1231"/>
                  </a:lnTo>
                  <a:lnTo>
                    <a:pt x="779" y="1249"/>
                  </a:lnTo>
                  <a:lnTo>
                    <a:pt x="713" y="1259"/>
                  </a:lnTo>
                  <a:lnTo>
                    <a:pt x="647" y="1263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454960" y="3376800"/>
              <a:ext cx="368280" cy="171360"/>
            </a:xfrm>
            <a:custGeom>
              <a:avLst/>
              <a:gdLst/>
              <a:ahLst/>
              <a:rect l="l" t="t" r="r" b="b"/>
              <a:pathLst>
                <a:path w="2554" h="1190">
                  <a:moveTo>
                    <a:pt x="0" y="1190"/>
                  </a:moveTo>
                  <a:lnTo>
                    <a:pt x="162" y="1087"/>
                  </a:lnTo>
                  <a:lnTo>
                    <a:pt x="323" y="998"/>
                  </a:lnTo>
                  <a:lnTo>
                    <a:pt x="483" y="921"/>
                  </a:lnTo>
                  <a:lnTo>
                    <a:pt x="642" y="858"/>
                  </a:lnTo>
                  <a:lnTo>
                    <a:pt x="800" y="808"/>
                  </a:lnTo>
                  <a:lnTo>
                    <a:pt x="958" y="771"/>
                  </a:lnTo>
                  <a:lnTo>
                    <a:pt x="1037" y="758"/>
                  </a:lnTo>
                  <a:lnTo>
                    <a:pt x="1115" y="748"/>
                  </a:lnTo>
                  <a:lnTo>
                    <a:pt x="1194" y="742"/>
                  </a:lnTo>
                  <a:lnTo>
                    <a:pt x="1273" y="738"/>
                  </a:lnTo>
                  <a:lnTo>
                    <a:pt x="1430" y="742"/>
                  </a:lnTo>
                  <a:lnTo>
                    <a:pt x="1509" y="748"/>
                  </a:lnTo>
                  <a:lnTo>
                    <a:pt x="1588" y="758"/>
                  </a:lnTo>
                  <a:lnTo>
                    <a:pt x="1747" y="789"/>
                  </a:lnTo>
                  <a:lnTo>
                    <a:pt x="1826" y="810"/>
                  </a:lnTo>
                  <a:lnTo>
                    <a:pt x="1906" y="833"/>
                  </a:lnTo>
                  <a:lnTo>
                    <a:pt x="1986" y="860"/>
                  </a:lnTo>
                  <a:lnTo>
                    <a:pt x="2066" y="891"/>
                  </a:lnTo>
                  <a:lnTo>
                    <a:pt x="2227" y="962"/>
                  </a:lnTo>
                  <a:lnTo>
                    <a:pt x="2390" y="1047"/>
                  </a:lnTo>
                  <a:lnTo>
                    <a:pt x="2554" y="1146"/>
                  </a:lnTo>
                  <a:lnTo>
                    <a:pt x="785" y="0"/>
                  </a:lnTo>
                  <a:lnTo>
                    <a:pt x="770" y="95"/>
                  </a:lnTo>
                  <a:lnTo>
                    <a:pt x="750" y="188"/>
                  </a:lnTo>
                  <a:lnTo>
                    <a:pt x="724" y="279"/>
                  </a:lnTo>
                  <a:lnTo>
                    <a:pt x="694" y="367"/>
                  </a:lnTo>
                  <a:lnTo>
                    <a:pt x="659" y="453"/>
                  </a:lnTo>
                  <a:lnTo>
                    <a:pt x="618" y="536"/>
                  </a:lnTo>
                  <a:lnTo>
                    <a:pt x="574" y="616"/>
                  </a:lnTo>
                  <a:lnTo>
                    <a:pt x="525" y="693"/>
                  </a:lnTo>
                  <a:lnTo>
                    <a:pt x="472" y="767"/>
                  </a:lnTo>
                  <a:lnTo>
                    <a:pt x="416" y="838"/>
                  </a:lnTo>
                  <a:lnTo>
                    <a:pt x="355" y="905"/>
                  </a:lnTo>
                  <a:lnTo>
                    <a:pt x="290" y="970"/>
                  </a:lnTo>
                  <a:lnTo>
                    <a:pt x="222" y="1031"/>
                  </a:lnTo>
                  <a:lnTo>
                    <a:pt x="151" y="1087"/>
                  </a:lnTo>
                  <a:lnTo>
                    <a:pt x="77" y="114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91360" y="3127320"/>
              <a:ext cx="441360" cy="457200"/>
            </a:xfrm>
            <a:custGeom>
              <a:avLst/>
              <a:gdLst/>
              <a:ahLst/>
              <a:rect l="l" t="t" r="r" b="b"/>
              <a:pathLst>
                <a:path w="3055" h="3175">
                  <a:moveTo>
                    <a:pt x="2331" y="1522"/>
                  </a:moveTo>
                  <a:lnTo>
                    <a:pt x="2328" y="1439"/>
                  </a:lnTo>
                  <a:lnTo>
                    <a:pt x="2320" y="1358"/>
                  </a:lnTo>
                  <a:lnTo>
                    <a:pt x="2307" y="1279"/>
                  </a:lnTo>
                  <a:lnTo>
                    <a:pt x="2288" y="1204"/>
                  </a:lnTo>
                  <a:lnTo>
                    <a:pt x="2263" y="1132"/>
                  </a:lnTo>
                  <a:lnTo>
                    <a:pt x="2233" y="1064"/>
                  </a:lnTo>
                  <a:lnTo>
                    <a:pt x="2196" y="1000"/>
                  </a:lnTo>
                  <a:lnTo>
                    <a:pt x="2155" y="942"/>
                  </a:lnTo>
                  <a:lnTo>
                    <a:pt x="2106" y="888"/>
                  </a:lnTo>
                  <a:lnTo>
                    <a:pt x="2053" y="841"/>
                  </a:lnTo>
                  <a:lnTo>
                    <a:pt x="1993" y="799"/>
                  </a:lnTo>
                  <a:lnTo>
                    <a:pt x="1927" y="764"/>
                  </a:lnTo>
                  <a:lnTo>
                    <a:pt x="1855" y="736"/>
                  </a:lnTo>
                  <a:lnTo>
                    <a:pt x="1776" y="716"/>
                  </a:lnTo>
                  <a:lnTo>
                    <a:pt x="1691" y="703"/>
                  </a:lnTo>
                  <a:lnTo>
                    <a:pt x="1600" y="699"/>
                  </a:lnTo>
                  <a:lnTo>
                    <a:pt x="1514" y="703"/>
                  </a:lnTo>
                  <a:lnTo>
                    <a:pt x="1430" y="715"/>
                  </a:lnTo>
                  <a:lnTo>
                    <a:pt x="1347" y="734"/>
                  </a:lnTo>
                  <a:lnTo>
                    <a:pt x="1268" y="761"/>
                  </a:lnTo>
                  <a:lnTo>
                    <a:pt x="1191" y="794"/>
                  </a:lnTo>
                  <a:lnTo>
                    <a:pt x="1119" y="834"/>
                  </a:lnTo>
                  <a:lnTo>
                    <a:pt x="1050" y="879"/>
                  </a:lnTo>
                  <a:lnTo>
                    <a:pt x="987" y="932"/>
                  </a:lnTo>
                  <a:lnTo>
                    <a:pt x="929" y="990"/>
                  </a:lnTo>
                  <a:lnTo>
                    <a:pt x="877" y="1053"/>
                  </a:lnTo>
                  <a:lnTo>
                    <a:pt x="831" y="1120"/>
                  </a:lnTo>
                  <a:lnTo>
                    <a:pt x="793" y="1193"/>
                  </a:lnTo>
                  <a:lnTo>
                    <a:pt x="761" y="1270"/>
                  </a:lnTo>
                  <a:lnTo>
                    <a:pt x="739" y="1350"/>
                  </a:lnTo>
                  <a:lnTo>
                    <a:pt x="725" y="1434"/>
                  </a:lnTo>
                  <a:lnTo>
                    <a:pt x="720" y="1522"/>
                  </a:lnTo>
                  <a:lnTo>
                    <a:pt x="724" y="1610"/>
                  </a:lnTo>
                  <a:lnTo>
                    <a:pt x="738" y="1697"/>
                  </a:lnTo>
                  <a:lnTo>
                    <a:pt x="759" y="1782"/>
                  </a:lnTo>
                  <a:lnTo>
                    <a:pt x="789" y="1866"/>
                  </a:lnTo>
                  <a:lnTo>
                    <a:pt x="826" y="1946"/>
                  </a:lnTo>
                  <a:lnTo>
                    <a:pt x="870" y="2022"/>
                  </a:lnTo>
                  <a:lnTo>
                    <a:pt x="920" y="2094"/>
                  </a:lnTo>
                  <a:lnTo>
                    <a:pt x="977" y="2162"/>
                  </a:lnTo>
                  <a:lnTo>
                    <a:pt x="1040" y="2223"/>
                  </a:lnTo>
                  <a:lnTo>
                    <a:pt x="1108" y="2279"/>
                  </a:lnTo>
                  <a:lnTo>
                    <a:pt x="1180" y="2328"/>
                  </a:lnTo>
                  <a:lnTo>
                    <a:pt x="1257" y="2369"/>
                  </a:lnTo>
                  <a:lnTo>
                    <a:pt x="1297" y="2387"/>
                  </a:lnTo>
                  <a:lnTo>
                    <a:pt x="1338" y="2403"/>
                  </a:lnTo>
                  <a:lnTo>
                    <a:pt x="1423" y="2427"/>
                  </a:lnTo>
                  <a:lnTo>
                    <a:pt x="1510" y="2442"/>
                  </a:lnTo>
                  <a:lnTo>
                    <a:pt x="1600" y="2447"/>
                  </a:lnTo>
                  <a:lnTo>
                    <a:pt x="1694" y="2443"/>
                  </a:lnTo>
                  <a:lnTo>
                    <a:pt x="1787" y="2429"/>
                  </a:lnTo>
                  <a:lnTo>
                    <a:pt x="1877" y="2408"/>
                  </a:lnTo>
                  <a:lnTo>
                    <a:pt x="1964" y="2378"/>
                  </a:lnTo>
                  <a:lnTo>
                    <a:pt x="2049" y="2341"/>
                  </a:lnTo>
                  <a:lnTo>
                    <a:pt x="2128" y="2295"/>
                  </a:lnTo>
                  <a:lnTo>
                    <a:pt x="2202" y="2244"/>
                  </a:lnTo>
                  <a:lnTo>
                    <a:pt x="2272" y="2186"/>
                  </a:lnTo>
                  <a:lnTo>
                    <a:pt x="2336" y="2121"/>
                  </a:lnTo>
                  <a:lnTo>
                    <a:pt x="2366" y="2086"/>
                  </a:lnTo>
                  <a:lnTo>
                    <a:pt x="2393" y="2050"/>
                  </a:lnTo>
                  <a:lnTo>
                    <a:pt x="2442" y="1974"/>
                  </a:lnTo>
                  <a:lnTo>
                    <a:pt x="2485" y="1892"/>
                  </a:lnTo>
                  <a:lnTo>
                    <a:pt x="2518" y="1806"/>
                  </a:lnTo>
                  <a:lnTo>
                    <a:pt x="2544" y="1716"/>
                  </a:lnTo>
                  <a:lnTo>
                    <a:pt x="2559" y="1620"/>
                  </a:lnTo>
                  <a:lnTo>
                    <a:pt x="2564" y="1522"/>
                  </a:lnTo>
                  <a:lnTo>
                    <a:pt x="2561" y="1410"/>
                  </a:lnTo>
                  <a:lnTo>
                    <a:pt x="2550" y="1302"/>
                  </a:lnTo>
                  <a:lnTo>
                    <a:pt x="2532" y="1199"/>
                  </a:lnTo>
                  <a:lnTo>
                    <a:pt x="2507" y="1100"/>
                  </a:lnTo>
                  <a:lnTo>
                    <a:pt x="2474" y="1006"/>
                  </a:lnTo>
                  <a:lnTo>
                    <a:pt x="2434" y="919"/>
                  </a:lnTo>
                  <a:lnTo>
                    <a:pt x="2387" y="838"/>
                  </a:lnTo>
                  <a:lnTo>
                    <a:pt x="2331" y="763"/>
                  </a:lnTo>
                  <a:lnTo>
                    <a:pt x="2268" y="695"/>
                  </a:lnTo>
                  <a:lnTo>
                    <a:pt x="2197" y="635"/>
                  </a:lnTo>
                  <a:lnTo>
                    <a:pt x="2117" y="582"/>
                  </a:lnTo>
                  <a:lnTo>
                    <a:pt x="2031" y="539"/>
                  </a:lnTo>
                  <a:lnTo>
                    <a:pt x="1935" y="504"/>
                  </a:lnTo>
                  <a:lnTo>
                    <a:pt x="1832" y="479"/>
                  </a:lnTo>
                  <a:lnTo>
                    <a:pt x="1777" y="470"/>
                  </a:lnTo>
                  <a:lnTo>
                    <a:pt x="1720" y="463"/>
                  </a:lnTo>
                  <a:lnTo>
                    <a:pt x="1661" y="459"/>
                  </a:lnTo>
                  <a:lnTo>
                    <a:pt x="1600" y="458"/>
                  </a:lnTo>
                  <a:lnTo>
                    <a:pt x="1476" y="462"/>
                  </a:lnTo>
                  <a:lnTo>
                    <a:pt x="1359" y="476"/>
                  </a:lnTo>
                  <a:lnTo>
                    <a:pt x="1249" y="498"/>
                  </a:lnTo>
                  <a:lnTo>
                    <a:pt x="1144" y="529"/>
                  </a:lnTo>
                  <a:lnTo>
                    <a:pt x="1047" y="568"/>
                  </a:lnTo>
                  <a:lnTo>
                    <a:pt x="957" y="616"/>
                  </a:lnTo>
                  <a:lnTo>
                    <a:pt x="874" y="673"/>
                  </a:lnTo>
                  <a:lnTo>
                    <a:pt x="799" y="736"/>
                  </a:lnTo>
                  <a:lnTo>
                    <a:pt x="732" y="808"/>
                  </a:lnTo>
                  <a:lnTo>
                    <a:pt x="673" y="888"/>
                  </a:lnTo>
                  <a:lnTo>
                    <a:pt x="623" y="976"/>
                  </a:lnTo>
                  <a:lnTo>
                    <a:pt x="580" y="1071"/>
                  </a:lnTo>
                  <a:lnTo>
                    <a:pt x="548" y="1172"/>
                  </a:lnTo>
                  <a:lnTo>
                    <a:pt x="523" y="1282"/>
                  </a:lnTo>
                  <a:lnTo>
                    <a:pt x="515" y="1339"/>
                  </a:lnTo>
                  <a:lnTo>
                    <a:pt x="509" y="1398"/>
                  </a:lnTo>
                  <a:lnTo>
                    <a:pt x="504" y="1522"/>
                  </a:lnTo>
                  <a:lnTo>
                    <a:pt x="505" y="1578"/>
                  </a:lnTo>
                  <a:lnTo>
                    <a:pt x="509" y="1634"/>
                  </a:lnTo>
                  <a:lnTo>
                    <a:pt x="526" y="1745"/>
                  </a:lnTo>
                  <a:lnTo>
                    <a:pt x="551" y="1854"/>
                  </a:lnTo>
                  <a:lnTo>
                    <a:pt x="586" y="1961"/>
                  </a:lnTo>
                  <a:lnTo>
                    <a:pt x="608" y="2013"/>
                  </a:lnTo>
                  <a:lnTo>
                    <a:pt x="631" y="2063"/>
                  </a:lnTo>
                  <a:lnTo>
                    <a:pt x="684" y="2162"/>
                  </a:lnTo>
                  <a:lnTo>
                    <a:pt x="745" y="2255"/>
                  </a:lnTo>
                  <a:lnTo>
                    <a:pt x="815" y="2342"/>
                  </a:lnTo>
                  <a:lnTo>
                    <a:pt x="891" y="2421"/>
                  </a:lnTo>
                  <a:lnTo>
                    <a:pt x="975" y="2493"/>
                  </a:lnTo>
                  <a:lnTo>
                    <a:pt x="1065" y="2557"/>
                  </a:lnTo>
                  <a:lnTo>
                    <a:pt x="1113" y="2584"/>
                  </a:lnTo>
                  <a:lnTo>
                    <a:pt x="1161" y="2611"/>
                  </a:lnTo>
                  <a:lnTo>
                    <a:pt x="1264" y="2653"/>
                  </a:lnTo>
                  <a:lnTo>
                    <a:pt x="1316" y="2670"/>
                  </a:lnTo>
                  <a:lnTo>
                    <a:pt x="1371" y="2686"/>
                  </a:lnTo>
                  <a:lnTo>
                    <a:pt x="1427" y="2697"/>
                  </a:lnTo>
                  <a:lnTo>
                    <a:pt x="1483" y="2705"/>
                  </a:lnTo>
                  <a:lnTo>
                    <a:pt x="1541" y="2710"/>
                  </a:lnTo>
                  <a:lnTo>
                    <a:pt x="1600" y="2712"/>
                  </a:lnTo>
                  <a:lnTo>
                    <a:pt x="1716" y="2704"/>
                  </a:lnTo>
                  <a:lnTo>
                    <a:pt x="1774" y="2695"/>
                  </a:lnTo>
                  <a:lnTo>
                    <a:pt x="1831" y="2684"/>
                  </a:lnTo>
                  <a:lnTo>
                    <a:pt x="1942" y="2653"/>
                  </a:lnTo>
                  <a:lnTo>
                    <a:pt x="1997" y="2634"/>
                  </a:lnTo>
                  <a:lnTo>
                    <a:pt x="2051" y="2612"/>
                  </a:lnTo>
                  <a:lnTo>
                    <a:pt x="2155" y="2561"/>
                  </a:lnTo>
                  <a:lnTo>
                    <a:pt x="2253" y="2500"/>
                  </a:lnTo>
                  <a:lnTo>
                    <a:pt x="2346" y="2431"/>
                  </a:lnTo>
                  <a:lnTo>
                    <a:pt x="2433" y="2355"/>
                  </a:lnTo>
                  <a:lnTo>
                    <a:pt x="2474" y="2314"/>
                  </a:lnTo>
                  <a:lnTo>
                    <a:pt x="2512" y="2271"/>
                  </a:lnTo>
                  <a:lnTo>
                    <a:pt x="2583" y="2180"/>
                  </a:lnTo>
                  <a:lnTo>
                    <a:pt x="2646" y="2083"/>
                  </a:lnTo>
                  <a:lnTo>
                    <a:pt x="2699" y="1979"/>
                  </a:lnTo>
                  <a:lnTo>
                    <a:pt x="2741" y="1872"/>
                  </a:lnTo>
                  <a:lnTo>
                    <a:pt x="2758" y="1815"/>
                  </a:lnTo>
                  <a:lnTo>
                    <a:pt x="2772" y="1758"/>
                  </a:lnTo>
                  <a:lnTo>
                    <a:pt x="2784" y="1700"/>
                  </a:lnTo>
                  <a:lnTo>
                    <a:pt x="2791" y="1642"/>
                  </a:lnTo>
                  <a:lnTo>
                    <a:pt x="2796" y="1583"/>
                  </a:lnTo>
                  <a:lnTo>
                    <a:pt x="2798" y="1522"/>
                  </a:lnTo>
                  <a:lnTo>
                    <a:pt x="2794" y="1382"/>
                  </a:lnTo>
                  <a:lnTo>
                    <a:pt x="2780" y="1248"/>
                  </a:lnTo>
                  <a:lnTo>
                    <a:pt x="2757" y="1120"/>
                  </a:lnTo>
                  <a:lnTo>
                    <a:pt x="2725" y="998"/>
                  </a:lnTo>
                  <a:lnTo>
                    <a:pt x="2683" y="883"/>
                  </a:lnTo>
                  <a:lnTo>
                    <a:pt x="2633" y="776"/>
                  </a:lnTo>
                  <a:lnTo>
                    <a:pt x="2573" y="677"/>
                  </a:lnTo>
                  <a:lnTo>
                    <a:pt x="2540" y="630"/>
                  </a:lnTo>
                  <a:lnTo>
                    <a:pt x="2504" y="585"/>
                  </a:lnTo>
                  <a:lnTo>
                    <a:pt x="2466" y="543"/>
                  </a:lnTo>
                  <a:lnTo>
                    <a:pt x="2425" y="503"/>
                  </a:lnTo>
                  <a:lnTo>
                    <a:pt x="2336" y="430"/>
                  </a:lnTo>
                  <a:lnTo>
                    <a:pt x="2289" y="398"/>
                  </a:lnTo>
                  <a:lnTo>
                    <a:pt x="2238" y="367"/>
                  </a:lnTo>
                  <a:lnTo>
                    <a:pt x="2131" y="315"/>
                  </a:lnTo>
                  <a:lnTo>
                    <a:pt x="2012" y="273"/>
                  </a:lnTo>
                  <a:lnTo>
                    <a:pt x="1950" y="256"/>
                  </a:lnTo>
                  <a:lnTo>
                    <a:pt x="1884" y="243"/>
                  </a:lnTo>
                  <a:lnTo>
                    <a:pt x="1818" y="232"/>
                  </a:lnTo>
                  <a:lnTo>
                    <a:pt x="1748" y="223"/>
                  </a:lnTo>
                  <a:lnTo>
                    <a:pt x="1675" y="219"/>
                  </a:lnTo>
                  <a:lnTo>
                    <a:pt x="1600" y="217"/>
                  </a:lnTo>
                  <a:lnTo>
                    <a:pt x="1529" y="219"/>
                  </a:lnTo>
                  <a:lnTo>
                    <a:pt x="1459" y="223"/>
                  </a:lnTo>
                  <a:lnTo>
                    <a:pt x="1323" y="242"/>
                  </a:lnTo>
                  <a:lnTo>
                    <a:pt x="1193" y="272"/>
                  </a:lnTo>
                  <a:lnTo>
                    <a:pt x="1129" y="291"/>
                  </a:lnTo>
                  <a:lnTo>
                    <a:pt x="1067" y="314"/>
                  </a:lnTo>
                  <a:lnTo>
                    <a:pt x="949" y="365"/>
                  </a:lnTo>
                  <a:lnTo>
                    <a:pt x="892" y="396"/>
                  </a:lnTo>
                  <a:lnTo>
                    <a:pt x="837" y="428"/>
                  </a:lnTo>
                  <a:lnTo>
                    <a:pt x="733" y="501"/>
                  </a:lnTo>
                  <a:lnTo>
                    <a:pt x="684" y="541"/>
                  </a:lnTo>
                  <a:lnTo>
                    <a:pt x="638" y="582"/>
                  </a:lnTo>
                  <a:lnTo>
                    <a:pt x="593" y="627"/>
                  </a:lnTo>
                  <a:lnTo>
                    <a:pt x="551" y="674"/>
                  </a:lnTo>
                  <a:lnTo>
                    <a:pt x="511" y="722"/>
                  </a:lnTo>
                  <a:lnTo>
                    <a:pt x="474" y="773"/>
                  </a:lnTo>
                  <a:lnTo>
                    <a:pt x="407" y="880"/>
                  </a:lnTo>
                  <a:lnTo>
                    <a:pt x="378" y="937"/>
                  </a:lnTo>
                  <a:lnTo>
                    <a:pt x="350" y="995"/>
                  </a:lnTo>
                  <a:lnTo>
                    <a:pt x="327" y="1056"/>
                  </a:lnTo>
                  <a:lnTo>
                    <a:pt x="306" y="1118"/>
                  </a:lnTo>
                  <a:lnTo>
                    <a:pt x="273" y="1246"/>
                  </a:lnTo>
                  <a:lnTo>
                    <a:pt x="261" y="1313"/>
                  </a:lnTo>
                  <a:lnTo>
                    <a:pt x="253" y="1381"/>
                  </a:lnTo>
                  <a:lnTo>
                    <a:pt x="248" y="1451"/>
                  </a:lnTo>
                  <a:lnTo>
                    <a:pt x="246" y="1522"/>
                  </a:lnTo>
                  <a:lnTo>
                    <a:pt x="253" y="1659"/>
                  </a:lnTo>
                  <a:lnTo>
                    <a:pt x="273" y="1794"/>
                  </a:lnTo>
                  <a:lnTo>
                    <a:pt x="289" y="1861"/>
                  </a:lnTo>
                  <a:lnTo>
                    <a:pt x="307" y="1925"/>
                  </a:lnTo>
                  <a:lnTo>
                    <a:pt x="352" y="2052"/>
                  </a:lnTo>
                  <a:lnTo>
                    <a:pt x="409" y="2175"/>
                  </a:lnTo>
                  <a:lnTo>
                    <a:pt x="477" y="2290"/>
                  </a:lnTo>
                  <a:lnTo>
                    <a:pt x="554" y="2400"/>
                  </a:lnTo>
                  <a:lnTo>
                    <a:pt x="642" y="2501"/>
                  </a:lnTo>
                  <a:lnTo>
                    <a:pt x="689" y="2549"/>
                  </a:lnTo>
                  <a:lnTo>
                    <a:pt x="737" y="2594"/>
                  </a:lnTo>
                  <a:lnTo>
                    <a:pt x="789" y="2637"/>
                  </a:lnTo>
                  <a:lnTo>
                    <a:pt x="841" y="2678"/>
                  </a:lnTo>
                  <a:lnTo>
                    <a:pt x="897" y="2715"/>
                  </a:lnTo>
                  <a:lnTo>
                    <a:pt x="954" y="2750"/>
                  </a:lnTo>
                  <a:lnTo>
                    <a:pt x="1012" y="2783"/>
                  </a:lnTo>
                  <a:lnTo>
                    <a:pt x="1071" y="2812"/>
                  </a:lnTo>
                  <a:lnTo>
                    <a:pt x="1133" y="2838"/>
                  </a:lnTo>
                  <a:lnTo>
                    <a:pt x="1196" y="2861"/>
                  </a:lnTo>
                  <a:lnTo>
                    <a:pt x="1327" y="2897"/>
                  </a:lnTo>
                  <a:lnTo>
                    <a:pt x="1393" y="2911"/>
                  </a:lnTo>
                  <a:lnTo>
                    <a:pt x="1461" y="2920"/>
                  </a:lnTo>
                  <a:lnTo>
                    <a:pt x="1530" y="2926"/>
                  </a:lnTo>
                  <a:lnTo>
                    <a:pt x="1600" y="2928"/>
                  </a:lnTo>
                  <a:lnTo>
                    <a:pt x="1673" y="2926"/>
                  </a:lnTo>
                  <a:lnTo>
                    <a:pt x="1745" y="2921"/>
                  </a:lnTo>
                  <a:lnTo>
                    <a:pt x="1886" y="2901"/>
                  </a:lnTo>
                  <a:lnTo>
                    <a:pt x="1954" y="2885"/>
                  </a:lnTo>
                  <a:lnTo>
                    <a:pt x="2022" y="2867"/>
                  </a:lnTo>
                  <a:lnTo>
                    <a:pt x="2155" y="2821"/>
                  </a:lnTo>
                  <a:lnTo>
                    <a:pt x="2281" y="2765"/>
                  </a:lnTo>
                  <a:lnTo>
                    <a:pt x="2342" y="2731"/>
                  </a:lnTo>
                  <a:lnTo>
                    <a:pt x="2402" y="2696"/>
                  </a:lnTo>
                  <a:lnTo>
                    <a:pt x="2459" y="2658"/>
                  </a:lnTo>
                  <a:lnTo>
                    <a:pt x="2514" y="2617"/>
                  </a:lnTo>
                  <a:lnTo>
                    <a:pt x="2619" y="2527"/>
                  </a:lnTo>
                  <a:lnTo>
                    <a:pt x="2714" y="2429"/>
                  </a:lnTo>
                  <a:lnTo>
                    <a:pt x="2758" y="2376"/>
                  </a:lnTo>
                  <a:lnTo>
                    <a:pt x="2800" y="2322"/>
                  </a:lnTo>
                  <a:lnTo>
                    <a:pt x="2838" y="2265"/>
                  </a:lnTo>
                  <a:lnTo>
                    <a:pt x="2874" y="2206"/>
                  </a:lnTo>
                  <a:lnTo>
                    <a:pt x="2937" y="2083"/>
                  </a:lnTo>
                  <a:lnTo>
                    <a:pt x="2964" y="2018"/>
                  </a:lnTo>
                  <a:lnTo>
                    <a:pt x="2987" y="1952"/>
                  </a:lnTo>
                  <a:lnTo>
                    <a:pt x="3025" y="1814"/>
                  </a:lnTo>
                  <a:lnTo>
                    <a:pt x="3038" y="1743"/>
                  </a:lnTo>
                  <a:lnTo>
                    <a:pt x="3047" y="1671"/>
                  </a:lnTo>
                  <a:lnTo>
                    <a:pt x="3053" y="1597"/>
                  </a:lnTo>
                  <a:lnTo>
                    <a:pt x="3055" y="1522"/>
                  </a:lnTo>
                  <a:lnTo>
                    <a:pt x="3053" y="1443"/>
                  </a:lnTo>
                  <a:lnTo>
                    <a:pt x="3048" y="1365"/>
                  </a:lnTo>
                  <a:lnTo>
                    <a:pt x="3040" y="1288"/>
                  </a:lnTo>
                  <a:lnTo>
                    <a:pt x="3029" y="1212"/>
                  </a:lnTo>
                  <a:lnTo>
                    <a:pt x="3014" y="1138"/>
                  </a:lnTo>
                  <a:lnTo>
                    <a:pt x="2996" y="1066"/>
                  </a:lnTo>
                  <a:lnTo>
                    <a:pt x="2975" y="994"/>
                  </a:lnTo>
                  <a:lnTo>
                    <a:pt x="2952" y="925"/>
                  </a:lnTo>
                  <a:lnTo>
                    <a:pt x="2924" y="857"/>
                  </a:lnTo>
                  <a:lnTo>
                    <a:pt x="2895" y="792"/>
                  </a:lnTo>
                  <a:lnTo>
                    <a:pt x="2863" y="728"/>
                  </a:lnTo>
                  <a:lnTo>
                    <a:pt x="2827" y="666"/>
                  </a:lnTo>
                  <a:lnTo>
                    <a:pt x="2789" y="607"/>
                  </a:lnTo>
                  <a:lnTo>
                    <a:pt x="2748" y="550"/>
                  </a:lnTo>
                  <a:lnTo>
                    <a:pt x="2704" y="494"/>
                  </a:lnTo>
                  <a:lnTo>
                    <a:pt x="2658" y="442"/>
                  </a:lnTo>
                  <a:lnTo>
                    <a:pt x="2610" y="392"/>
                  </a:lnTo>
                  <a:lnTo>
                    <a:pt x="2558" y="344"/>
                  </a:lnTo>
                  <a:lnTo>
                    <a:pt x="2504" y="299"/>
                  </a:lnTo>
                  <a:lnTo>
                    <a:pt x="2448" y="257"/>
                  </a:lnTo>
                  <a:lnTo>
                    <a:pt x="2389" y="218"/>
                  </a:lnTo>
                  <a:lnTo>
                    <a:pt x="2328" y="182"/>
                  </a:lnTo>
                  <a:lnTo>
                    <a:pt x="2199" y="118"/>
                  </a:lnTo>
                  <a:lnTo>
                    <a:pt x="2132" y="92"/>
                  </a:lnTo>
                  <a:lnTo>
                    <a:pt x="2062" y="68"/>
                  </a:lnTo>
                  <a:lnTo>
                    <a:pt x="1990" y="48"/>
                  </a:lnTo>
                  <a:lnTo>
                    <a:pt x="1916" y="31"/>
                  </a:lnTo>
                  <a:lnTo>
                    <a:pt x="1839" y="18"/>
                  </a:lnTo>
                  <a:lnTo>
                    <a:pt x="1762" y="9"/>
                  </a:lnTo>
                  <a:lnTo>
                    <a:pt x="1682" y="2"/>
                  </a:lnTo>
                  <a:lnTo>
                    <a:pt x="1600" y="0"/>
                  </a:lnTo>
                  <a:lnTo>
                    <a:pt x="1517" y="2"/>
                  </a:lnTo>
                  <a:lnTo>
                    <a:pt x="1435" y="8"/>
                  </a:lnTo>
                  <a:lnTo>
                    <a:pt x="1354" y="16"/>
                  </a:lnTo>
                  <a:lnTo>
                    <a:pt x="1275" y="27"/>
                  </a:lnTo>
                  <a:lnTo>
                    <a:pt x="1121" y="60"/>
                  </a:lnTo>
                  <a:lnTo>
                    <a:pt x="1046" y="82"/>
                  </a:lnTo>
                  <a:lnTo>
                    <a:pt x="973" y="106"/>
                  </a:lnTo>
                  <a:lnTo>
                    <a:pt x="902" y="133"/>
                  </a:lnTo>
                  <a:lnTo>
                    <a:pt x="833" y="164"/>
                  </a:lnTo>
                  <a:lnTo>
                    <a:pt x="767" y="197"/>
                  </a:lnTo>
                  <a:lnTo>
                    <a:pt x="702" y="234"/>
                  </a:lnTo>
                  <a:lnTo>
                    <a:pt x="639" y="273"/>
                  </a:lnTo>
                  <a:lnTo>
                    <a:pt x="578" y="316"/>
                  </a:lnTo>
                  <a:lnTo>
                    <a:pt x="520" y="360"/>
                  </a:lnTo>
                  <a:lnTo>
                    <a:pt x="466" y="409"/>
                  </a:lnTo>
                  <a:lnTo>
                    <a:pt x="413" y="459"/>
                  </a:lnTo>
                  <a:lnTo>
                    <a:pt x="362" y="512"/>
                  </a:lnTo>
                  <a:lnTo>
                    <a:pt x="315" y="568"/>
                  </a:lnTo>
                  <a:lnTo>
                    <a:pt x="271" y="627"/>
                  </a:lnTo>
                  <a:lnTo>
                    <a:pt x="230" y="689"/>
                  </a:lnTo>
                  <a:lnTo>
                    <a:pt x="191" y="753"/>
                  </a:lnTo>
                  <a:lnTo>
                    <a:pt x="156" y="818"/>
                  </a:lnTo>
                  <a:lnTo>
                    <a:pt x="124" y="887"/>
                  </a:lnTo>
                  <a:lnTo>
                    <a:pt x="96" y="958"/>
                  </a:lnTo>
                  <a:lnTo>
                    <a:pt x="71" y="1032"/>
                  </a:lnTo>
                  <a:lnTo>
                    <a:pt x="50" y="1108"/>
                  </a:lnTo>
                  <a:lnTo>
                    <a:pt x="32" y="1186"/>
                  </a:lnTo>
                  <a:lnTo>
                    <a:pt x="18" y="1268"/>
                  </a:lnTo>
                  <a:lnTo>
                    <a:pt x="8" y="1350"/>
                  </a:lnTo>
                  <a:lnTo>
                    <a:pt x="2" y="1435"/>
                  </a:lnTo>
                  <a:lnTo>
                    <a:pt x="0" y="1522"/>
                  </a:lnTo>
                  <a:lnTo>
                    <a:pt x="2" y="1601"/>
                  </a:lnTo>
                  <a:lnTo>
                    <a:pt x="8" y="1680"/>
                  </a:lnTo>
                  <a:lnTo>
                    <a:pt x="19" y="1758"/>
                  </a:lnTo>
                  <a:lnTo>
                    <a:pt x="33" y="1835"/>
                  </a:lnTo>
                  <a:lnTo>
                    <a:pt x="52" y="1912"/>
                  </a:lnTo>
                  <a:lnTo>
                    <a:pt x="74" y="1988"/>
                  </a:lnTo>
                  <a:lnTo>
                    <a:pt x="130" y="2136"/>
                  </a:lnTo>
                  <a:lnTo>
                    <a:pt x="198" y="2279"/>
                  </a:lnTo>
                  <a:lnTo>
                    <a:pt x="280" y="2416"/>
                  </a:lnTo>
                  <a:lnTo>
                    <a:pt x="325" y="2482"/>
                  </a:lnTo>
                  <a:lnTo>
                    <a:pt x="374" y="2545"/>
                  </a:lnTo>
                  <a:lnTo>
                    <a:pt x="424" y="2607"/>
                  </a:lnTo>
                  <a:lnTo>
                    <a:pt x="478" y="2665"/>
                  </a:lnTo>
                  <a:lnTo>
                    <a:pt x="535" y="2722"/>
                  </a:lnTo>
                  <a:lnTo>
                    <a:pt x="593" y="2776"/>
                  </a:lnTo>
                  <a:lnTo>
                    <a:pt x="654" y="2827"/>
                  </a:lnTo>
                  <a:lnTo>
                    <a:pt x="717" y="2875"/>
                  </a:lnTo>
                  <a:lnTo>
                    <a:pt x="782" y="2920"/>
                  </a:lnTo>
                  <a:lnTo>
                    <a:pt x="849" y="2961"/>
                  </a:lnTo>
                  <a:lnTo>
                    <a:pt x="917" y="3001"/>
                  </a:lnTo>
                  <a:lnTo>
                    <a:pt x="988" y="3035"/>
                  </a:lnTo>
                  <a:lnTo>
                    <a:pt x="1060" y="3067"/>
                  </a:lnTo>
                  <a:lnTo>
                    <a:pt x="1134" y="3095"/>
                  </a:lnTo>
                  <a:lnTo>
                    <a:pt x="1209" y="3118"/>
                  </a:lnTo>
                  <a:lnTo>
                    <a:pt x="1285" y="3139"/>
                  </a:lnTo>
                  <a:lnTo>
                    <a:pt x="1362" y="3155"/>
                  </a:lnTo>
                  <a:lnTo>
                    <a:pt x="1441" y="3166"/>
                  </a:lnTo>
                  <a:lnTo>
                    <a:pt x="1520" y="3173"/>
                  </a:lnTo>
                  <a:lnTo>
                    <a:pt x="1600" y="3175"/>
                  </a:lnTo>
                  <a:lnTo>
                    <a:pt x="1723" y="3171"/>
                  </a:lnTo>
                  <a:lnTo>
                    <a:pt x="1846" y="3158"/>
                  </a:lnTo>
                  <a:lnTo>
                    <a:pt x="1966" y="3138"/>
                  </a:lnTo>
                  <a:lnTo>
                    <a:pt x="2082" y="3109"/>
                  </a:lnTo>
                  <a:lnTo>
                    <a:pt x="2195" y="3073"/>
                  </a:lnTo>
                  <a:lnTo>
                    <a:pt x="2307" y="3029"/>
                  </a:lnTo>
                  <a:lnTo>
                    <a:pt x="2413" y="2979"/>
                  </a:lnTo>
                  <a:lnTo>
                    <a:pt x="2515" y="2922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431200" y="3116160"/>
              <a:ext cx="138240" cy="260640"/>
            </a:xfrm>
            <a:custGeom>
              <a:avLst/>
              <a:gdLst/>
              <a:ahLst/>
              <a:rect l="l" t="t" r="r" b="b"/>
              <a:pathLst>
                <a:path w="955" h="1808">
                  <a:moveTo>
                    <a:pt x="942" y="1808"/>
                  </a:moveTo>
                  <a:lnTo>
                    <a:pt x="952" y="1704"/>
                  </a:lnTo>
                  <a:lnTo>
                    <a:pt x="955" y="1598"/>
                  </a:lnTo>
                  <a:lnTo>
                    <a:pt x="951" y="1467"/>
                  </a:lnTo>
                  <a:lnTo>
                    <a:pt x="938" y="1338"/>
                  </a:lnTo>
                  <a:lnTo>
                    <a:pt x="917" y="1213"/>
                  </a:lnTo>
                  <a:lnTo>
                    <a:pt x="889" y="1091"/>
                  </a:lnTo>
                  <a:lnTo>
                    <a:pt x="851" y="973"/>
                  </a:lnTo>
                  <a:lnTo>
                    <a:pt x="808" y="858"/>
                  </a:lnTo>
                  <a:lnTo>
                    <a:pt x="755" y="747"/>
                  </a:lnTo>
                  <a:lnTo>
                    <a:pt x="697" y="641"/>
                  </a:lnTo>
                  <a:lnTo>
                    <a:pt x="631" y="541"/>
                  </a:lnTo>
                  <a:lnTo>
                    <a:pt x="558" y="444"/>
                  </a:lnTo>
                  <a:lnTo>
                    <a:pt x="480" y="355"/>
                  </a:lnTo>
                  <a:lnTo>
                    <a:pt x="395" y="271"/>
                  </a:lnTo>
                  <a:lnTo>
                    <a:pt x="305" y="193"/>
                  </a:lnTo>
                  <a:lnTo>
                    <a:pt x="209" y="122"/>
                  </a:lnTo>
                  <a:lnTo>
                    <a:pt x="108" y="57"/>
                  </a:lnTo>
                  <a:lnTo>
                    <a:pt x="0" y="0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109000" y="3503520"/>
              <a:ext cx="714240" cy="114480"/>
            </a:xfrm>
            <a:custGeom>
              <a:avLst/>
              <a:gdLst/>
              <a:ahLst/>
              <a:rect l="l" t="t" r="r" b="b"/>
              <a:pathLst>
                <a:path w="4952" h="789">
                  <a:moveTo>
                    <a:pt x="0" y="0"/>
                  </a:moveTo>
                  <a:lnTo>
                    <a:pt x="68" y="85"/>
                  </a:lnTo>
                  <a:lnTo>
                    <a:pt x="140" y="167"/>
                  </a:lnTo>
                  <a:lnTo>
                    <a:pt x="217" y="245"/>
                  </a:lnTo>
                  <a:lnTo>
                    <a:pt x="297" y="319"/>
                  </a:lnTo>
                  <a:lnTo>
                    <a:pt x="382" y="388"/>
                  </a:lnTo>
                  <a:lnTo>
                    <a:pt x="469" y="453"/>
                  </a:lnTo>
                  <a:lnTo>
                    <a:pt x="560" y="512"/>
                  </a:lnTo>
                  <a:lnTo>
                    <a:pt x="655" y="566"/>
                  </a:lnTo>
                  <a:lnTo>
                    <a:pt x="751" y="615"/>
                  </a:lnTo>
                  <a:lnTo>
                    <a:pt x="850" y="659"/>
                  </a:lnTo>
                  <a:lnTo>
                    <a:pt x="951" y="696"/>
                  </a:lnTo>
                  <a:lnTo>
                    <a:pt x="1055" y="727"/>
                  </a:lnTo>
                  <a:lnTo>
                    <a:pt x="1160" y="752"/>
                  </a:lnTo>
                  <a:lnTo>
                    <a:pt x="1266" y="770"/>
                  </a:lnTo>
                  <a:lnTo>
                    <a:pt x="1375" y="780"/>
                  </a:lnTo>
                  <a:lnTo>
                    <a:pt x="1483" y="784"/>
                  </a:lnTo>
                  <a:lnTo>
                    <a:pt x="1564" y="789"/>
                  </a:lnTo>
                  <a:lnTo>
                    <a:pt x="1644" y="788"/>
                  </a:lnTo>
                  <a:lnTo>
                    <a:pt x="1721" y="783"/>
                  </a:lnTo>
                  <a:lnTo>
                    <a:pt x="1797" y="773"/>
                  </a:lnTo>
                  <a:lnTo>
                    <a:pt x="1872" y="759"/>
                  </a:lnTo>
                  <a:lnTo>
                    <a:pt x="1945" y="741"/>
                  </a:lnTo>
                  <a:lnTo>
                    <a:pt x="2016" y="719"/>
                  </a:lnTo>
                  <a:lnTo>
                    <a:pt x="2086" y="694"/>
                  </a:lnTo>
                  <a:lnTo>
                    <a:pt x="2155" y="667"/>
                  </a:lnTo>
                  <a:lnTo>
                    <a:pt x="2224" y="637"/>
                  </a:lnTo>
                  <a:lnTo>
                    <a:pt x="2359" y="571"/>
                  </a:lnTo>
                  <a:lnTo>
                    <a:pt x="2492" y="500"/>
                  </a:lnTo>
                  <a:lnTo>
                    <a:pt x="2622" y="426"/>
                  </a:lnTo>
                  <a:lnTo>
                    <a:pt x="2753" y="352"/>
                  </a:lnTo>
                  <a:lnTo>
                    <a:pt x="2884" y="281"/>
                  </a:lnTo>
                  <a:lnTo>
                    <a:pt x="3018" y="217"/>
                  </a:lnTo>
                  <a:lnTo>
                    <a:pt x="3154" y="160"/>
                  </a:lnTo>
                  <a:lnTo>
                    <a:pt x="3295" y="114"/>
                  </a:lnTo>
                  <a:lnTo>
                    <a:pt x="3365" y="97"/>
                  </a:lnTo>
                  <a:lnTo>
                    <a:pt x="3438" y="83"/>
                  </a:lnTo>
                  <a:lnTo>
                    <a:pt x="3513" y="74"/>
                  </a:lnTo>
                  <a:lnTo>
                    <a:pt x="3589" y="69"/>
                  </a:lnTo>
                  <a:lnTo>
                    <a:pt x="3667" y="70"/>
                  </a:lnTo>
                  <a:lnTo>
                    <a:pt x="3746" y="75"/>
                  </a:lnTo>
                  <a:lnTo>
                    <a:pt x="3821" y="75"/>
                  </a:lnTo>
                  <a:lnTo>
                    <a:pt x="3895" y="80"/>
                  </a:lnTo>
                  <a:lnTo>
                    <a:pt x="3968" y="88"/>
                  </a:lnTo>
                  <a:lnTo>
                    <a:pt x="4041" y="100"/>
                  </a:lnTo>
                  <a:lnTo>
                    <a:pt x="4112" y="115"/>
                  </a:lnTo>
                  <a:lnTo>
                    <a:pt x="4183" y="134"/>
                  </a:lnTo>
                  <a:lnTo>
                    <a:pt x="4320" y="181"/>
                  </a:lnTo>
                  <a:lnTo>
                    <a:pt x="4455" y="238"/>
                  </a:lnTo>
                  <a:lnTo>
                    <a:pt x="4588" y="302"/>
                  </a:lnTo>
                  <a:lnTo>
                    <a:pt x="4716" y="373"/>
                  </a:lnTo>
                  <a:lnTo>
                    <a:pt x="4843" y="448"/>
                  </a:lnTo>
                  <a:lnTo>
                    <a:pt x="4952" y="265"/>
                  </a:lnTo>
                </a:path>
              </a:pathLst>
            </a:custGeom>
            <a:solidFill>
              <a:srgbClr val="33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380520" y="3505320"/>
            <a:ext cx="686160" cy="1295280"/>
            <a:chOff x="380520" y="3505320"/>
            <a:chExt cx="686160" cy="1295280"/>
          </a:xfrm>
        </p:grpSpPr>
        <p:grpSp>
          <p:nvGrpSpPr>
            <p:cNvPr id="1436" name=""/>
            <p:cNvGrpSpPr/>
            <p:nvPr/>
          </p:nvGrpSpPr>
          <p:grpSpPr>
            <a:xfrm>
              <a:off x="380520" y="3505320"/>
              <a:ext cx="686160" cy="1295280"/>
              <a:chOff x="380520" y="3505320"/>
              <a:chExt cx="686160" cy="1295280"/>
            </a:xfrm>
          </p:grpSpPr>
          <p:sp>
            <p:nvSpPr>
              <p:cNvPr id="1437" name=""/>
              <p:cNvSpPr/>
              <p:nvPr/>
            </p:nvSpPr>
            <p:spPr>
              <a:xfrm>
                <a:off x="380880" y="35053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0880" y="35053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99240" y="47386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60400" y="40770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80520" y="37404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2" name=""/>
            <p:cNvSpPr/>
            <p:nvPr/>
          </p:nvSpPr>
          <p:spPr>
            <a:xfrm>
              <a:off x="790560" y="40334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1523520" y="3962520"/>
            <a:ext cx="686160" cy="1295280"/>
            <a:chOff x="1523520" y="3962520"/>
            <a:chExt cx="686160" cy="1295280"/>
          </a:xfrm>
        </p:grpSpPr>
        <p:grpSp>
          <p:nvGrpSpPr>
            <p:cNvPr id="1444" name=""/>
            <p:cNvGrpSpPr/>
            <p:nvPr/>
          </p:nvGrpSpPr>
          <p:grpSpPr>
            <a:xfrm>
              <a:off x="1523520" y="3962520"/>
              <a:ext cx="686160" cy="1295280"/>
              <a:chOff x="1523520" y="3962520"/>
              <a:chExt cx="686160" cy="1295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238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238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422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0034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15235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>
              <a:off x="19335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2514240" y="3962520"/>
            <a:ext cx="686160" cy="1295280"/>
            <a:chOff x="2514240" y="3962520"/>
            <a:chExt cx="686160" cy="1295280"/>
          </a:xfrm>
        </p:grpSpPr>
        <p:grpSp>
          <p:nvGrpSpPr>
            <p:cNvPr id="1452" name=""/>
            <p:cNvGrpSpPr/>
            <p:nvPr/>
          </p:nvGrpSpPr>
          <p:grpSpPr>
            <a:xfrm>
              <a:off x="2514240" y="3962520"/>
              <a:ext cx="686160" cy="1295280"/>
              <a:chOff x="2514240" y="3962520"/>
              <a:chExt cx="686160" cy="1295280"/>
            </a:xfrm>
          </p:grpSpPr>
          <p:sp>
            <p:nvSpPr>
              <p:cNvPr id="1453" name=""/>
              <p:cNvSpPr/>
              <p:nvPr/>
            </p:nvSpPr>
            <p:spPr>
              <a:xfrm>
                <a:off x="251460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1460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3296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99412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251424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>
              <a:off x="292428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504960" y="3962520"/>
            <a:ext cx="686160" cy="1295280"/>
            <a:chOff x="3504960" y="3962520"/>
            <a:chExt cx="686160" cy="1295280"/>
          </a:xfrm>
        </p:grpSpPr>
        <p:grpSp>
          <p:nvGrpSpPr>
            <p:cNvPr id="1460" name=""/>
            <p:cNvGrpSpPr/>
            <p:nvPr/>
          </p:nvGrpSpPr>
          <p:grpSpPr>
            <a:xfrm>
              <a:off x="3504960" y="3962520"/>
              <a:ext cx="686160" cy="1295280"/>
              <a:chOff x="3504960" y="3962520"/>
              <a:chExt cx="686160" cy="1295280"/>
            </a:xfrm>
          </p:grpSpPr>
          <p:sp>
            <p:nvSpPr>
              <p:cNvPr id="1461" name=""/>
              <p:cNvSpPr/>
              <p:nvPr/>
            </p:nvSpPr>
            <p:spPr>
              <a:xfrm>
                <a:off x="350532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50532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52368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98484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50496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391500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4495320" y="3962520"/>
            <a:ext cx="686160" cy="1295280"/>
            <a:chOff x="4495320" y="3962520"/>
            <a:chExt cx="686160" cy="1295280"/>
          </a:xfrm>
        </p:grpSpPr>
        <p:grpSp>
          <p:nvGrpSpPr>
            <p:cNvPr id="1468" name=""/>
            <p:cNvGrpSpPr/>
            <p:nvPr/>
          </p:nvGrpSpPr>
          <p:grpSpPr>
            <a:xfrm>
              <a:off x="4495320" y="3962520"/>
              <a:ext cx="686160" cy="1295280"/>
              <a:chOff x="4495320" y="3962520"/>
              <a:chExt cx="686160" cy="1295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44956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4956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5140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9752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44953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49053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409720" y="3962520"/>
            <a:ext cx="686160" cy="1295280"/>
            <a:chOff x="5409720" y="3962520"/>
            <a:chExt cx="686160" cy="1295280"/>
          </a:xfrm>
        </p:grpSpPr>
        <p:grpSp>
          <p:nvGrpSpPr>
            <p:cNvPr id="1476" name=""/>
            <p:cNvGrpSpPr/>
            <p:nvPr/>
          </p:nvGrpSpPr>
          <p:grpSpPr>
            <a:xfrm>
              <a:off x="5409720" y="3962520"/>
              <a:ext cx="686160" cy="1295280"/>
              <a:chOff x="5409720" y="3962520"/>
              <a:chExt cx="686160" cy="1295280"/>
            </a:xfrm>
          </p:grpSpPr>
          <p:sp>
            <p:nvSpPr>
              <p:cNvPr id="1477" name=""/>
              <p:cNvSpPr/>
              <p:nvPr/>
            </p:nvSpPr>
            <p:spPr>
              <a:xfrm>
                <a:off x="54100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4100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4284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896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54097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>
              <a:off x="58197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6324120" y="3962520"/>
            <a:ext cx="686160" cy="1295280"/>
            <a:chOff x="6324120" y="3962520"/>
            <a:chExt cx="686160" cy="1295280"/>
          </a:xfrm>
        </p:grpSpPr>
        <p:grpSp>
          <p:nvGrpSpPr>
            <p:cNvPr id="1484" name=""/>
            <p:cNvGrpSpPr/>
            <p:nvPr/>
          </p:nvGrpSpPr>
          <p:grpSpPr>
            <a:xfrm>
              <a:off x="6324120" y="3962520"/>
              <a:ext cx="686160" cy="1295280"/>
              <a:chOff x="6324120" y="3962520"/>
              <a:chExt cx="686160" cy="1295280"/>
            </a:xfrm>
          </p:grpSpPr>
          <p:sp>
            <p:nvSpPr>
              <p:cNvPr id="1485" name=""/>
              <p:cNvSpPr/>
              <p:nvPr/>
            </p:nvSpPr>
            <p:spPr>
              <a:xfrm>
                <a:off x="63244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3244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3428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8040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63241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67341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38520" y="3962520"/>
            <a:ext cx="686160" cy="1295280"/>
            <a:chOff x="7238520" y="3962520"/>
            <a:chExt cx="686160" cy="1295280"/>
          </a:xfrm>
        </p:grpSpPr>
        <p:grpSp>
          <p:nvGrpSpPr>
            <p:cNvPr id="1492" name=""/>
            <p:cNvGrpSpPr/>
            <p:nvPr/>
          </p:nvGrpSpPr>
          <p:grpSpPr>
            <a:xfrm>
              <a:off x="7238520" y="3962520"/>
              <a:ext cx="686160" cy="1295280"/>
              <a:chOff x="7238520" y="3962520"/>
              <a:chExt cx="686160" cy="1295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72388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2388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2572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7184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72385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"/>
            <p:cNvSpPr/>
            <p:nvPr/>
          </p:nvSpPr>
          <p:spPr>
            <a:xfrm>
              <a:off x="76485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8152920" y="3962520"/>
            <a:ext cx="686160" cy="1295280"/>
            <a:chOff x="8152920" y="3962520"/>
            <a:chExt cx="686160" cy="1295280"/>
          </a:xfrm>
        </p:grpSpPr>
        <p:grpSp>
          <p:nvGrpSpPr>
            <p:cNvPr id="1500" name=""/>
            <p:cNvGrpSpPr/>
            <p:nvPr/>
          </p:nvGrpSpPr>
          <p:grpSpPr>
            <a:xfrm>
              <a:off x="8152920" y="3962520"/>
              <a:ext cx="686160" cy="1295280"/>
              <a:chOff x="8152920" y="3962520"/>
              <a:chExt cx="686160" cy="1295280"/>
            </a:xfrm>
          </p:grpSpPr>
          <p:sp>
            <p:nvSpPr>
              <p:cNvPr id="1501" name=""/>
              <p:cNvSpPr/>
              <p:nvPr/>
            </p:nvSpPr>
            <p:spPr>
              <a:xfrm>
                <a:off x="81532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153280" y="396252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171640" y="519588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632800" y="453420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8152920" y="419760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6" name=""/>
            <p:cNvSpPr/>
            <p:nvPr/>
          </p:nvSpPr>
          <p:spPr>
            <a:xfrm>
              <a:off x="8562960" y="449064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456840" y="5029200"/>
            <a:ext cx="686160" cy="1295280"/>
            <a:chOff x="456840" y="5029200"/>
            <a:chExt cx="686160" cy="1295280"/>
          </a:xfrm>
        </p:grpSpPr>
        <p:grpSp>
          <p:nvGrpSpPr>
            <p:cNvPr id="1508" name=""/>
            <p:cNvGrpSpPr/>
            <p:nvPr/>
          </p:nvGrpSpPr>
          <p:grpSpPr>
            <a:xfrm>
              <a:off x="456840" y="5029200"/>
              <a:ext cx="686160" cy="1295280"/>
              <a:chOff x="456840" y="5029200"/>
              <a:chExt cx="686160" cy="1295280"/>
            </a:xfrm>
          </p:grpSpPr>
          <p:sp>
            <p:nvSpPr>
              <p:cNvPr id="1509" name=""/>
              <p:cNvSpPr/>
              <p:nvPr/>
            </p:nvSpPr>
            <p:spPr>
              <a:xfrm>
                <a:off x="457200" y="502920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57200" y="5029200"/>
                <a:ext cx="685800" cy="1295280"/>
              </a:xfrm>
              <a:custGeom>
                <a:avLst/>
                <a:gdLst/>
                <a:ahLst/>
                <a:rect l="l" t="t" r="r" b="b"/>
                <a:pathLst>
                  <a:path w="2887" h="5649">
                    <a:moveTo>
                      <a:pt x="78" y="5649"/>
                    </a:moveTo>
                    <a:lnTo>
                      <a:pt x="78" y="5379"/>
                    </a:lnTo>
                    <a:lnTo>
                      <a:pt x="0" y="5379"/>
                    </a:lnTo>
                    <a:lnTo>
                      <a:pt x="0" y="0"/>
                    </a:lnTo>
                    <a:lnTo>
                      <a:pt x="2887" y="0"/>
                    </a:lnTo>
                    <a:lnTo>
                      <a:pt x="2887" y="5379"/>
                    </a:lnTo>
                    <a:lnTo>
                      <a:pt x="2809" y="5379"/>
                    </a:lnTo>
                    <a:lnTo>
                      <a:pt x="2809" y="5649"/>
                    </a:lnTo>
                    <a:lnTo>
                      <a:pt x="2809" y="5646"/>
                    </a:lnTo>
                    <a:lnTo>
                      <a:pt x="2809" y="5647"/>
                    </a:lnTo>
                    <a:lnTo>
                      <a:pt x="2809" y="5649"/>
                    </a:lnTo>
                    <a:lnTo>
                      <a:pt x="78" y="564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75560" y="6262560"/>
                <a:ext cx="647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36720" y="5600880"/>
                <a:ext cx="167760" cy="39600"/>
              </a:xfrm>
              <a:custGeom>
                <a:avLst/>
                <a:gdLst/>
                <a:ahLst/>
                <a:rect l="l" t="t" r="r" b="b"/>
                <a:pathLst>
                  <a:path w="707" h="178">
                    <a:moveTo>
                      <a:pt x="0" y="174"/>
                    </a:moveTo>
                    <a:lnTo>
                      <a:pt x="0" y="0"/>
                    </a:lnTo>
                    <a:lnTo>
                      <a:pt x="707" y="0"/>
                    </a:lnTo>
                    <a:lnTo>
                      <a:pt x="707" y="178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456840" y="5264280"/>
                <a:ext cx="68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866880" y="5557320"/>
              <a:ext cx="1364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"/>
          <p:cNvGrpSpPr/>
          <p:nvPr/>
        </p:nvGrpSpPr>
        <p:grpSpPr>
          <a:xfrm>
            <a:off x="3809880" y="685800"/>
            <a:ext cx="2133360" cy="2209680"/>
            <a:chOff x="3809880" y="685800"/>
            <a:chExt cx="2133360" cy="2209680"/>
          </a:xfrm>
        </p:grpSpPr>
        <p:sp>
          <p:nvSpPr>
            <p:cNvPr id="1516" name=""/>
            <p:cNvSpPr/>
            <p:nvPr/>
          </p:nvSpPr>
          <p:spPr>
            <a:xfrm>
              <a:off x="4770360" y="161604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7" name="" descr=""/>
            <p:cNvPicPr/>
            <p:nvPr/>
          </p:nvPicPr>
          <p:blipFill>
            <a:blip r:embed="rId1"/>
            <a:srcRect l="50005" t="8712" r="20481" b="60837"/>
            <a:stretch/>
          </p:blipFill>
          <p:spPr>
            <a:xfrm>
              <a:off x="4647960" y="121896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3885840" y="68580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00240" y="167616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09880" y="213336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2895480" y="990720"/>
            <a:ext cx="2133360" cy="2209680"/>
            <a:chOff x="2895480" y="990720"/>
            <a:chExt cx="2133360" cy="2209680"/>
          </a:xfrm>
        </p:grpSpPr>
        <p:sp>
          <p:nvSpPr>
            <p:cNvPr id="1522" name=""/>
            <p:cNvSpPr/>
            <p:nvPr/>
          </p:nvSpPr>
          <p:spPr>
            <a:xfrm>
              <a:off x="3855960" y="192096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3" name="" descr=""/>
            <p:cNvPicPr/>
            <p:nvPr/>
          </p:nvPicPr>
          <p:blipFill>
            <a:blip r:embed="rId2"/>
            <a:srcRect l="50005" t="8712" r="20481" b="60837"/>
            <a:stretch/>
          </p:blipFill>
          <p:spPr>
            <a:xfrm>
              <a:off x="3733560" y="152388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4" name=""/>
            <p:cNvSpPr/>
            <p:nvPr/>
          </p:nvSpPr>
          <p:spPr>
            <a:xfrm>
              <a:off x="2971440" y="99072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85840" y="19810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95480" y="243828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2057400" y="1219320"/>
            <a:ext cx="2133360" cy="2209680"/>
            <a:chOff x="2057400" y="1219320"/>
            <a:chExt cx="2133360" cy="2209680"/>
          </a:xfrm>
        </p:grpSpPr>
        <p:sp>
          <p:nvSpPr>
            <p:cNvPr id="1528" name=""/>
            <p:cNvSpPr/>
            <p:nvPr/>
          </p:nvSpPr>
          <p:spPr>
            <a:xfrm>
              <a:off x="3017880" y="214956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9" name="" descr=""/>
            <p:cNvPicPr/>
            <p:nvPr/>
          </p:nvPicPr>
          <p:blipFill>
            <a:blip r:embed="rId3"/>
            <a:srcRect l="50005" t="8712" r="20481" b="60837"/>
            <a:stretch/>
          </p:blipFill>
          <p:spPr>
            <a:xfrm>
              <a:off x="2895480" y="175248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0" name=""/>
            <p:cNvSpPr/>
            <p:nvPr/>
          </p:nvSpPr>
          <p:spPr>
            <a:xfrm>
              <a:off x="2133360" y="121932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047760" y="22096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057400" y="266688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1143000" y="1371600"/>
            <a:ext cx="2133360" cy="2209680"/>
            <a:chOff x="1143000" y="1371600"/>
            <a:chExt cx="2133360" cy="2209680"/>
          </a:xfrm>
        </p:grpSpPr>
        <p:sp>
          <p:nvSpPr>
            <p:cNvPr id="1534" name=""/>
            <p:cNvSpPr/>
            <p:nvPr/>
          </p:nvSpPr>
          <p:spPr>
            <a:xfrm>
              <a:off x="2103480" y="230184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5" name="" descr=""/>
            <p:cNvPicPr/>
            <p:nvPr/>
          </p:nvPicPr>
          <p:blipFill>
            <a:blip r:embed="rId4"/>
            <a:srcRect l="50005" t="8712" r="20481" b="60837"/>
            <a:stretch/>
          </p:blipFill>
          <p:spPr>
            <a:xfrm>
              <a:off x="1981080" y="190476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1218960" y="137160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33360" y="236196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43000" y="281916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228600" y="1523880"/>
            <a:ext cx="2133360" cy="2209680"/>
            <a:chOff x="228600" y="1523880"/>
            <a:chExt cx="2133360" cy="2209680"/>
          </a:xfrm>
        </p:grpSpPr>
        <p:sp>
          <p:nvSpPr>
            <p:cNvPr id="1540" name=""/>
            <p:cNvSpPr/>
            <p:nvPr/>
          </p:nvSpPr>
          <p:spPr>
            <a:xfrm>
              <a:off x="1189080" y="245412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1" name="" descr=""/>
            <p:cNvPicPr/>
            <p:nvPr/>
          </p:nvPicPr>
          <p:blipFill>
            <a:blip r:embed="rId5"/>
            <a:srcRect l="50005" t="8712" r="20481" b="60837"/>
            <a:stretch/>
          </p:blipFill>
          <p:spPr>
            <a:xfrm>
              <a:off x="1066680" y="205704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"/>
            <p:cNvSpPr/>
            <p:nvPr/>
          </p:nvSpPr>
          <p:spPr>
            <a:xfrm>
              <a:off x="304560" y="152388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218960" y="25142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8600" y="297144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876920" y="533520"/>
            <a:ext cx="2133360" cy="2209680"/>
            <a:chOff x="4876920" y="533520"/>
            <a:chExt cx="2133360" cy="2209680"/>
          </a:xfrm>
        </p:grpSpPr>
        <p:sp>
          <p:nvSpPr>
            <p:cNvPr id="1546" name=""/>
            <p:cNvSpPr/>
            <p:nvPr/>
          </p:nvSpPr>
          <p:spPr>
            <a:xfrm>
              <a:off x="5837400" y="146376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7" name="" descr=""/>
            <p:cNvPicPr/>
            <p:nvPr/>
          </p:nvPicPr>
          <p:blipFill>
            <a:blip r:embed="rId6"/>
            <a:srcRect l="50005" t="8712" r="20481" b="60837"/>
            <a:stretch/>
          </p:blipFill>
          <p:spPr>
            <a:xfrm>
              <a:off x="5715000" y="106668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"/>
            <p:cNvSpPr/>
            <p:nvPr/>
          </p:nvSpPr>
          <p:spPr>
            <a:xfrm>
              <a:off x="4952880" y="53352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67280" y="15238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876920" y="198108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3809880" y="2133720"/>
            <a:ext cx="2133360" cy="2209680"/>
            <a:chOff x="3809880" y="2133720"/>
            <a:chExt cx="2133360" cy="2209680"/>
          </a:xfrm>
        </p:grpSpPr>
        <p:sp>
          <p:nvSpPr>
            <p:cNvPr id="1552" name=""/>
            <p:cNvSpPr/>
            <p:nvPr/>
          </p:nvSpPr>
          <p:spPr>
            <a:xfrm>
              <a:off x="4770360" y="306396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3" name="" descr=""/>
            <p:cNvPicPr/>
            <p:nvPr/>
          </p:nvPicPr>
          <p:blipFill>
            <a:blip r:embed="rId7"/>
            <a:srcRect l="50005" t="8712" r="20481" b="60837"/>
            <a:stretch/>
          </p:blipFill>
          <p:spPr>
            <a:xfrm>
              <a:off x="4647960" y="266688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3885840" y="213372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00240" y="31240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09880" y="358128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2895480" y="2438280"/>
            <a:ext cx="2133360" cy="2209680"/>
            <a:chOff x="2895480" y="2438280"/>
            <a:chExt cx="2133360" cy="2209680"/>
          </a:xfrm>
        </p:grpSpPr>
        <p:sp>
          <p:nvSpPr>
            <p:cNvPr id="1558" name=""/>
            <p:cNvSpPr/>
            <p:nvPr/>
          </p:nvSpPr>
          <p:spPr>
            <a:xfrm>
              <a:off x="3855960" y="336852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9" name="" descr=""/>
            <p:cNvPicPr/>
            <p:nvPr/>
          </p:nvPicPr>
          <p:blipFill>
            <a:blip r:embed="rId8"/>
            <a:srcRect l="50005" t="8712" r="20481" b="60837"/>
            <a:stretch/>
          </p:blipFill>
          <p:spPr>
            <a:xfrm>
              <a:off x="3733560" y="297144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"/>
            <p:cNvSpPr/>
            <p:nvPr/>
          </p:nvSpPr>
          <p:spPr>
            <a:xfrm>
              <a:off x="2971440" y="243828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85840" y="34286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5480" y="388584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2057400" y="2666880"/>
            <a:ext cx="2133360" cy="2209680"/>
            <a:chOff x="2057400" y="2666880"/>
            <a:chExt cx="2133360" cy="2209680"/>
          </a:xfrm>
        </p:grpSpPr>
        <p:sp>
          <p:nvSpPr>
            <p:cNvPr id="1564" name=""/>
            <p:cNvSpPr/>
            <p:nvPr/>
          </p:nvSpPr>
          <p:spPr>
            <a:xfrm>
              <a:off x="3017880" y="359712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5" name="" descr=""/>
            <p:cNvPicPr/>
            <p:nvPr/>
          </p:nvPicPr>
          <p:blipFill>
            <a:blip r:embed="rId9"/>
            <a:srcRect l="50005" t="8712" r="20481" b="60837"/>
            <a:stretch/>
          </p:blipFill>
          <p:spPr>
            <a:xfrm>
              <a:off x="2895480" y="320004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"/>
            <p:cNvSpPr/>
            <p:nvPr/>
          </p:nvSpPr>
          <p:spPr>
            <a:xfrm>
              <a:off x="2133360" y="266688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047760" y="36572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057400" y="411444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43000" y="2819520"/>
            <a:ext cx="2133360" cy="2209680"/>
            <a:chOff x="1143000" y="2819520"/>
            <a:chExt cx="2133360" cy="2209680"/>
          </a:xfrm>
        </p:grpSpPr>
        <p:sp>
          <p:nvSpPr>
            <p:cNvPr id="1570" name=""/>
            <p:cNvSpPr/>
            <p:nvPr/>
          </p:nvSpPr>
          <p:spPr>
            <a:xfrm>
              <a:off x="2103480" y="374976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1" name="" descr=""/>
            <p:cNvPicPr/>
            <p:nvPr/>
          </p:nvPicPr>
          <p:blipFill>
            <a:blip r:embed="rId10"/>
            <a:srcRect l="50005" t="8712" r="20481" b="60837"/>
            <a:stretch/>
          </p:blipFill>
          <p:spPr>
            <a:xfrm>
              <a:off x="1981080" y="335268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>
              <a:off x="1218960" y="281952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33360" y="380988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143000" y="426708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4876920" y="1981080"/>
            <a:ext cx="2133360" cy="2209680"/>
            <a:chOff x="4876920" y="1981080"/>
            <a:chExt cx="2133360" cy="2209680"/>
          </a:xfrm>
        </p:grpSpPr>
        <p:sp>
          <p:nvSpPr>
            <p:cNvPr id="1576" name=""/>
            <p:cNvSpPr/>
            <p:nvPr/>
          </p:nvSpPr>
          <p:spPr>
            <a:xfrm>
              <a:off x="5837400" y="2911320"/>
              <a:ext cx="203040" cy="17604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109" y="148"/>
                  </a:moveTo>
                  <a:lnTo>
                    <a:pt x="138" y="157"/>
                  </a:lnTo>
                  <a:lnTo>
                    <a:pt x="168" y="163"/>
                  </a:lnTo>
                  <a:lnTo>
                    <a:pt x="199" y="165"/>
                  </a:lnTo>
                  <a:lnTo>
                    <a:pt x="228" y="161"/>
                  </a:lnTo>
                  <a:lnTo>
                    <a:pt x="251" y="144"/>
                  </a:lnTo>
                  <a:lnTo>
                    <a:pt x="277" y="135"/>
                  </a:lnTo>
                  <a:lnTo>
                    <a:pt x="305" y="132"/>
                  </a:lnTo>
                  <a:lnTo>
                    <a:pt x="333" y="137"/>
                  </a:lnTo>
                  <a:lnTo>
                    <a:pt x="355" y="153"/>
                  </a:lnTo>
                  <a:lnTo>
                    <a:pt x="368" y="173"/>
                  </a:lnTo>
                  <a:lnTo>
                    <a:pt x="384" y="221"/>
                  </a:lnTo>
                  <a:lnTo>
                    <a:pt x="374" y="252"/>
                  </a:lnTo>
                  <a:lnTo>
                    <a:pt x="361" y="282"/>
                  </a:lnTo>
                  <a:lnTo>
                    <a:pt x="342" y="308"/>
                  </a:lnTo>
                  <a:lnTo>
                    <a:pt x="312" y="325"/>
                  </a:lnTo>
                  <a:lnTo>
                    <a:pt x="252" y="331"/>
                  </a:lnTo>
                  <a:lnTo>
                    <a:pt x="191" y="332"/>
                  </a:lnTo>
                  <a:lnTo>
                    <a:pt x="131" y="326"/>
                  </a:lnTo>
                  <a:lnTo>
                    <a:pt x="75" y="307"/>
                  </a:lnTo>
                  <a:lnTo>
                    <a:pt x="45" y="277"/>
                  </a:lnTo>
                  <a:lnTo>
                    <a:pt x="23" y="242"/>
                  </a:lnTo>
                  <a:lnTo>
                    <a:pt x="9" y="205"/>
                  </a:lnTo>
                  <a:lnTo>
                    <a:pt x="1" y="165"/>
                  </a:lnTo>
                  <a:lnTo>
                    <a:pt x="0" y="124"/>
                  </a:lnTo>
                  <a:lnTo>
                    <a:pt x="4" y="82"/>
                  </a:lnTo>
                  <a:lnTo>
                    <a:pt x="12" y="40"/>
                  </a:lnTo>
                  <a:lnTo>
                    <a:pt x="23" y="0"/>
                  </a:lnTo>
                  <a:lnTo>
                    <a:pt x="31" y="42"/>
                  </a:lnTo>
                  <a:lnTo>
                    <a:pt x="47" y="83"/>
                  </a:lnTo>
                  <a:lnTo>
                    <a:pt x="73" y="120"/>
                  </a:lnTo>
                  <a:lnTo>
                    <a:pt x="109" y="148"/>
                  </a:lnTo>
                  <a:close/>
                </a:path>
              </a:pathLst>
            </a:custGeom>
            <a:solidFill>
              <a:srgbClr val="f4f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7" name="" descr=""/>
            <p:cNvPicPr/>
            <p:nvPr/>
          </p:nvPicPr>
          <p:blipFill>
            <a:blip r:embed="rId11"/>
            <a:srcRect l="50005" t="8712" r="20481" b="60837"/>
            <a:stretch/>
          </p:blipFill>
          <p:spPr>
            <a:xfrm>
              <a:off x="5715000" y="2514240"/>
              <a:ext cx="990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"/>
            <p:cNvSpPr/>
            <p:nvPr/>
          </p:nvSpPr>
          <p:spPr>
            <a:xfrm>
              <a:off x="4952880" y="1981080"/>
              <a:ext cx="10670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867280" y="29714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876920" y="3428640"/>
              <a:ext cx="1447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1" name="" descr=""/>
          <p:cNvPicPr/>
          <p:nvPr/>
        </p:nvPicPr>
        <p:blipFill>
          <a:blip r:embed="rId12"/>
          <a:stretch/>
        </p:blipFill>
        <p:spPr>
          <a:xfrm>
            <a:off x="5867280" y="365760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13"/>
          <a:stretch/>
        </p:blipFill>
        <p:spPr>
          <a:xfrm>
            <a:off x="4114800" y="411480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14"/>
          <a:stretch/>
        </p:blipFill>
        <p:spPr>
          <a:xfrm>
            <a:off x="2362320" y="457200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15"/>
          <a:stretch/>
        </p:blipFill>
        <p:spPr>
          <a:xfrm>
            <a:off x="609480" y="502920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16"/>
          <a:stretch/>
        </p:blipFill>
        <p:spPr>
          <a:xfrm>
            <a:off x="152280" y="3581280"/>
            <a:ext cx="1495440" cy="102096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17"/>
          <a:stretch/>
        </p:blipFill>
        <p:spPr>
          <a:xfrm>
            <a:off x="7010280" y="213372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7" name="" descr=""/>
          <p:cNvPicPr/>
          <p:nvPr/>
        </p:nvPicPr>
        <p:blipFill>
          <a:blip r:embed="rId18"/>
          <a:stretch/>
        </p:blipFill>
        <p:spPr>
          <a:xfrm>
            <a:off x="6781680" y="76212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88" name="" descr=""/>
          <p:cNvPicPr/>
          <p:nvPr/>
        </p:nvPicPr>
        <p:blipFill>
          <a:blip r:embed="rId19"/>
          <a:stretch/>
        </p:blipFill>
        <p:spPr>
          <a:xfrm>
            <a:off x="609480" y="838080"/>
            <a:ext cx="1495440" cy="1020960"/>
          </a:xfrm>
          <a:prstGeom prst="rect">
            <a:avLst/>
          </a:prstGeom>
          <a:ln w="0">
            <a:noFill/>
          </a:ln>
        </p:spPr>
      </p:pic>
      <p:pic>
        <p:nvPicPr>
          <p:cNvPr id="1589" name="" descr=""/>
          <p:cNvPicPr/>
          <p:nvPr/>
        </p:nvPicPr>
        <p:blipFill>
          <a:blip r:embed="rId20"/>
          <a:stretch/>
        </p:blipFill>
        <p:spPr>
          <a:xfrm>
            <a:off x="2590920" y="380880"/>
            <a:ext cx="1495440" cy="102096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21"/>
          <a:stretch/>
        </p:blipFill>
        <p:spPr>
          <a:xfrm>
            <a:off x="4495680" y="5334120"/>
            <a:ext cx="1495440" cy="1020600"/>
          </a:xfrm>
          <a:prstGeom prst="rect">
            <a:avLst/>
          </a:prstGeom>
          <a:ln w="0">
            <a:noFill/>
          </a:ln>
        </p:spPr>
      </p:pic>
      <p:pic>
        <p:nvPicPr>
          <p:cNvPr id="1591" name="" descr=""/>
          <p:cNvPicPr/>
          <p:nvPr/>
        </p:nvPicPr>
        <p:blipFill>
          <a:blip r:embed="rId22"/>
          <a:stretch/>
        </p:blipFill>
        <p:spPr>
          <a:xfrm>
            <a:off x="6781680" y="5257800"/>
            <a:ext cx="14954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8:06:25Z</dcterms:created>
  <dc:creator> Alexander Nuding</dc:creator>
  <dc:description/>
  <dc:language>en-US</dc:language>
  <cp:lastModifiedBy> Alexander Nuding</cp:lastModifiedBy>
  <dcterms:modified xsi:type="dcterms:W3CDTF">2002-07-23T19:07:55Z</dcterms:modified>
  <cp:revision>5</cp:revision>
  <dc:subject/>
  <dc:title>PowerPoint-Präsentation</dc:title>
</cp:coreProperties>
</file>