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42D-ED4A-425F-B01B-91EBF876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F74-D8AB-49D2-AE41-B9844B4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B83-D6D1-4A7B-AF0A-78B2923E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C4A-578C-44B0-AB65-28056B5B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8F2-CB61-4995-AA19-8B7506FC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5F0-4747-4256-A00F-2B4F4C4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12E-D7C2-490D-914B-BB494210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6C-5319-4ED5-BEBD-A82BDECE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251-1C48-4D14-826D-B917EB6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BAF-70C8-4E9D-8AED-91A7822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AE4-B67D-42CC-B162-D8686B6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959-D183-42B3-9BB0-85A1F05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C8FE-454B-4971-B3BB-C287B5A6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3276720" cy="4284000"/>
            <a:chOff x="0" y="0"/>
            <a:chExt cx="3276720" cy="4284000"/>
          </a:xfrm>
        </p:grpSpPr>
        <p:sp>
          <p:nvSpPr>
            <p:cNvPr id="42" name=""/>
            <p:cNvSpPr/>
            <p:nvPr/>
          </p:nvSpPr>
          <p:spPr>
            <a:xfrm>
              <a:off x="0" y="3200400"/>
              <a:ext cx="31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Beste Bezahlung, Gewinnbeteilig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Werkswohnung und Firmenpfe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514600" y="350532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2640" y="2919240"/>
              <a:ext cx="275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man Old Style"/>
                </a:rPr>
                <a:t>Zur Nevada Gold-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Mine" descr=""/>
            <p:cNvPicPr/>
            <p:nvPr/>
          </p:nvPicPr>
          <p:blipFill>
            <a:blip r:embed="rId2"/>
            <a:stretch/>
          </p:blipFill>
          <p:spPr>
            <a:xfrm>
              <a:off x="152280" y="762120"/>
              <a:ext cx="25909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06200" y="0"/>
              <a:ext cx="25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e wollen schn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cher reich werde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920" y="53352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mmen Sie zu u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581280"/>
              <a:ext cx="32767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Telegraph: Jack Gierig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Wüstenstr. 16, 1792 Nev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Bookman Old Style"/>
                </a:rPr>
                <a:t>WWW. Nevada Gold-Compan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581280" y="0"/>
            <a:ext cx="3276720" cy="4284000"/>
            <a:chOff x="3581280" y="0"/>
            <a:chExt cx="3276720" cy="4284000"/>
          </a:xfrm>
        </p:grpSpPr>
        <p:sp>
          <p:nvSpPr>
            <p:cNvPr id="50" name=""/>
            <p:cNvSpPr/>
            <p:nvPr/>
          </p:nvSpPr>
          <p:spPr>
            <a:xfrm>
              <a:off x="3581280" y="3200400"/>
              <a:ext cx="31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Beste Bezahlung, Gewinnbeteilig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Werkswohnung und Firmenpfe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095880" y="350532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43920" y="2919240"/>
              <a:ext cx="275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man Old Style"/>
                </a:rPr>
                <a:t>Zur Nevada Gold-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Mine" descr=""/>
            <p:cNvPicPr/>
            <p:nvPr/>
          </p:nvPicPr>
          <p:blipFill>
            <a:blip r:embed="rId4"/>
            <a:stretch/>
          </p:blipFill>
          <p:spPr>
            <a:xfrm>
              <a:off x="3733560" y="762120"/>
              <a:ext cx="25909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687480" y="0"/>
              <a:ext cx="25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e wollen schn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cher reich werde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70200" y="53352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mmen Sie zu u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581280"/>
              <a:ext cx="32767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Telegraph: Jack Gierig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Wüstenstr. 16, 1792 Nev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Bookman Old Style"/>
                </a:rPr>
                <a:t>WWW. Nevada Gold-Compan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0" y="5624640"/>
            <a:ext cx="3276720" cy="4284000"/>
            <a:chOff x="0" y="5624640"/>
            <a:chExt cx="3276720" cy="4284000"/>
          </a:xfrm>
        </p:grpSpPr>
        <p:sp>
          <p:nvSpPr>
            <p:cNvPr id="58" name=""/>
            <p:cNvSpPr/>
            <p:nvPr/>
          </p:nvSpPr>
          <p:spPr>
            <a:xfrm>
              <a:off x="0" y="8825040"/>
              <a:ext cx="31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Beste Bezahlung, Gewinnbeteilig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Werkswohnung und Firmenpfe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514600" y="912996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2640" y="8543880"/>
              <a:ext cx="275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man Old Style"/>
                </a:rPr>
                <a:t>Zur Nevada Gold-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Mine" descr=""/>
            <p:cNvPicPr/>
            <p:nvPr/>
          </p:nvPicPr>
          <p:blipFill>
            <a:blip r:embed="rId6"/>
            <a:stretch/>
          </p:blipFill>
          <p:spPr>
            <a:xfrm>
              <a:off x="152280" y="6386760"/>
              <a:ext cx="25909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06200" y="5624640"/>
              <a:ext cx="25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e wollen schn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cher reich werde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920" y="615816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mmen Sie zu u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205920"/>
              <a:ext cx="32767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Telegraph: Jack Gierig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Wüstenstr. 16, 1792 Nev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Bookman Old Style"/>
                </a:rPr>
                <a:t>WWW. Nevada Gold-Compan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81280" y="5624640"/>
            <a:ext cx="3276720" cy="4284000"/>
            <a:chOff x="3581280" y="5624640"/>
            <a:chExt cx="3276720" cy="4284000"/>
          </a:xfrm>
        </p:grpSpPr>
        <p:sp>
          <p:nvSpPr>
            <p:cNvPr id="66" name=""/>
            <p:cNvSpPr/>
            <p:nvPr/>
          </p:nvSpPr>
          <p:spPr>
            <a:xfrm>
              <a:off x="3581280" y="8825040"/>
              <a:ext cx="312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Beste Bezahlung, Gewinnbeteiligung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 Old Style"/>
                </a:rPr>
                <a:t>Werkswohnung und Firmenpfe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6095880" y="912996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643920" y="8543880"/>
              <a:ext cx="275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man Old Style"/>
                </a:rPr>
                <a:t>Zur Nevada Gold-Comp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Mine" descr=""/>
            <p:cNvPicPr/>
            <p:nvPr/>
          </p:nvPicPr>
          <p:blipFill>
            <a:blip r:embed="rId8"/>
            <a:stretch/>
          </p:blipFill>
          <p:spPr>
            <a:xfrm>
              <a:off x="3733560" y="6386760"/>
              <a:ext cx="25909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87480" y="5624640"/>
              <a:ext cx="25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e wollen schn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sicher reich werde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200" y="6158160"/>
              <a:ext cx="24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Kommen Sie zu u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9205920"/>
              <a:ext cx="32767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Telegraph: Jack Gierig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Bookman Old Style"/>
                </a:rPr>
                <a:t>Wüstenstr. 16, 1792 Nev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Bookman Old Style"/>
                </a:rPr>
                <a:t>WWW. Nevada Gold-Compan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0:36:24Z</dcterms:created>
  <dc:creator>MR</dc:creator>
  <dc:description/>
  <dc:language>en-US</dc:language>
  <cp:lastModifiedBy>MR</cp:lastModifiedBy>
  <dcterms:modified xsi:type="dcterms:W3CDTF">2000-07-24T15:42:27Z</dcterms:modified>
  <cp:revision>4</cp:revision>
  <dc:subject/>
  <dc:title>PowerPoint-Präsentation</dc:title>
</cp:coreProperties>
</file>