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7654-16C6-4697-909B-D33BFB80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589-D71C-4DBF-814B-39EB6E19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80C-69A3-4B8A-ACE3-40A964FB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A511-0148-42D7-BBF7-3A1EA86B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E938-7F21-47FB-A6DD-217BCB31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FC08-B6E9-4144-A29B-42D0D387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1EAC-946D-483E-AE00-B1ACA368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9F8-5237-4AC1-A847-85BC62E4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EC4-01E2-4855-B988-3BDDC2E4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EDDA-738D-4EA1-96B8-013A61AB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8C2-DF5B-4D36-9796-FBA98229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9D3-EC47-4F27-8902-2776C150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B292-620B-47A0-B423-3C3C94731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6224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1952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819520" y="0"/>
            <a:ext cx="2590560" cy="195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2590920" cy="1952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2286000"/>
            <a:ext cx="2590920" cy="1952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95480" y="2286000"/>
            <a:ext cx="2590920" cy="1952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5867280" y="2286000"/>
            <a:ext cx="2590920" cy="1952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4648320"/>
            <a:ext cx="2590920" cy="19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2819520" y="4648320"/>
            <a:ext cx="2590560" cy="1952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0" y="4648320"/>
            <a:ext cx="25909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0:38:37Z</dcterms:created>
  <dc:creator>MR</dc:creator>
  <dc:description/>
  <dc:language>en-US</dc:language>
  <cp:lastModifiedBy>MR</cp:lastModifiedBy>
  <dcterms:modified xsi:type="dcterms:W3CDTF">2000-07-24T10:42:13Z</dcterms:modified>
  <cp:revision>1</cp:revision>
  <dc:subject/>
  <dc:title>PowerPoint-Präsentation</dc:title>
</cp:coreProperties>
</file>